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996F-1990-45EF-B6F5-7A52EDE6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CD8-EB66-410A-AF26-58C3E10F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A662-E20C-4F85-95FE-96460F9A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FA98-F7B3-44B4-B52D-BA91D170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9728-E355-4FA9-B7E2-CD2CEBD8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7B53-80B5-4AA2-A98A-A314C572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0975-9572-44C2-897D-07723E53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3DFA-087B-44E1-AA7B-4CADABC3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06E2-E0F8-43DF-B7A6-46343226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3669-791F-4961-BF61-3734DCB8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6B9B-4B36-432A-8B1E-07E290D6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EB35-737B-4D5C-AE14-885ED597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9084-10BC-43FF-9220-ADF18B5A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9FD1-2648-4379-8D38-BB7DCFA0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67FA-1E18-42D7-B18F-872B5AA9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38EE-1E3A-4450-9A34-E4D84489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5400-C88A-40FE-AA60-231F9B42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83292-4CF5-4700-8EA0-0630E30D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2AB60-D1DB-4A0D-A0E3-FB0E6C81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1BF12-9806-4374-865C-2C247610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66A0A-1636-41BB-B591-740AAB7A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EA9B2-34EA-4B3C-933E-46DEC5AB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0F3-A7AC-428B-A9C6-1E278B2E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E48B5-4EB1-4EB0-B8C7-44A63A6B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2D523-4105-4483-B034-A0E2F019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30F8B-38E4-4D84-AB41-C59BCFDB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BDCD4-2BA5-475A-8C2E-CF5C3EEA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339C6-6A40-4DBE-B88F-9BECCB04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A6DA8-6484-4530-8528-B80E7D22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811A0-BE82-49B9-B73A-D33296F5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8B444-2540-4CD6-BE9E-ED726C8E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20F5D-A09B-4A20-BE69-26E93C78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9D2E6-CEF4-4AA1-91A8-B7ABA7D3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A650-0604-4E2D-9D44-1E9C8CFF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E65EC-F124-4489-9CC5-1992A8C8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B915B-2D76-4FC8-8250-D2992773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30A6F-80AB-4864-9E70-D56B3622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9AF6E-90E8-46A6-9BB5-B219E129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24E2F-ACBF-4DBD-AC69-C05BDC93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E50CC-9B6D-4F39-8C75-75C6DC25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69AA4-E845-49F5-AA7E-1F007C4D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7806C-792A-48C4-8E11-7544C071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AA989-BF72-4A96-9F70-1165745F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8686F-D702-4526-B88E-4EF57B9C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732C-53E3-47AE-A94B-4DBF9A57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70E13-9700-46D6-A4F0-3C630242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7D131-6CDD-45F9-9BB5-FE397C34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3D712-782B-47BA-8964-F81BB171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F9C8E-CBE4-4622-92FF-F60969D3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1379F-3FD3-4ABE-AEB4-3CB2291E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95DB6-B823-43C1-96E6-A617B3DB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47C3B-9134-41C7-8DDF-9B24EBA9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2CB1E-01F2-463E-924E-2F42B0F4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AF93D-F97A-4063-B949-6A78A626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D3872-8B8A-4B7E-8CB3-6A9F5EDE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666E-34A4-4509-A10E-7085154A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B97F3-FEAE-431D-BE06-D3E061A1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9822F-FB43-4AB7-91B0-4D4206B3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B2AED-2838-4B61-BDA3-A1ACB922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83488-2047-4AA7-A48C-8ADDD1F7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76EDF-BA7F-4205-9F8F-3D1D8E27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698E1-DE2A-450B-BFB2-CF47A65B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6D2D2-540D-470C-8A77-D074E2B2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547BF-EDF2-41DB-B54B-CFFFF09A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740DB-E996-48E2-B402-FD5FDB6C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F9AEF-B68F-4A25-9AC6-1C5AE458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83C8-38C1-4587-81D5-A718B5B5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EDCCC-31F0-41C4-B374-BE36F8E3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76B9B-C617-47D9-B064-5B5F5107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2E874-C24D-425B-A68F-57A3C914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74724-FE0A-4950-87A6-B669363D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C1003-BB7F-4354-9ADA-2EF8790B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D719A-2094-4C19-8906-BF829200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08614-6664-4624-A91D-691A75B7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EB688-3595-4567-AAF0-68C6F8D3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E6D2D-C402-4751-B101-31EDE921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5C5DB-5B96-445D-9569-39C8C833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CAD9-AC86-4220-946F-964C0787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7809C-2738-4102-9921-3D480923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430CF-BC9E-4551-8F08-984A54C4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BC46C-6452-44F3-95C9-F1A881B8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E80BE-8494-40E1-BB3F-3CB7A4AE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31F2A-441E-4332-A988-CCBE35A7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9DC-4744-4B0E-B8F9-A349876C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D5DD-76C9-4EC1-8131-554036DC9ED9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0792-C192-447E-9788-CAC9F6275984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0F94-14F2-4901-A9BC-B60B20A9BF8E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A1F3-1E2B-4BB6-BBF9-69608D3C003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CCCF-E889-4CD7-AD1E-D6D9D9EAE92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FDE3-FEA4-4C00-8065-B5B228AF00E3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44D2-FB8F-4479-AC4A-CE396CCAFA40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428840" y="1785960"/>
            <a:ext cx="7407360" cy="2571840"/>
          </a:xfrm>
          <a:prstGeom prst="rect">
            <a:avLst/>
          </a:prstGeom>
          <a:solidFill>
            <a:srgbClr val="8e2f00"/>
          </a:solidFill>
          <a:ln w="0">
            <a:noFill/>
          </a:ln>
        </p:spPr>
        <p:txBody>
          <a:bodyPr tIns="0" anchor="ctr" anchorCtr="1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 MT"/>
              </a:rPr>
              <a:t>LITERATURE REVIEW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00080" y="131760"/>
            <a:ext cx="8143920" cy="868320"/>
          </a:xfrm>
          <a:prstGeom prst="rect">
            <a:avLst/>
          </a:prstGeom>
          <a:solidFill>
            <a:srgbClr val="3b1d15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accab"/>
                </a:solidFill>
                <a:latin typeface="Gill Sans MT"/>
              </a:rPr>
              <a:t>A good literature review is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Content Placeholder 2"/>
          <p:cNvSpPr/>
          <p:nvPr/>
        </p:nvSpPr>
        <p:spPr>
          <a:xfrm>
            <a:off x="1000080" y="1143000"/>
            <a:ext cx="8143920" cy="5572080"/>
          </a:xfrm>
          <a:prstGeom prst="rect">
            <a:avLst/>
          </a:prstGeom>
          <a:solidFill>
            <a:srgbClr val="e7dec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2223"/>
                </a:solidFill>
                <a:latin typeface="Arial"/>
              </a:rPr>
              <a:t>critical of what has been writt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2223"/>
                </a:solidFill>
                <a:latin typeface="Arial"/>
              </a:rPr>
              <a:t>it identifies areas of controvers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2223"/>
                </a:solidFill>
                <a:latin typeface="Arial"/>
              </a:rPr>
              <a:t>raises questions and identifies areas which need further resear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00080" y="999720"/>
            <a:ext cx="8143920" cy="5715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The IR4W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Identify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cord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levanc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triev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view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9222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Writ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000080" y="1000080"/>
            <a:ext cx="8143920" cy="5572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800000"/>
                </a:solidFill>
                <a:latin typeface="Gill Sans MT"/>
              </a:rPr>
              <a:t>Stage 1</a:t>
            </a:r>
            <a:r>
              <a:rPr b="1" lang="en-US" sz="3900" spc="-1" strike="noStrike">
                <a:solidFill>
                  <a:srgbClr val="800000"/>
                </a:solidFill>
                <a:latin typeface="Gill Sans MT"/>
              </a:rPr>
              <a:t> – Identify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ompile a list of reference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se a kind of index system either a hard copy or a software referencing system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ork through key catalogues, databases, indexes, bibliographies and websites for relevant resourc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heck the references and in the articles you have read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Locate and use research reviews, most journals have a section on review of articles, it is essential you see what other people think about these articles as they be from a previous research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000080" y="1214280"/>
            <a:ext cx="8143920" cy="450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 2 - Record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e17b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ke a record of any literature that  relates to your topic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e17b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should have citation details and where it is locate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e17b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should also write a few sentences that help you remember what the article is abou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000080" y="1143000"/>
            <a:ext cx="8143920" cy="4643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3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– Relevanc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ioritize the literature, after having read the abstract, rank them if it should be high, medium or low priorit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 the website scan through the literature for relevance before you decide to download or print it ou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000080" y="1071720"/>
            <a:ext cx="8143920" cy="53575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3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– Relevanc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need to focus on the literature and sources you have identified and ranked as most important,  the most recent development from the periodica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stinguish between textbooks, research articles from journals and books. They contain different kinds of information that will be more or less relevant to your researc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000080" y="1447920"/>
            <a:ext cx="8143920" cy="36957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4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- Retriev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ke hard copies of the most important literature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int relevant journal articles from databases and  photocopy articles from journ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00080" y="214200"/>
            <a:ext cx="8143920" cy="8575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000080" y="1143000"/>
            <a:ext cx="8143920" cy="5500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5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– Review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se the reading log which allows you to record different kinds of information: the bibliographic details, a description, and relationship to other reading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lso record where the literature is located so that you can easily refer to the quotes or ideas paraphrased when you are editing. 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s you are taking notes, ensure that you are clear about what you are quoting and paraphrasing. You cannot risk unintentionally plagiarizing idea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71280"/>
            <a:ext cx="8143920" cy="8575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000080" y="1213920"/>
            <a:ext cx="8143920" cy="4357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Gill Sans MT"/>
              </a:rPr>
              <a:t>Stage 6 </a:t>
            </a:r>
            <a:r>
              <a:rPr b="1" lang="en-US" sz="3600" spc="-1" strike="noStrike">
                <a:solidFill>
                  <a:srgbClr val="800000"/>
                </a:solidFill>
                <a:latin typeface="Gill Sans MT"/>
              </a:rPr>
              <a:t>- Writ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rt with an introductory paragraph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scuss the literature on the subject in a logical and coherent w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clude with a paragraph that is relevant to the literature of the research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8143920" cy="85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cess of Writing a Literature Review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Content Placeholder 2"/>
          <p:cNvSpPr/>
          <p:nvPr/>
        </p:nvSpPr>
        <p:spPr>
          <a:xfrm>
            <a:off x="1000080" y="1143000"/>
            <a:ext cx="8143920" cy="5572080"/>
          </a:xfrm>
          <a:prstGeom prst="rect">
            <a:avLst/>
          </a:prstGeom>
          <a:solidFill>
            <a:srgbClr val="f5d3d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Decide the subheadings for your literature re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Always refer to your objectives and research questions when you want to decide on the subhead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Make sure subheadings are relevant and able to describe your research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Discuss on where you are going to get the reading materials from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MY" sz="3200" spc="-1" strike="noStrike">
                <a:solidFill>
                  <a:srgbClr val="800000"/>
                </a:solidFill>
                <a:latin typeface="Gill Sans MT"/>
              </a:rPr>
              <a:t>Delegate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8143920" cy="857160"/>
          </a:xfrm>
          <a:prstGeom prst="rect">
            <a:avLst/>
          </a:prstGeom>
          <a:solidFill>
            <a:srgbClr val="611617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ccc3"/>
                </a:solidFill>
                <a:latin typeface="Gill Sans MT"/>
              </a:rPr>
              <a:t>Now, get into your groups…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720200" cy="1071720"/>
          </a:xfrm>
          <a:prstGeom prst="rect">
            <a:avLst/>
          </a:prstGeom>
          <a:noFill/>
          <a:ln w="38160">
            <a:solidFill>
              <a:srgbClr val="713204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300" spc="-1" strike="noStrike">
                <a:solidFill>
                  <a:srgbClr val="572314"/>
                </a:solidFill>
                <a:latin typeface="Gill Sans MT"/>
              </a:rPr>
              <a:t>What is a “Literature Review”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1214280" y="1571760"/>
            <a:ext cx="7715520" cy="5114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literature review is an overview of research on a given topic and answers to related research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terature review is an important part of research and should be treated as su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well-written literature revie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9222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2223"/>
                </a:solidFill>
                <a:uFillTx/>
                <a:latin typeface="Gill Sans MT"/>
                <a:ea typeface="Arial"/>
              </a:rPr>
              <a:t>Organizes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9222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2223"/>
                </a:solidFill>
                <a:uFillTx/>
                <a:latin typeface="Gill Sans MT"/>
                <a:ea typeface="Arial"/>
              </a:rPr>
              <a:t>Evaluates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9222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2223"/>
                </a:solidFill>
                <a:uFillTx/>
                <a:latin typeface="Gill Sans MT"/>
                <a:ea typeface="Arial"/>
              </a:rPr>
              <a:t>Identifies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 patterns and trends in  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	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9222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2223"/>
                </a:solidFill>
                <a:uFillTx/>
                <a:latin typeface="Gill Sans MT"/>
                <a:ea typeface="Arial"/>
              </a:rPr>
              <a:t>Synthesizes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  <a:ea typeface="Arial"/>
              </a:rPr>
              <a:t>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Content Placeholder 2"/>
          <p:cNvSpPr/>
          <p:nvPr/>
        </p:nvSpPr>
        <p:spPr>
          <a:xfrm>
            <a:off x="1000080" y="714240"/>
            <a:ext cx="8143920" cy="2928960"/>
          </a:xfrm>
          <a:prstGeom prst="rect">
            <a:avLst/>
          </a:prstGeom>
          <a:solidFill>
            <a:srgbClr val="f5d3d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800000"/>
                </a:solidFill>
                <a:latin typeface="Gill Sans MT"/>
              </a:rPr>
              <a:t>Stage 1</a:t>
            </a:r>
            <a:r>
              <a:rPr b="1" lang="en-US" sz="2500" spc="-1" strike="noStrike">
                <a:solidFill>
                  <a:srgbClr val="800000"/>
                </a:solidFill>
                <a:latin typeface="Gill Sans MT"/>
              </a:rPr>
              <a:t> – Identif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Compile a list of references relevant to your study.  (10 articl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Use a kind of index system either a hard copy or a software referencing syste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Work through key </a:t>
            </a:r>
            <a:r>
              <a:rPr b="0" lang="en-US" sz="2500" spc="-1" strike="noStrike">
                <a:solidFill>
                  <a:srgbClr val="922223"/>
                </a:solidFill>
                <a:latin typeface="Gill Sans MT"/>
              </a:rPr>
              <a:t>catalogues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500" spc="-1" strike="noStrike">
                <a:solidFill>
                  <a:srgbClr val="922223"/>
                </a:solidFill>
                <a:latin typeface="Gill Sans MT"/>
              </a:rPr>
              <a:t>databases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, indexes, bibliographies and </a:t>
            </a:r>
            <a:r>
              <a:rPr b="0" lang="en-US" sz="2500" spc="-1" strike="noStrike">
                <a:solidFill>
                  <a:srgbClr val="922223"/>
                </a:solidFill>
                <a:latin typeface="Gill Sans MT"/>
              </a:rPr>
              <a:t>websites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 for relevant resour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642960"/>
          </a:xfrm>
          <a:prstGeom prst="rect">
            <a:avLst/>
          </a:prstGeom>
          <a:solidFill>
            <a:srgbClr val="611617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ccc3"/>
                </a:solidFill>
                <a:latin typeface="Gill Sans MT"/>
              </a:rPr>
              <a:t>Assignment for next class…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00080" y="3714480"/>
            <a:ext cx="8143920" cy="3071880"/>
          </a:xfrm>
          <a:prstGeom prst="rect">
            <a:avLst/>
          </a:prstGeom>
          <a:solidFill>
            <a:srgbClr val="f5d3d3"/>
          </a:solidFill>
          <a:ln w="9360">
            <a:solidFill>
              <a:srgbClr val="800000"/>
            </a:solidFill>
            <a:miter/>
          </a:ln>
        </p:spPr>
        <p:txBody>
          <a:bodyPr anchor="ctr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800000"/>
                </a:solidFill>
                <a:latin typeface="Gill Sans MT"/>
              </a:rPr>
              <a:t>Stage </a:t>
            </a:r>
            <a:r>
              <a:rPr b="1" lang="en-US" sz="2500" spc="-1" strike="noStrike">
                <a:solidFill>
                  <a:srgbClr val="800000"/>
                </a:solidFill>
                <a:latin typeface="Gill Sans MT"/>
              </a:rPr>
              <a:t>2 - Record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Make a record of any literature that relates to your topic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You should have </a:t>
            </a:r>
            <a:r>
              <a:rPr b="0" lang="en-US" sz="2500" spc="-1" strike="noStrike">
                <a:solidFill>
                  <a:srgbClr val="922223"/>
                </a:solidFill>
                <a:latin typeface="Gill Sans MT"/>
              </a:rPr>
              <a:t>citation details 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and where it is located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You should also write a few sentences that help you remember what the article is about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Submit this “record” on your wikispace before the next meeting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434960" y="713880"/>
            <a:ext cx="7499520" cy="553428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literature’ means the works you 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consulted/ referred to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order to understand and investigate your research problem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literature review involves providing a rationale for your selection of literature related to the subject studi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213920" y="785880"/>
            <a:ext cx="7720200" cy="5214960"/>
          </a:xfrm>
          <a:prstGeom prst="rect">
            <a:avLst/>
          </a:prstGeom>
          <a:noFill/>
          <a:ln w="9360">
            <a:solidFill>
              <a:srgbClr val="713204"/>
            </a:solidFill>
            <a:miter/>
          </a:ln>
        </p:spPr>
        <p:txBody>
          <a:bodyPr anchor="ctr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literature review 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familiariz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reader with the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subjec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d the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scop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f the research topic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helps the reader  to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define key concept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6116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establishes the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body of knowledg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which will be able to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contribut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wards the research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8143920" cy="9288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riting the Literature Review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000080" y="1214280"/>
            <a:ext cx="8143920" cy="5500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rstly decide what you need to read from a broad spectrum of literature availabl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Refer to books, periodicals, journals, and websites which will be relevant to your study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Determine what exactly are your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objective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8143920" cy="9288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riting the Literature Review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000080" y="1214280"/>
            <a:ext cx="8143920" cy="5500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You have to decide on  what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approach or methodology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would you adopt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You should provide a  rather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current complete overview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of your related topic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61161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You are to show that you have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read extensively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lang="en-US" sz="3600" spc="-1" strike="noStrike">
                <a:solidFill>
                  <a:srgbClr val="922223"/>
                </a:solidFill>
                <a:latin typeface="Gill Sans MT"/>
              </a:rPr>
              <a:t>formed a body of knowledge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on the subject of field of study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00080" y="131760"/>
            <a:ext cx="8143920" cy="8683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900"/>
            </a:br>
            <a:r>
              <a:rPr b="0" lang="en-MY" sz="3900" spc="-1" strike="noStrike">
                <a:solidFill>
                  <a:srgbClr val="572314"/>
                </a:solidFill>
                <a:latin typeface="Gill Sans MT"/>
              </a:rPr>
              <a:t>Purpose of writing a literature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eview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 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00080" y="1285560"/>
            <a:ext cx="8143920" cy="51260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r review should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in a form of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critical deci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ow awareness of differing arguments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scribe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theories, approaches and methodologi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a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synthesis and analysi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f the relevant published work,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linked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t all times to your objective and rationale of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your stu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00080" y="131760"/>
            <a:ext cx="8143920" cy="8683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900"/>
            </a:br>
            <a:r>
              <a:rPr b="0" lang="en-MY" sz="3900" spc="-1" strike="noStrike">
                <a:solidFill>
                  <a:srgbClr val="572314"/>
                </a:solidFill>
                <a:latin typeface="Gill Sans MT"/>
              </a:rPr>
              <a:t>Purpose of writing a literature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eview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 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000080" y="1143000"/>
            <a:ext cx="8143920" cy="5572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 fontScale="99000"/>
          </a:bodyPr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write literature review becaus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review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knowledge of previous studies on the subject of resear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identifie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conceptual framework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one’s own research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provides directions for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future resear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provides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resourc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previously unknown to the rea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</a:t>
            </a: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identifies gap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past stud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131760"/>
            <a:ext cx="8143920" cy="8683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900"/>
            </a:br>
            <a:r>
              <a:rPr b="0" lang="en-MY" sz="3900" spc="-1" strike="noStrike">
                <a:solidFill>
                  <a:srgbClr val="572314"/>
                </a:solidFill>
                <a:latin typeface="Gill Sans MT"/>
              </a:rPr>
              <a:t>Purpose of writing a literature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eview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 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00080" y="1143000"/>
            <a:ext cx="8143920" cy="5572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ctr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e write literature review because: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t </a:t>
            </a:r>
            <a:r>
              <a:rPr b="0" lang="en-US" sz="3000" spc="-1" strike="noStrike">
                <a:solidFill>
                  <a:srgbClr val="922223"/>
                </a:solidFill>
                <a:latin typeface="Gill Sans MT"/>
              </a:rPr>
              <a:t>relate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r findings to previous knowledge and suggest further research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n a literature review the writer has to </a:t>
            </a:r>
            <a:r>
              <a:rPr b="0" lang="en-US" sz="3000" spc="-1" strike="noStrike">
                <a:solidFill>
                  <a:srgbClr val="922223"/>
                </a:solidFill>
                <a:latin typeface="Gill Sans MT"/>
              </a:rPr>
              <a:t>justify his choice of research question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 researcher has to provide  the necessary </a:t>
            </a:r>
            <a:r>
              <a:rPr b="0" lang="en-US" sz="3000" spc="-1" strike="noStrike">
                <a:solidFill>
                  <a:srgbClr val="922223"/>
                </a:solidFill>
                <a:latin typeface="Gill Sans MT"/>
              </a:rPr>
              <a:t>background information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needed to understand the stud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222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o show the readers that the writer is familiar with  the significant and up to date research which is relevant to the  research topic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06:17:09Z</dcterms:created>
  <dc:creator>Owner</dc:creator>
  <dc:description/>
  <dc:language>en-US</dc:language>
  <cp:lastModifiedBy>Lecturer</cp:lastModifiedBy>
  <dcterms:modified xsi:type="dcterms:W3CDTF">2009-08-10T03:17:32Z</dcterms:modified>
  <cp:revision>46</cp:revision>
  <dc:subject/>
  <dc:title>CHAPTER 2</dc:title>
</cp:coreProperties>
</file>