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2D4-63E5-4BC2-9D0A-97C4E282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C8D-3303-4DC4-86DA-C3BC09FB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2D9-07ED-454A-ACEE-77B11452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4B1-D242-4D8A-BC43-8F4DFA9A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3032-4190-4308-B4D3-5446873B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BD23-DB84-4756-88F4-B96D2AB4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2488-5D2D-4CC6-AE3A-528623E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486-3CE6-4229-A792-2870B79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068E-8AE4-43ED-929E-98241A3C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FEC5-0D2E-4F51-93CE-60834231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A741-CE83-42A8-BB8A-AC54B845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5F0-06CC-4C36-A404-3DB13CDF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E53C-B9A2-4431-9D1B-D0D07F80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D620-3D41-4E0D-BF3A-FDD87370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89C4-FF17-4E7B-96EA-2455E670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B527-9F91-42E3-9CC9-A5CCB533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C6EB-F302-4187-B5D3-389E81A7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DB93-7D5F-4CD8-8F98-F3439CA4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6ABC-8B45-47F3-8339-E47A32A3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2DBB-C6C5-4A70-9045-ED9A41F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B504B-B2AA-46C3-A575-A091E6D0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397F-8F75-418C-9CC8-ED3E190D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F3A-837E-4A7E-BD8D-95DC6A04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6C6B-9839-4330-BFF9-44F81B43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C86B-B0E1-4BF2-8CD7-61A32D38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F535D-FC13-4515-87A0-F4D0560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BBF3-BA43-489F-AAD8-03185E1F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A05F-8BD9-4F6C-B738-F574E0F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CCCE-D6F8-4872-8B5B-65A04434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C423-D71D-40A0-BCE1-7986FF6D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210F3-1A50-467A-B0C3-72491EA9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57D0-34DD-4D6E-BC85-C4B50D46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2093-AB37-4713-A917-41EE2C15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F82-99CD-4166-83F9-7C33DA0F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B9CF5-710D-40BE-B6A1-5C081D5A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7223-6993-4A58-BB6B-EB5A584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81D9-1EC4-4521-9BB1-96C2EE3C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70472-9024-41A3-952A-2835AEB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03B3E-6D96-4D1F-9882-1CAEE51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A747-637F-4F66-84FA-8A14877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8314-D9EE-46C6-9C77-DB3AC25C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3BCE-A82D-42B4-AB09-739D2D03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E6C3-A234-406B-A907-BE39190C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BE37-94FF-4EDE-8F87-217F0048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56C-FC2A-4D6C-B0ED-5DC21EED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8E9D2-3547-4380-9C54-6F21CC36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D835A-0938-44B9-B17E-EF3ABDAE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9CA2-2B35-459A-A1D8-D5A47877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83CCE-AC19-43C4-B3CE-CD1711F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56ED-607F-4F02-9675-A14B8DB4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B33CB-E971-48A7-B73E-4A8FD34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06F2-D616-4EB2-8992-EFE08D1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B405-0304-442A-B81B-8AEF632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40D6B-BDAF-4106-B394-99FC9A51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29019-AD5E-494D-A241-487AED5F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127-9CAF-4CCD-A657-204C7181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F3E9-9D57-4F76-BC3F-D1A442CC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E257E-CAC8-4072-9D40-0A0A236B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7C12B-D4A6-48F9-B066-644407B4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B7FA0-2F07-4D2C-8498-0FAC6AAF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4328-8780-41C6-97CC-494FE45E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24807-C058-4389-A120-BC2F1A2E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4D7F5-3260-4083-BE81-0312E1C7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1A1E0-8F45-4801-B1DC-62834CB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CE288-8AA3-4EF3-9AC4-F1E74CEA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FD526-5CD0-4C2C-8BE5-FBD01669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A79-954E-493A-BB04-8EC5540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5B68F-A415-4B53-8D03-A60DF3CB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66289-66DE-4D8E-844E-55E4FC0B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58A08-6F8E-4075-99E1-559973CA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70F89-6C46-4461-960F-365DD806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BD356-385A-4370-8140-13B80555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7299D-B9F7-4537-8D19-EF7F06AA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4BEB1-DDD6-43C0-B24F-2D31F39B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00593-ED13-43A8-ABA4-E3399525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6BBE8-E8E5-49A1-8CE0-4CA9F28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CB623-9B94-423F-8A59-CDA15A78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348-0638-4845-8C66-EAF542F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E658-B3B0-4329-8DF5-7A0D7A5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2F0DB-6EE7-4198-A3DD-879462A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17012-05ED-4E7C-9A8F-4E95D461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D89F8-3F79-48E6-B54B-7F820BDD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8A0BE-3DD8-4CD0-93E7-E252A349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E44-596E-4A7D-8F97-3C4F12B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9999-34E4-40C0-AA3D-BEF8A03ED4A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D47B-3CCC-45B0-BC33-C7461EE3642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BFF0-F6D0-4A84-90B8-E9F748BCE86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C9F8-A81B-4912-9823-893D3D99722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D31D-E007-4C7B-9ADB-C4259DD320E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4352-4D53-4BF1-8524-766FB72F969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53FE-6504-4346-BEEB-4C1100C9171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7407360" cy="2571840"/>
          </a:xfrm>
          <a:prstGeom prst="rect">
            <a:avLst/>
          </a:prstGeom>
          <a:solidFill>
            <a:srgbClr val="8e2f00"/>
          </a:solidFill>
          <a:ln w="0">
            <a:noFill/>
          </a:ln>
        </p:spPr>
        <p:txBody>
          <a:bodyPr tIns="0" anchor="ctr" anchorCtr="1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</a:rPr>
              <a:t>LITERATURE REVIEW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solidFill>
            <a:srgbClr val="3b1d15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accab"/>
                </a:solidFill>
                <a:latin typeface="Gill Sans MT"/>
              </a:rPr>
              <a:t>A good literature review i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e7dec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critical of what has been wr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it identifies areas of controvers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raises questions and identifies areas which need further re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0080" y="999720"/>
            <a:ext cx="8143920" cy="5715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The IR4W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cord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lev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triev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rit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00080" y="100008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39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ile a list of reference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rk through key catalogues, databases, indexes, bibliographies and websites for relevant resourc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heck the references and in the articles you have rea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ocate and use research reviews, most journals have a section on review of articles, it is essential you see what other people think about these articles as they be from a previous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00080" y="1214280"/>
            <a:ext cx="8143920" cy="450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 2 - Recor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a record of any literature that  relates to your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have citation details and where it is loc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00080" y="1143000"/>
            <a:ext cx="8143920" cy="4643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oritize the literature, after having read the abstract, rank them if it should be high, medium or low prior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website scan through the literature for relevance before you decide to download or print it 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00080" y="1071720"/>
            <a:ext cx="8143920" cy="53575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need to focus on the literature and sources you have identified and ranked as most important,  the most recent development from the periodica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inguish between textbooks, research articles from journals and books. They contain different kinds of information that will be more or less relevant to your re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1447920"/>
            <a:ext cx="8143920" cy="36957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4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Retriev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hard copies of the most important literatur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nt relevant journal articles from databases and  photocopy articles from jour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00080" y="114300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5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view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the reading log which allows you to record different kinds of information: the bibliographic details, a description, and relationship to other reading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lso record where the literature is located so that you can easily refer to the quotes or ideas paraphrased when you are editing.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s you are taking notes, ensure that you are clear about what you are quoting and paraphrasing. You cannot risk unintentionally plagiarizing idea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7128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00080" y="1213920"/>
            <a:ext cx="8143920" cy="4357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6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Wri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 with an introductory paragraph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uss the literature on the subject in a logical and coherent 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lude with a paragraph that is relevant to the literature of the research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ecide the subheadings for your literature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Always refer to your objectives and research questions when you want to decide on the sub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Make sure subheadings are relevant and able to describe your research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iscuss on where you are going to get the reading materials from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Delegate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ccc3"/>
                </a:solidFill>
                <a:latin typeface="Gill Sans MT"/>
              </a:rPr>
              <a:t>Now, get into your groups…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720200" cy="1071720"/>
          </a:xfrm>
          <a:prstGeom prst="rect">
            <a:avLst/>
          </a:prstGeom>
          <a:noFill/>
          <a:ln w="38160">
            <a:solidFill>
              <a:srgbClr val="713204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300" spc="-1" strike="noStrike">
                <a:solidFill>
                  <a:srgbClr val="572314"/>
                </a:solidFill>
                <a:latin typeface="Gill Sans MT"/>
              </a:rPr>
              <a:t>What is a “Literature Review”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214280" y="1571760"/>
            <a:ext cx="7715520" cy="511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literature review is an overview of research on a given topic and answers to related research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terature review is an important part of research and should be treated as s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well-written literature re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Organ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Evaluat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Identifi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patterns and trends in 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	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Synthes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Content Placeholder 2"/>
          <p:cNvSpPr/>
          <p:nvPr/>
        </p:nvSpPr>
        <p:spPr>
          <a:xfrm>
            <a:off x="1000080" y="714240"/>
            <a:ext cx="8143920" cy="292896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mpile a list of references relevant to your study.  (10 articl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Work through key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atalogu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databas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indexes, bibliographies and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websit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for relevant re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429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ccc3"/>
                </a:solidFill>
                <a:latin typeface="Gill Sans MT"/>
              </a:rPr>
              <a:t>Assignment for next class…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00080" y="3714480"/>
            <a:ext cx="8143920" cy="30718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2 - Recor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ake a record of any literature that relates to your topic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have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itation details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nd where it is loc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mit this “record” on your wikispace before the next meeting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’ means the works you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consulted/ referred t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order to understand and investigate your research probl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iterature review involves providing a rationale for your selection of literature related to the subject studi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785880"/>
            <a:ext cx="7720200" cy="5214960"/>
          </a:xfrm>
          <a:prstGeom prst="rect">
            <a:avLst/>
          </a:prstGeom>
          <a:noFill/>
          <a:ln w="9360">
            <a:solidFill>
              <a:srgbClr val="713204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 review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amiliariz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eader with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cop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search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helps the reader 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define key concep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establishes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body of knowledg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hich will be able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tribut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wards the researc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rstly decide what you need to read from a broad spectrum of literature avail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Refer to books, periodicals, journals, and websites which will be relevant to your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etermine what exactly are you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objectiv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have to decide on  what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approach or methodolog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would you adop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should provide a  rathe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current complete overview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of your related topic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are to show that you have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read extensivel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formed a body of knowledge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n the subject of field of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00080" y="1285560"/>
            <a:ext cx="8143920" cy="5126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review should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in a form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ritical deci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w awareness of differing arguments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b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theories, approaches and methodolog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ynthesis and analysi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levant published work,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linke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all times to your objective and rationale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your 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view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nowledge of previous studies on the subject of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ceptual framewor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one’s own research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directions for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uture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reviously unknown to the re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gap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ast stu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relate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r findings to previous knowledge and suggest further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a literature review the writer has to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justify his choice of research question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researcher has to provide  the necessary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background information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eeded to understand the stud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o show the readers that the writer is familiar with  the significant and up to date research which is relevant to the  research top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6:17:09Z</dcterms:created>
  <dc:creator>Owner</dc:creator>
  <dc:description/>
  <dc:language>en-US</dc:language>
  <cp:lastModifiedBy>Lecturer</cp:lastModifiedBy>
  <dcterms:modified xsi:type="dcterms:W3CDTF">2009-08-10T03:17:32Z</dcterms:modified>
  <cp:revision>46</cp:revision>
  <dc:subject/>
  <dc:title>CHAPTER 2</dc:title>
</cp:coreProperties>
</file>