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006C-EF20-494D-B32E-E74EC467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52F0-D16C-446C-9F2E-A9F32FEB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295B-EB1F-44C1-8F67-4048107A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0A83-D91A-47DB-B25E-FD40CBAF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75DA-5A5F-48A9-A57D-7523E5FD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B746-DA6B-4D65-B247-A6722C21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FF8A-7583-49CA-9940-E9D32161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CE62-2DCF-4151-B390-26DCBDE1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6CB2-F1E9-40C5-8AF9-1B7C8153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FA54-05DB-4E14-B168-7267E1EE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E1D1-BFDE-469D-BA31-5B124BC8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F8A2-2664-46C0-8FE9-D9BF99D9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99EA-7EA6-4DE8-A203-667B5D99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57B2-E7E7-45B0-B689-715676C9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BACF-EBAD-4A3E-A780-CB872F24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4E69-B27C-4CC2-B8F2-B365DB63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E9A8-AD11-4856-B923-5AE4FF41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D45B5-F095-4A84-B433-4AE7BFE2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B465E-75DB-45F1-A583-601DA453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AB826-B6A6-4EE6-B1CC-16A49D8F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C5B85-D606-4839-83AE-F44BB1C7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70031-C432-48E2-A7DB-FD6C43C3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0DE1-B71B-4313-8DAF-AD33B30E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A8D5A-8F5C-442B-AF11-B1A526C1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B82EF-292E-4DA8-9D95-BF883072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2041C-9A77-448A-B486-6427FAA5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E1695-9B13-4D39-BDE6-C6F4806E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24B71-5421-497F-BA55-3ECABB1F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5D857-05A3-451C-A81B-53C6C978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67B22-4CCF-413E-9357-1AB43F1F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FB47D-FBCE-47D0-A9DD-E052302B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3C860-1836-42ED-9A2E-D9122ED3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C0AEE-2727-4DBA-9A77-691BDB08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CB3D-E196-420A-9957-1DFD9A90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8E581-7D79-4563-B559-6EAE089B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5A21C-014D-455B-A31E-12A8F0DA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59049-1095-4C87-BADE-2C155768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C7DD6-DD28-46C4-BA06-BB117779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E89ED-504B-4519-A7DA-C09A2872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A07A2-E79B-4240-83EC-5D1043BD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23D3B-7FE4-4E2E-9D8A-5CA2A3A7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9F933-0EB2-4A94-B194-96E69E20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E8E30-7505-4436-A27D-7E18FEB5A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65904-9231-4692-AB1E-42989E6C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BE21-0C96-4E28-AFA8-1AEB90AE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3FDE0-0C3B-4B67-AF40-66E58957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8FBE2-5948-455A-BA40-7C003BA1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82628-048A-466C-93C7-206706E7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236DC-1DE9-47EF-8F74-B7901C78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DA08A-E513-49B3-8F79-F11C8699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0B8D3-A5E5-4B7D-ADF4-7158DCBC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04947-564A-411C-9713-17BF0259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6CB83-7C89-4135-BDF5-21E3AEF2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C6A89-4F54-4223-AEF2-6BFF2C11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D6957-28B5-4839-A68A-75D72656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506D-5322-438E-BA34-0774960D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8E692-7B76-40DB-AEA8-D62444EF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71FD4-719D-4FA4-A6D0-3CBCF0C8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04262-724A-4B50-A2BE-746185A5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B3596-3DE7-49A7-90B8-3106F6AC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3F079-9339-4D73-8892-D1E61D36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183FA-97C6-4918-91EC-0F265605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EB700-A8F0-4855-8E5B-9FBD3040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80007-5F71-4534-9C47-FA63ABD8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F78B5-1161-4DF5-AAE6-A647BB14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BFEF7-87C0-4EAE-B2BF-926F2A5E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17E9-B937-4FEA-A174-BA60C4DE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FDB2A-AA68-4736-B0BC-766895E1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431FE-BE5C-4EC9-8F85-FAB48231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DA79B-A665-48E3-B58B-15C5A8A1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904B1-F0C0-4694-B58D-88856462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11D0D-916E-4643-9F2D-DC346189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1483A-9881-4E80-9E31-33D9CEF9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AC103-F235-4DD6-9B50-0C154A24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8C747-46F9-4E32-94F0-05F0A8C5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1763B-463E-43CC-8452-F3A12EA7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1DA76-4B3D-4796-8263-6D445CA0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39A9-E5AE-4C3C-AC9F-318EF023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1860E-46D7-460E-B123-761F9DCB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E67F1-7962-4C8C-9420-F409848E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F56F4-64FA-4356-8DDD-631272DE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A1CE8-52B7-4CD7-B62A-F5E0515A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7B6D6-D5CA-4739-B628-45B93BB8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BB16-00B9-4130-B86D-13EEA13B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9BCD-48DE-42AB-B9DD-227495134E73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8274-CD79-4EE8-BFD2-ABA4BB78557B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7B1C-339F-4274-9866-EA35CCD6D781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F28A-2112-46D8-A10D-1EDB9A7602F6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400D-27D5-4074-91CA-D7FD91EB8E3D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1426-C402-449E-858E-9AC658E4429C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088C-D5FA-4BD4-B623-5EEC2DBBE78A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428840" y="1785960"/>
            <a:ext cx="7407360" cy="2571840"/>
          </a:xfrm>
          <a:prstGeom prst="rect">
            <a:avLst/>
          </a:prstGeom>
          <a:solidFill>
            <a:srgbClr val="8e2f00"/>
          </a:solidFill>
          <a:ln w="0">
            <a:noFill/>
          </a:ln>
        </p:spPr>
        <p:txBody>
          <a:bodyPr tIns="0" anchor="ctr" anchorCtr="1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 MT"/>
              </a:rPr>
              <a:t>LITERATURE REVIEW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00080" y="131760"/>
            <a:ext cx="8143920" cy="868320"/>
          </a:xfrm>
          <a:prstGeom prst="rect">
            <a:avLst/>
          </a:prstGeom>
          <a:solidFill>
            <a:srgbClr val="3b1d15"/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accab"/>
                </a:solidFill>
                <a:latin typeface="Gill Sans MT"/>
              </a:rPr>
              <a:t>A good literature review is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Content Placeholder 2"/>
          <p:cNvSpPr/>
          <p:nvPr/>
        </p:nvSpPr>
        <p:spPr>
          <a:xfrm>
            <a:off x="1000080" y="1143000"/>
            <a:ext cx="8143920" cy="5572080"/>
          </a:xfrm>
          <a:prstGeom prst="rect">
            <a:avLst/>
          </a:prstGeom>
          <a:solidFill>
            <a:srgbClr val="e7dec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2223"/>
                </a:solidFill>
                <a:latin typeface="Arial"/>
              </a:rPr>
              <a:t>critical of what has been writt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2223"/>
                </a:solidFill>
                <a:latin typeface="Arial"/>
              </a:rPr>
              <a:t>it identifies areas of controvers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2223"/>
                </a:solidFill>
                <a:latin typeface="Arial"/>
              </a:rPr>
              <a:t>raises questions and identifies areas which need further resear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00080" y="999720"/>
            <a:ext cx="8143920" cy="5715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The IR4W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Identify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Record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Relevanc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Retriev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Review 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Writ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000080" y="1000080"/>
            <a:ext cx="8143920" cy="5572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800000"/>
                </a:solidFill>
                <a:latin typeface="Gill Sans MT"/>
              </a:rPr>
              <a:t>Stage 1</a:t>
            </a:r>
            <a:r>
              <a:rPr b="1" lang="en-US" sz="3900" spc="-1" strike="noStrike">
                <a:solidFill>
                  <a:srgbClr val="800000"/>
                </a:solidFill>
                <a:latin typeface="Gill Sans MT"/>
              </a:rPr>
              <a:t> – Identify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ompile a list of reference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se a kind of index system either a hard copy or a software referencing system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ork through key catalogues, databases, indexes, bibliographies and websites for relevant resourc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heck the references and in the articles you have read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Locate and use research reviews, most journals have a section on review of articles, it is essential you see what other people think about these articles as they be from a previous research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000080" y="1214280"/>
            <a:ext cx="8143920" cy="450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 2 - Record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e17b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ke a record of any literature that  relates to your topic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e17b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should have citation details and where it is locate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e17b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should also write a few sentences that help you remember what the article is abou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000080" y="1143000"/>
            <a:ext cx="8143920" cy="4643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3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– Relevanc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ioritize the literature, after having read the abstract, rank them if it should be high, medium or low priorit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 the website scan through the literature for relevance before you decide to download or print it ou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000080" y="1071720"/>
            <a:ext cx="8143920" cy="53575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3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– Relevanc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need to focus on the literature and sources you have identified and ranked as most important,  the most recent development from the periodical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stinguish between textbooks, research articles from journals and books. They contain different kinds of information that will be more or less relevant to your researc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000080" y="1447920"/>
            <a:ext cx="8143920" cy="36957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4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- Retriev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ke hard copies of the most important literature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int relevant journal articles from databases and  photocopy articles from journa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00080" y="214200"/>
            <a:ext cx="8143920" cy="8575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000080" y="1143000"/>
            <a:ext cx="8143920" cy="5500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5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– Review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se the reading log which allows you to record different kinds of information: the bibliographic details, a description, and relationship to other reading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lso record where the literature is located so that you can easily refer to the quotes or ideas paraphrased when you are editing. 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s you are taking notes, ensure that you are clear about what you are quoting and paraphrasing. You cannot risk unintentionally plagiarizing idea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71280"/>
            <a:ext cx="8143920" cy="8575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000080" y="1213920"/>
            <a:ext cx="8143920" cy="4357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6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- Writ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rt with an introductory paragraph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scuss the literature on the subject in a logical and coherent wa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clude with a paragraph that is relevant to the literature of the research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Content Placeholder 2"/>
          <p:cNvSpPr/>
          <p:nvPr/>
        </p:nvSpPr>
        <p:spPr>
          <a:xfrm>
            <a:off x="1000080" y="1143000"/>
            <a:ext cx="8143920" cy="5572080"/>
          </a:xfrm>
          <a:prstGeom prst="rect">
            <a:avLst/>
          </a:prstGeom>
          <a:solidFill>
            <a:srgbClr val="f5d3d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Decide the subheadings for your literature re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Always refer to your objectives and research questions when you want to decide on the subhead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Make sure subheadings are relevant and able to describe your research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Discuss on where you are going to get the reading materials from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MY" sz="3200" spc="-1" strike="noStrike">
                <a:solidFill>
                  <a:srgbClr val="800000"/>
                </a:solidFill>
                <a:latin typeface="Gill Sans MT"/>
              </a:rPr>
              <a:t>Delegate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8143920" cy="857160"/>
          </a:xfrm>
          <a:prstGeom prst="rect">
            <a:avLst/>
          </a:prstGeom>
          <a:solidFill>
            <a:srgbClr val="611617"/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ccc3"/>
                </a:solidFill>
                <a:latin typeface="Gill Sans MT"/>
              </a:rPr>
              <a:t>Now, get into your groups…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7720200" cy="1071720"/>
          </a:xfrm>
          <a:prstGeom prst="rect">
            <a:avLst/>
          </a:prstGeom>
          <a:noFill/>
          <a:ln w="38160">
            <a:solidFill>
              <a:srgbClr val="713204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300" spc="-1" strike="noStrike">
                <a:solidFill>
                  <a:srgbClr val="572314"/>
                </a:solidFill>
                <a:latin typeface="Gill Sans MT"/>
              </a:rPr>
              <a:t>What is a “Literature Review”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1214280" y="1571760"/>
            <a:ext cx="7715520" cy="5114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literature review is an overview of research on a given topic and answers to related research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terature review is an important part of research and should be treated as su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well-written literature revie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9222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2223"/>
                </a:solidFill>
                <a:uFillTx/>
                <a:latin typeface="Gill Sans MT"/>
                <a:ea typeface="Arial"/>
              </a:rPr>
              <a:t>Organizes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9222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2223"/>
                </a:solidFill>
                <a:uFillTx/>
                <a:latin typeface="Gill Sans MT"/>
                <a:ea typeface="Arial"/>
              </a:rPr>
              <a:t>Evaluates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9222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2223"/>
                </a:solidFill>
                <a:uFillTx/>
                <a:latin typeface="Gill Sans MT"/>
                <a:ea typeface="Arial"/>
              </a:rPr>
              <a:t>Identifies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 patterns and trends in  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	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9222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2223"/>
                </a:solidFill>
                <a:uFillTx/>
                <a:latin typeface="Gill Sans MT"/>
                <a:ea typeface="Arial"/>
              </a:rPr>
              <a:t>Synthesizes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Content Placeholder 2"/>
          <p:cNvSpPr/>
          <p:nvPr/>
        </p:nvSpPr>
        <p:spPr>
          <a:xfrm>
            <a:off x="1000080" y="714240"/>
            <a:ext cx="8143920" cy="2928960"/>
          </a:xfrm>
          <a:prstGeom prst="rect">
            <a:avLst/>
          </a:prstGeom>
          <a:solidFill>
            <a:srgbClr val="f5d3d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800000"/>
                </a:solidFill>
                <a:latin typeface="Gill Sans MT"/>
              </a:rPr>
              <a:t>Stage 1</a:t>
            </a:r>
            <a:r>
              <a:rPr b="1" lang="en-US" sz="2500" spc="-1" strike="noStrike">
                <a:solidFill>
                  <a:srgbClr val="800000"/>
                </a:solidFill>
                <a:latin typeface="Gill Sans MT"/>
              </a:rPr>
              <a:t> – Identif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Compile a list of references relevant to your study.  (10 articl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Use a kind of index system either a hard copy or a software referencing syste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Work through key </a:t>
            </a:r>
            <a:r>
              <a:rPr b="0" lang="en-US" sz="2500" spc="-1" strike="noStrike">
                <a:solidFill>
                  <a:srgbClr val="922223"/>
                </a:solidFill>
                <a:latin typeface="Gill Sans MT"/>
              </a:rPr>
              <a:t>catalogues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500" spc="-1" strike="noStrike">
                <a:solidFill>
                  <a:srgbClr val="922223"/>
                </a:solidFill>
                <a:latin typeface="Gill Sans MT"/>
              </a:rPr>
              <a:t>databases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, indexes, bibliographies and </a:t>
            </a:r>
            <a:r>
              <a:rPr b="0" lang="en-US" sz="2500" spc="-1" strike="noStrike">
                <a:solidFill>
                  <a:srgbClr val="922223"/>
                </a:solidFill>
                <a:latin typeface="Gill Sans MT"/>
              </a:rPr>
              <a:t>websites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 for relevant resour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642960"/>
          </a:xfrm>
          <a:prstGeom prst="rect">
            <a:avLst/>
          </a:prstGeom>
          <a:solidFill>
            <a:srgbClr val="611617"/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ccc3"/>
                </a:solidFill>
                <a:latin typeface="Gill Sans MT"/>
              </a:rPr>
              <a:t>Assignment for next class…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00080" y="3714480"/>
            <a:ext cx="8143920" cy="3071880"/>
          </a:xfrm>
          <a:prstGeom prst="rect">
            <a:avLst/>
          </a:prstGeom>
          <a:solidFill>
            <a:srgbClr val="f5d3d3"/>
          </a:solidFill>
          <a:ln w="9360">
            <a:solidFill>
              <a:srgbClr val="800000"/>
            </a:solidFill>
            <a:miter/>
          </a:ln>
        </p:spPr>
        <p:txBody>
          <a:bodyPr anchor="ctr">
            <a:normAutofit fontScale="90000"/>
          </a:bodyPr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800000"/>
                </a:solidFill>
                <a:latin typeface="Gill Sans MT"/>
              </a:rPr>
              <a:t>Stage </a:t>
            </a:r>
            <a:r>
              <a:rPr b="1" lang="en-US" sz="2500" spc="-1" strike="noStrike">
                <a:solidFill>
                  <a:srgbClr val="800000"/>
                </a:solidFill>
                <a:latin typeface="Gill Sans MT"/>
              </a:rPr>
              <a:t>2 - Record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Make a record of any literature that relates to your topic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You should have </a:t>
            </a:r>
            <a:r>
              <a:rPr b="0" lang="en-US" sz="2500" spc="-1" strike="noStrike">
                <a:solidFill>
                  <a:srgbClr val="922223"/>
                </a:solidFill>
                <a:latin typeface="Gill Sans MT"/>
              </a:rPr>
              <a:t>citation details 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and where it is located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You should also write a few sentences that help you remember what the article is about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Submit this “record” on your wikispace before the next meeting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434960" y="713880"/>
            <a:ext cx="7499520" cy="553428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literature’ means the works you </a:t>
            </a: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consulted/ referred to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order to understand and investigate your research problem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literature review involves providing a rationale for your selection of literature related to the subject studie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213920" y="785880"/>
            <a:ext cx="7720200" cy="5214960"/>
          </a:xfrm>
          <a:prstGeom prst="rect">
            <a:avLst/>
          </a:prstGeom>
          <a:noFill/>
          <a:ln w="9360">
            <a:solidFill>
              <a:srgbClr val="713204"/>
            </a:solidFill>
            <a:miter/>
          </a:ln>
        </p:spPr>
        <p:txBody>
          <a:bodyPr anchor="ctr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literature review 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familiariz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reader with the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subjec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d the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scop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f the research topic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helps the reader  to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define key concept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establishes the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body of knowledg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which will be able to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contribut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wards the research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00080" y="142920"/>
            <a:ext cx="8143920" cy="9288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riting the Literature Review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000080" y="1214280"/>
            <a:ext cx="8143920" cy="5500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rstly decide what you need to read from a broad spectrum of literature available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Refer to books, periodicals, journals, and websites which will be relevant to your study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Determine what exactly are your </a:t>
            </a: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objective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00080" y="142920"/>
            <a:ext cx="8143920" cy="9288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riting the Literature Review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000080" y="1214280"/>
            <a:ext cx="8143920" cy="5500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You have to decide on  what </a:t>
            </a: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approach or methodology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would you adopt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You should provide a  rather </a:t>
            </a: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current complete overview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of your related topic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You are to show that you have </a:t>
            </a: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read extensively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formed a body of knowledge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on the subject of field of study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00080" y="131760"/>
            <a:ext cx="8143920" cy="8683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3900"/>
            </a:br>
            <a:r>
              <a:rPr b="0" lang="en-MY" sz="3900" spc="-1" strike="noStrike">
                <a:solidFill>
                  <a:srgbClr val="572314"/>
                </a:solidFill>
                <a:latin typeface="Gill Sans MT"/>
              </a:rPr>
              <a:t>Purpose of writing a literature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eview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 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00080" y="1285560"/>
            <a:ext cx="8143920" cy="51260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r review should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 in a form of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critical decis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ow awareness of differing arguments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scribe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theories, approaches and methodologi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 a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synthesis and analysi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f the relevant published work,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linked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t all times to your objective and rationale of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your stu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00080" y="131760"/>
            <a:ext cx="8143920" cy="8683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3900"/>
            </a:br>
            <a:r>
              <a:rPr b="0" lang="en-MY" sz="3900" spc="-1" strike="noStrike">
                <a:solidFill>
                  <a:srgbClr val="572314"/>
                </a:solidFill>
                <a:latin typeface="Gill Sans MT"/>
              </a:rPr>
              <a:t>Purpose of writing a literature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eview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 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000080" y="1143000"/>
            <a:ext cx="8143920" cy="5572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 fontScale="99000"/>
          </a:bodyPr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write literature review becaus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review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knowledge of previous studies on the subject of researc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identifie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conceptual framework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one’s own research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provides directions for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future researc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provides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resourc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previously unknown to the rea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identifies gap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past stud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0080" y="131760"/>
            <a:ext cx="8143920" cy="8683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3900"/>
            </a:br>
            <a:r>
              <a:rPr b="0" lang="en-MY" sz="3900" spc="-1" strike="noStrike">
                <a:solidFill>
                  <a:srgbClr val="572314"/>
                </a:solidFill>
                <a:latin typeface="Gill Sans MT"/>
              </a:rPr>
              <a:t>Purpose of writing a literature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eview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 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00080" y="1143000"/>
            <a:ext cx="8143920" cy="5572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e write literature review because: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t </a:t>
            </a:r>
            <a:r>
              <a:rPr b="0" lang="en-US" sz="3000" spc="-1" strike="noStrike">
                <a:solidFill>
                  <a:srgbClr val="922223"/>
                </a:solidFill>
                <a:latin typeface="Gill Sans MT"/>
              </a:rPr>
              <a:t>relate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r findings to previous knowledge and suggest further research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n a literature review the writer has to </a:t>
            </a:r>
            <a:r>
              <a:rPr b="0" lang="en-US" sz="3000" spc="-1" strike="noStrike">
                <a:solidFill>
                  <a:srgbClr val="922223"/>
                </a:solidFill>
                <a:latin typeface="Gill Sans MT"/>
              </a:rPr>
              <a:t>justify his choice of research question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e researcher has to provide  the necessary </a:t>
            </a:r>
            <a:r>
              <a:rPr b="0" lang="en-US" sz="3000" spc="-1" strike="noStrike">
                <a:solidFill>
                  <a:srgbClr val="922223"/>
                </a:solidFill>
                <a:latin typeface="Gill Sans MT"/>
              </a:rPr>
              <a:t>background information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needed to understand the study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o show the readers that the writer is familiar with  the significant and up to date research which is relevant to the  research topic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06:17:09Z</dcterms:created>
  <dc:creator>Owner</dc:creator>
  <dc:description/>
  <dc:language>en-US</dc:language>
  <cp:lastModifiedBy>Lecturer</cp:lastModifiedBy>
  <dcterms:modified xsi:type="dcterms:W3CDTF">2009-08-10T03:17:32Z</dcterms:modified>
  <cp:revision>46</cp:revision>
  <dc:subject/>
  <dc:title>CHAPTER 2</dc:title>
</cp:coreProperties>
</file>