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A49-7B26-4C31-81A6-7FE753B5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298-5D2C-42BD-9A34-4B9A952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E17-2EA6-4794-95A3-90662952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7DA-24A2-4D46-BF97-11724AF5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460-09BF-4D3A-A3CC-48EBCA2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E6B2-3ECD-483E-8A07-61F7A20C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166C-3217-41BB-AAAC-540271E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CE7D-9AF7-4AB0-B808-C45AB1C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7473-88D9-45F6-9255-C90F4557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305-4C75-4A37-97F3-6B187687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9A60-2926-446A-8162-4349646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4AF-2BCC-4599-847D-DF83607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E4A1-EF3B-4E9E-9A16-9E6B1C6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72A-4E15-4DEA-894A-E49C720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DC39-69E2-4055-9B05-7F9286B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A58A-D4F4-480D-9C12-FCC69C23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234F-F42D-48FC-9F9D-B5BEC104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6A55-E818-4287-A9C5-44EBB520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C084-D2D0-4CFB-B849-2F3B0753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E217-18AC-4399-A5E1-46BD4E41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A502-3DC5-4099-A57D-1E25845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744A-8BC1-48DE-B404-7B5C6780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2A0-9996-47DB-87FF-0BC0DBD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996C-586F-4F9F-8956-086FA326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E0B4-7A26-4423-862D-DFB909F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956B-FDC2-47AB-9B9A-4C5B01F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2DCC-ABEA-48FD-98DE-2BF6EC4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064A-7469-4055-AC1B-0418E95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EA82-E13B-47D6-AF75-FF348F2D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259D2-DA60-48F0-B77B-4712D3A6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D57C5-4A7E-4345-8130-8186DA1A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3810-3521-43CE-A134-4A393B6D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9AA7-D6FC-4062-A1C0-43656E1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D98-C1D0-4DA0-AD0E-3AE5A86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8D3E-DA92-4015-837E-013190F4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CD66-6FFE-41C4-AD7A-BBC6F6FE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E60B-DD8D-44E0-BFEC-F9978F7A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526A-F219-4684-B7D1-F094EEF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7103-E32A-43B9-818E-D48C783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EA69-2784-4E37-8DD9-5CC7002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02FA-008F-4FFD-9BB3-00DE8EB9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3E6F-0B29-4FF8-9125-FE5A5B64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9463-69F9-4688-B8C7-94C692B0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B08E-196B-43DC-8DB6-BDBEDD75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9BA-8CB3-4DA1-8D00-1417F5A7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59E23-7B85-4F7D-AB30-7A330DC9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E755-404C-4D44-87C4-2B159F7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FEDA4-F20A-4BD4-AFD6-02D682F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6B8A9-6FF7-4FDC-94F9-D286EF99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AD51-865A-4BAB-B749-16BDF425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82D7-BF03-4C2D-8245-6796776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760F1-1E7D-4CF5-8C52-49DA660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26AC-56B9-4DFA-AD0B-3D12455F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0E18-439E-4D24-B76B-F744301B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2EC19-B71E-4F48-8C8B-ED84392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883-C435-486F-9979-B49E6C45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A494-B83A-41D1-A2E8-5E76C5A6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FD585-11AA-4AE8-92A6-D1453506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50A0-FFB6-416B-8E77-7AAE205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7E3E-6AE3-4D18-BCF6-C5165D8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A03F-FAC5-470D-83F4-AE4B0F3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23290-E25D-41C3-AD80-1EF0C23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7226-8EC4-4E47-A228-74C864A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0D4F-B6F2-4448-95FB-256CC4B4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EB251-FDEA-4092-83C1-586AEFC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7071-DC48-4B70-ADAE-BF6A1D5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E74-3119-4105-9A40-5013509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DF6D4-35A2-41FD-B50C-9ACF9BA8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E0BA-0256-4812-BE00-4CFE8746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DB3DA-062C-4D26-9EEE-D53575B6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1527-30DE-4859-AF35-CA79D952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DE86-B50D-4D2F-98BD-4C5D8A92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0A379-56B6-4427-91AD-0C17213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C6CB-D826-460B-813A-FF9A1C3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CB285-DD34-4318-9851-7EB6BA3B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35D6E-808F-4350-AE60-15891FC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0A9E-8ADC-4AF5-BF68-2389620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50E-F2D4-44E7-9783-18BF1C9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93C72-6EB6-4E53-A548-B2B8770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C14D3-DD30-4A77-9624-F5F10D1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E011-827F-4216-8C96-6A308DE5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C6DE-377B-4CE8-A17C-06E6DBE2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B3282-C81B-45DA-9F55-8F9C1AA2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A5D-42AB-424E-8AEF-4248D00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16D5-CDED-402E-A231-DB4150C5598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E27-4DF8-47FC-AB2D-894E50C105D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3F0-53EA-4F60-A013-4D7E3049828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78C-BB89-4AEE-92CC-8918CAD4E44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0D0A-8BC6-49DC-A265-B3F88570121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DECD-286D-483E-8A68-B9BD7BD9B7E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415-388D-4BFE-88CB-7C0E1A9DEB0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7407360" cy="2571840"/>
          </a:xfrm>
          <a:prstGeom prst="rect">
            <a:avLst/>
          </a:prstGeom>
          <a:solidFill>
            <a:srgbClr val="8e2f00"/>
          </a:solidFill>
          <a:ln w="0">
            <a:noFill/>
          </a:ln>
        </p:spPr>
        <p:txBody>
          <a:bodyPr tIns="0" anchor="ctr" anchorCtr="1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solidFill>
            <a:srgbClr val="3b1d15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accab"/>
                </a:solidFill>
                <a:latin typeface="Gill Sans MT"/>
              </a:rPr>
              <a:t>A good literature review i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e7dec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critical of what has been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it identifies areas of controvers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raises questions and identifies areas which need furthe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999720"/>
            <a:ext cx="8143920" cy="5715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The IR4W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trie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00080" y="100008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39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ile a list of reference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k through key catalogues, databases, indexes, bibliographies and websites for relevant resour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eck the references and in the articles you have re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ocate and use research reviews, most journals have a section on review of articles, it is essential you see what other people think about these articles as they be from a previous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0080" y="1214280"/>
            <a:ext cx="8143920" cy="450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 2 - Recor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a record of any literature that  relates to your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have citation details and where it is loc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1143000"/>
            <a:ext cx="8143920" cy="4643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ize the literature, after having read the abstract, rank them if it should be high, medium or low prior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website scan through the literature for relevance before you decide to download or print it 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00080" y="1071720"/>
            <a:ext cx="8143920" cy="5357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need to focus on the literature and sources you have identified and ranked as most important,  the most recent development from the periodica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guish between textbooks, research articles from journals and books. They contain different kinds of information that will be more or less relevant to your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47920"/>
            <a:ext cx="8143920" cy="3695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4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Retriev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hard copies of the most important literatur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nt relevant journal articles from databases and  photocopy articles from jour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00080" y="114300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5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view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the reading log which allows you to record different kinds of information: the bibliographic details, a description, and relationship to other reading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lso record where the literature is located so that you can easily refer to the quotes or ideas paraphrased when you are editing.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 you are taking notes, ensure that you are clear about what you are quoting and paraphrasing. You cannot risk unintentionally plagiarizing idea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1213920"/>
            <a:ext cx="8143920" cy="43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6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Wri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an introductory paragraph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the literature on the subject in a logical and coherent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de with a paragraph that is relevant to the literature of the research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ecide the subheadings for your literatur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Always refer to your objectives and research questions when you want to decide on the sub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Make sure subheadings are relevant and able to describe your research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iscuss on where you are going to get the reading materials from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Deleg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ccc3"/>
                </a:solidFill>
                <a:latin typeface="Gill Sans MT"/>
              </a:rPr>
              <a:t>Now, get into your groups…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720200" cy="1071720"/>
          </a:xfrm>
          <a:prstGeom prst="rect">
            <a:avLst/>
          </a:prstGeom>
          <a:noFill/>
          <a:ln w="38160">
            <a:solidFill>
              <a:srgbClr val="713204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300" spc="-1" strike="noStrike">
                <a:solidFill>
                  <a:srgbClr val="572314"/>
                </a:solidFill>
                <a:latin typeface="Gill Sans MT"/>
              </a:rPr>
              <a:t>What is a “Literature Review”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214280" y="1571760"/>
            <a:ext cx="7715520" cy="51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iterature review is an overview of research on a given topic and answers to related research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terature review is an important part of research and should be treated as s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well-written literature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Organ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Evaluat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Identifi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patterns and trends in 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	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Synthes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Content Placeholder 2"/>
          <p:cNvSpPr/>
          <p:nvPr/>
        </p:nvSpPr>
        <p:spPr>
          <a:xfrm>
            <a:off x="1000080" y="714240"/>
            <a:ext cx="8143920" cy="292896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pile a list of references relevant to your study.  (10 arti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Work through key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atalogu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databas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indexes, bibliographies and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websit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for relevant re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429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cc3"/>
                </a:solidFill>
                <a:latin typeface="Gill Sans MT"/>
              </a:rPr>
              <a:t>Assignment for next class…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00080" y="3714480"/>
            <a:ext cx="8143920" cy="30718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2 - Recor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ake a record of any literature that relates to your topic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have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itation details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where it is loc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mit this “record” on your wikispace before the next meet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’ means the works you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consulted/ referred t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understand and investigate your research probl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iterature review involves providing a rationale for your selection of literature related to the subject stud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785880"/>
            <a:ext cx="7720200" cy="5214960"/>
          </a:xfrm>
          <a:prstGeom prst="rect">
            <a:avLst/>
          </a:prstGeom>
          <a:noFill/>
          <a:ln w="9360">
            <a:solidFill>
              <a:srgbClr val="713204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 review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amiliariz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eader with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op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search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helps the reader 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define key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establishes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body of knowled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hich will be able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tribut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ards the researc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rstly decide what you need to read from a broad spectrum of literature avail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er to books, periodicals, journals, and websites which will be relevant to your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termine what exactly are you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objectiv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have to decide on  what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approach or methodolog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would you adop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should provide a  rathe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current complete overview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your related topic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are to show that you have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read extensivel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formed a body of knowledge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the subject of field of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285560"/>
            <a:ext cx="8143920" cy="512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review should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in a form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ritical dec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 awareness of differing argumen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heories, approaches and methodolog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ynthesis and analysi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levant published work,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linke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all times to your objective and rationale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your 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nowledge of previous studies on the subject of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ceptual framewor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one’s own researc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directions for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viously unknown to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gap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ast stu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relate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r findings to previous knowledge and suggest further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a literature review the writer has to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justify his choice of research questi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researcher has to provide  the necessary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background information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eeded to understand the stu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 show the readers that the writer is familiar with  the significant and up to date research which is relevant to the  research 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6:17:09Z</dcterms:created>
  <dc:creator>Owner</dc:creator>
  <dc:description/>
  <dc:language>en-US</dc:language>
  <cp:lastModifiedBy>Lecturer</cp:lastModifiedBy>
  <dcterms:modified xsi:type="dcterms:W3CDTF">2009-08-10T03:17:32Z</dcterms:modified>
  <cp:revision>46</cp:revision>
  <dc:subject/>
  <dc:title>CHAPTER 2</dc:title>
</cp:coreProperties>
</file>