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24B7-5D72-4EEA-AC75-4A4A0CEF7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Chloe Diepenbr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Center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1-283-33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penbrock@uhcl.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CE48-F9AF-4EBC-ADAA-64D27E05A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0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41DB-063A-4891-ADEC-DBCE7E61F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0FFF-97CD-40EC-9016-9B49CA56D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4191-92B8-46EB-A0D0-6663F5E67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2CA6-EFAE-4131-835D-675FC7C73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5247-DCAD-410E-B325-6DFA68483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502A-7459-4C69-AF50-D1624919C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25D0-0F6B-4556-9508-958FADF2A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8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F117-2E8C-4CC7-97CF-C190B10C6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0685-FFBF-49B7-859E-B3E62D72D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C6CE-D02A-4164-86F6-B845C3C50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A950-442E-47C1-93BB-CFCC88CFC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941A-F866-4F25-857C-D690EC7C8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4015-839D-40CA-B892-D64705FEE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FC7C-9D1A-4E9C-9107-3C8042D10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334D-51AC-4E6F-87F4-25C1C0DB0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5D685-65A7-4804-BAC5-DA88F8F57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9CF0A-842D-4CB5-BAC2-5DA4C0C8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5DBDF-4EF2-4E7C-9830-16C676702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EE3D3-EF4C-4FEB-A121-F19F14944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F96AC-8AB9-4F08-B06A-012356225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561D1-8F06-476C-B08D-A7F662D27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A2C57-196F-489F-BD8E-C72A80102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EE13C-D588-48FD-B994-185624D1C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5DE5-5E88-47E0-8CFC-135749E76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C047-DD70-4499-A94A-06512111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2A27-8F65-4452-AFEF-2399D41C4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DFA09-5872-4861-B8A0-6AE5239CA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DFAC-BA98-4BF7-A905-96EFCC34C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tl.uhcl.edu/pls/portal/PORTALP.home"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lumbia.edu/cu/ssw/write/hanouts/summary.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560" y="2590560"/>
            <a:ext cx="647676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versity of Houston-Clear Lak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Cent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4" descr="UHCL Banner">
            <a:hlinkClick r:id="rId1"/>
          </p:cNvPr>
          <p:cNvPicPr/>
          <p:nvPr/>
        </p:nvPicPr>
        <p:blipFill>
          <a:blip r:embed="rId2"/>
          <a:stretch/>
        </p:blipFill>
        <p:spPr>
          <a:xfrm>
            <a:off x="838080" y="838080"/>
            <a:ext cx="7620120" cy="1219320"/>
          </a:xfrm>
          <a:prstGeom prst="rect">
            <a:avLst/>
          </a:prstGeom>
          <a:ln w="0">
            <a:noFill/>
          </a:ln>
        </p:spPr>
      </p:pic>
      <p:pic>
        <p:nvPicPr>
          <p:cNvPr id="50" name="Picture 11" descr="BD21548_"/>
          <p:cNvPicPr/>
          <p:nvPr/>
        </p:nvPicPr>
        <p:blipFill>
          <a:blip r:embed="rId3"/>
          <a:stretch/>
        </p:blipFill>
        <p:spPr>
          <a:xfrm>
            <a:off x="1828800" y="6172200"/>
            <a:ext cx="5715000" cy="95400"/>
          </a:xfrm>
          <a:prstGeom prst="rect">
            <a:avLst/>
          </a:prstGeom>
          <a:ln w="0">
            <a:noFill/>
          </a:ln>
        </p:spPr>
      </p:pic>
      <p:sp>
        <p:nvSpPr>
          <p:cNvPr id="51" name="TextBox 4"/>
          <p:cNvSpPr/>
          <p:nvPr/>
        </p:nvSpPr>
        <p:spPr>
          <a:xfrm>
            <a:off x="2362320" y="5638680"/>
            <a:ext cx="4647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ed in 19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Group work.BMP"/>
          <p:cNvPicPr/>
          <p:nvPr/>
        </p:nvPicPr>
        <p:blipFill>
          <a:blip r:embed="rId4"/>
          <a:stretch/>
        </p:blipFill>
        <p:spPr>
          <a:xfrm>
            <a:off x="3505320" y="3733920"/>
            <a:ext cx="2361960" cy="17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990720" y="228600"/>
            <a:ext cx="7238880" cy="183924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Meaningful Transitions</a:t>
            </a:r>
            <a:endParaRPr b="0" lang="en-US" sz="2400" spc="-1" strike="noStrike">
              <a:solidFill>
                <a:srgbClr val="000000"/>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5"/>
          <p:cNvSpPr/>
          <p:nvPr/>
        </p:nvSpPr>
        <p:spPr>
          <a:xfrm>
            <a:off x="1143000" y="1905120"/>
            <a:ext cx="7162920" cy="471780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mmary presents information to the reader in an order determined by the purpose of your research project.  Use transitions to show the reader how you are arranging the parts of the review.</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first researchers to investigate this problem is Chen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Jones counter Chen’s argumen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becomes more complex when a third school of thought is considered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earcher who agrees with Chen is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fferent approach to this question looks at problems in y</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troublesome problems is addressed by Green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blem with this approach is tha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nt study adds this to the mix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rucial issue that has not been addressed is z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914400" y="380880"/>
            <a:ext cx="731520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ctive Verb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11" descr="BD21548_"/>
          <p:cNvPicPr/>
          <p:nvPr/>
        </p:nvPicPr>
        <p:blipFill>
          <a:blip r:embed="rId1"/>
          <a:stretch/>
        </p:blipFill>
        <p:spPr>
          <a:xfrm>
            <a:off x="1676520" y="6172200"/>
            <a:ext cx="5715000" cy="95400"/>
          </a:xfrm>
          <a:prstGeom prst="rect">
            <a:avLst/>
          </a:prstGeom>
          <a:ln w="0">
            <a:noFill/>
          </a:ln>
        </p:spPr>
      </p:pic>
      <p:sp>
        <p:nvSpPr>
          <p:cNvPr id="83" name="TextBox 4"/>
          <p:cNvSpPr/>
          <p:nvPr/>
        </p:nvSpPr>
        <p:spPr>
          <a:xfrm>
            <a:off x="1981080" y="3809880"/>
            <a:ext cx="59436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990720" y="2057400"/>
          <a:ext cx="7391160" cy="3276720"/>
        </p:xfrm>
        <a:graphic>
          <a:graphicData uri="http://schemas.openxmlformats.org/drawingml/2006/table">
            <a:tbl>
              <a:tblPr/>
              <a:tblGrid>
                <a:gridCol w="1477800"/>
                <a:gridCol w="1478160"/>
                <a:gridCol w="1479240"/>
                <a:gridCol w="1478160"/>
                <a:gridCol w="1477800"/>
              </a:tblGrid>
              <a:tr h="73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s neut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m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rg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dis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r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m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ul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Box 6"/>
          <p:cNvSpPr/>
          <p:nvPr/>
        </p:nvSpPr>
        <p:spPr>
          <a:xfrm>
            <a:off x="1066680" y="2057400"/>
            <a:ext cx="731520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the author (last name only) and provide the date as you summarize: “Smith (2005) argued that x was always true, while Jones (2007) has demonstrated through his research that it is no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citation does not appear in your text, place it in parentheses at the end of the relevant sentence: “Neither of these views is true, however, as has been amply demonstrated by more recent research” (e.g., Black, 2007; White,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a reference to an additional text, cite the primary and then give your reader a cue: (Clark, 2007; see also Diepenbrock,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Box 6"/>
          <p:cNvSpPr/>
          <p:nvPr/>
        </p:nvSpPr>
        <p:spPr>
          <a:xfrm>
            <a:off x="1066680" y="2057400"/>
            <a:ext cx="7315200" cy="42310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more than four authors, use all names in the first reference and then et al. for subsequent reference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six or more, use the primary author’s name and et al.</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rticle does not have an author, cite the title of the text using quotation marks or italics as appropri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no page or date, use n.p. or n.d.</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new paragraph begin citations again.</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Box 6"/>
          <p:cNvSpPr/>
          <p:nvPr/>
        </p:nvSpPr>
        <p:spPr>
          <a:xfrm>
            <a:off x="1447920" y="2209680"/>
            <a:ext cx="6553080" cy="3987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I. L. (2007).  </a:t>
            </a:r>
            <a:r>
              <a:rPr b="0" i="1" lang="en-US" sz="1600" spc="-1" strike="noStrike">
                <a:solidFill>
                  <a:srgbClr val="000000"/>
                </a:solidFill>
                <a:latin typeface="Arial"/>
              </a:rPr>
              <a:t>Writing the successful thesis and dissertation: Entering the conversation</a:t>
            </a:r>
            <a:r>
              <a:rPr b="0" lang="en-US" sz="1600" spc="-1" strike="noStrike">
                <a:solidFill>
                  <a:srgbClr val="000000"/>
                </a:solidFill>
                <a:latin typeface="Arial"/>
              </a:rPr>
              <a:t>.  N. J.: Prentice Hal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bia University Writing Center. (2008). </a:t>
            </a:r>
            <a:r>
              <a:rPr b="0" i="1" lang="en-US" sz="1600" spc="-1" strike="noStrike">
                <a:solidFill>
                  <a:srgbClr val="000000"/>
                </a:solidFill>
                <a:latin typeface="Arial"/>
              </a:rPr>
              <a:t>Writing summaries</a:t>
            </a:r>
            <a:r>
              <a:rPr b="0" lang="en-US" sz="1600" spc="-1" strike="noStrike">
                <a:solidFill>
                  <a:srgbClr val="000000"/>
                </a:solidFill>
                <a:latin typeface="Arial"/>
              </a:rPr>
              <a:t>. Retrieved July 1, 2008 from </a:t>
            </a:r>
            <a:r>
              <a:rPr b="0" lang="en-US" sz="1600" spc="-1" strike="noStrike" u="sng">
                <a:solidFill>
                  <a:srgbClr val="009999"/>
                </a:solidFill>
                <a:uFillTx/>
                <a:latin typeface="Arial"/>
                <a:hlinkClick r:id="rId1"/>
              </a:rPr>
              <a:t>http://www.columbia.edu/cu/ssw/write/hanouts/summary.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ylor, D. and Procter, M. (2008).  </a:t>
            </a:r>
            <a:r>
              <a:rPr b="0" i="1" lang="en-US" sz="1600" spc="-1" strike="noStrike">
                <a:solidFill>
                  <a:srgbClr val="000000"/>
                </a:solidFill>
                <a:latin typeface="Arial"/>
              </a:rPr>
              <a:t>The literature review: A few tips on conducting it</a:t>
            </a:r>
            <a:r>
              <a:rPr b="0" lang="en-US" sz="1600" spc="-1" strike="noStrike">
                <a:solidFill>
                  <a:srgbClr val="000000"/>
                </a:solidFill>
                <a:latin typeface="Arial"/>
              </a:rPr>
              <a:t>. Retrieved June 24, 2008 from</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utoronto.ca/litrev.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versity of Wisconsin-Madison Writing Center. </a:t>
            </a:r>
            <a:r>
              <a:rPr b="0" i="1" lang="en-US" sz="1600" spc="-1" strike="noStrike">
                <a:solidFill>
                  <a:srgbClr val="000000"/>
                </a:solidFill>
                <a:latin typeface="Arial"/>
              </a:rPr>
              <a:t>Review of literature.</a:t>
            </a:r>
            <a:r>
              <a:rPr b="0" lang="en-US" sz="1600" spc="-1" strike="noStrike">
                <a:solidFill>
                  <a:srgbClr val="000000"/>
                </a:solidFill>
                <a:latin typeface="Arial"/>
              </a:rPr>
              <a:t> Retrieved June 24, 2008 from http://www.wisc.edu/writing/Handbook/ReviewofLiterature.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Library, University of California, Santa Cruz.  </a:t>
            </a:r>
            <a:r>
              <a:rPr b="0" i="1" lang="en-US" sz="1600" spc="-1" strike="noStrike">
                <a:solidFill>
                  <a:srgbClr val="000000"/>
                </a:solidFill>
                <a:latin typeface="Arial"/>
              </a:rPr>
              <a:t>How to write a literature review.</a:t>
            </a:r>
            <a:r>
              <a:rPr b="0" lang="en-US" sz="1600" spc="-1" strike="noStrike">
                <a:solidFill>
                  <a:srgbClr val="000000"/>
                </a:solidFill>
                <a:latin typeface="Arial"/>
              </a:rPr>
              <a:t>  Retrieved June 24, 2008 from http://library.ucsc.edu/ref/howto/literaturereveiw.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Picture 11" descr="BD21548_"/>
          <p:cNvPicPr/>
          <p:nvPr/>
        </p:nvPicPr>
        <p:blipFill>
          <a:blip r:embed="rId2"/>
          <a:stretch/>
        </p:blipFill>
        <p:spPr>
          <a:xfrm>
            <a:off x="167652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6"/>
          <p:cNvSpPr/>
          <p:nvPr/>
        </p:nvSpPr>
        <p:spPr>
          <a:xfrm>
            <a:off x="1447920" y="2362320"/>
            <a:ext cx="65530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klen, S. K. and Casella, R. (2007).  </a:t>
            </a:r>
            <a:r>
              <a:rPr b="0" i="1" lang="en-US" sz="1600" spc="-1" strike="noStrike">
                <a:solidFill>
                  <a:srgbClr val="000000"/>
                </a:solidFill>
                <a:latin typeface="Arial"/>
              </a:rPr>
              <a:t>A practical guide to the qualitative dissertation</a:t>
            </a:r>
            <a:r>
              <a:rPr b="0" lang="en-US" sz="1600" spc="-1" strike="noStrike">
                <a:solidFill>
                  <a:srgbClr val="000000"/>
                </a:solidFill>
                <a:latin typeface="Arial"/>
              </a:rPr>
              <a:t>. N.Y.: Teachers College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ker, J. (1998). </a:t>
            </a:r>
            <a:r>
              <a:rPr b="0" i="1" lang="en-US" sz="1600" spc="-1" strike="noStrike">
                <a:solidFill>
                  <a:srgbClr val="000000"/>
                </a:solidFill>
                <a:latin typeface="Arial"/>
              </a:rPr>
              <a:t>Writing your dissertation in fifteen minutes a day: A guide to starting, revising, and finishing your doctoral thesis</a:t>
            </a:r>
            <a:r>
              <a:rPr b="0" lang="en-US" sz="1600" spc="-1" strike="noStrike">
                <a:solidFill>
                  <a:srgbClr val="000000"/>
                </a:solidFill>
                <a:latin typeface="Arial"/>
              </a:rPr>
              <a:t>. N. Y.: Hol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 H. (1998). </a:t>
            </a:r>
            <a:r>
              <a:rPr b="0" i="1" lang="en-US" sz="1600" spc="-1" strike="noStrike">
                <a:solidFill>
                  <a:srgbClr val="000000"/>
                </a:solidFill>
                <a:latin typeface="Arial"/>
              </a:rPr>
              <a:t>Synthesizing research: A guide for literature reviews</a:t>
            </a:r>
            <a:r>
              <a:rPr b="0" lang="en-US" sz="1600" spc="-1" strike="noStrike">
                <a:solidFill>
                  <a:srgbClr val="000000"/>
                </a:solidFill>
                <a:latin typeface="Arial"/>
              </a:rPr>
              <a:t>. Thousand Oaks, CA: Sage Publica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van, J. L. (2003). </a:t>
            </a:r>
            <a:r>
              <a:rPr b="0" i="1" lang="en-US" sz="1600" spc="-1" strike="noStrike">
                <a:solidFill>
                  <a:srgbClr val="000000"/>
                </a:solidFill>
                <a:latin typeface="Arial"/>
              </a:rPr>
              <a:t>Writing literature reviews</a:t>
            </a:r>
            <a:r>
              <a:rPr b="0" lang="en-US" sz="1600" spc="-1" strike="noStrike">
                <a:solidFill>
                  <a:srgbClr val="000000"/>
                </a:solidFill>
                <a:latin typeface="Arial"/>
              </a:rPr>
              <a:t>: </a:t>
            </a:r>
            <a:r>
              <a:rPr b="0" i="1" lang="en-US" sz="1600" spc="-1" strike="noStrike">
                <a:solidFill>
                  <a:srgbClr val="000000"/>
                </a:solidFill>
                <a:latin typeface="Arial"/>
              </a:rPr>
              <a:t>A guide for students of the social and behavioral sciences</a:t>
            </a:r>
            <a:r>
              <a:rPr b="0" lang="en-US" sz="1600" spc="-1" strike="noStrike">
                <a:solidFill>
                  <a:srgbClr val="000000"/>
                </a:solidFill>
                <a:latin typeface="Arial"/>
              </a:rPr>
              <a:t>. Los Angeles: Pyrczak Publishing.</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mas, R. M. and Brubaker, D.L. (2007). </a:t>
            </a:r>
            <a:r>
              <a:rPr b="0" i="1" lang="en-US" sz="1600" spc="-1" strike="noStrike">
                <a:solidFill>
                  <a:srgbClr val="000000"/>
                </a:solidFill>
                <a:latin typeface="Arial"/>
              </a:rPr>
              <a:t>Theses and dissertations: A guide to planning, research, and writing</a:t>
            </a:r>
            <a:r>
              <a:rPr b="0" lang="en-US" sz="1600" spc="-1" strike="noStrike">
                <a:solidFill>
                  <a:srgbClr val="000000"/>
                </a:solidFill>
                <a:latin typeface="Arial"/>
              </a:rPr>
              <a:t>. Thousand Oaks, CA: Corwin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2666520"/>
            <a:ext cx="6400800" cy="16002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further assistance, visit us onlin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uhcl.edu/writingcenter</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3" descr="UHCL Banner"/>
          <p:cNvPicPr/>
          <p:nvPr/>
        </p:nvPicPr>
        <p:blipFill>
          <a:blip r:embed="rId1"/>
          <a:stretch/>
        </p:blipFill>
        <p:spPr>
          <a:xfrm>
            <a:off x="838080" y="838080"/>
            <a:ext cx="7620120" cy="1219320"/>
          </a:xfrm>
          <a:prstGeom prst="rect">
            <a:avLst/>
          </a:prstGeom>
          <a:ln w="0">
            <a:noFill/>
          </a:ln>
        </p:spPr>
      </p:pic>
      <p:pic>
        <p:nvPicPr>
          <p:cNvPr id="99" name="Picture 4" descr="BD21548_"/>
          <p:cNvPicPr/>
          <p:nvPr/>
        </p:nvPicPr>
        <p:blipFill>
          <a:blip r:embed="rId2"/>
          <a:stretch/>
        </p:blipFill>
        <p:spPr>
          <a:xfrm>
            <a:off x="1676520" y="6172200"/>
            <a:ext cx="5715000" cy="95400"/>
          </a:xfrm>
          <a:prstGeom prst="rect">
            <a:avLst/>
          </a:prstGeom>
          <a:ln w="0">
            <a:noFill/>
          </a:ln>
        </p:spPr>
      </p:pic>
      <p:pic>
        <p:nvPicPr>
          <p:cNvPr id="100" name="Picture 5" descr="three at table (with Imee)"/>
          <p:cNvPicPr/>
          <p:nvPr/>
        </p:nvPicPr>
        <p:blipFill>
          <a:blip r:embed="rId3"/>
          <a:stretch/>
        </p:blipFill>
        <p:spPr>
          <a:xfrm>
            <a:off x="3505320" y="4267080"/>
            <a:ext cx="2514600" cy="1741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 Successful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6"/>
          <p:cNvSpPr/>
          <p:nvPr/>
        </p:nvSpPr>
        <p:spPr>
          <a:xfrm>
            <a:off x="1295280" y="1981080"/>
            <a:ext cx="6553440" cy="39877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rite the successful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purpose of the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logical structur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rack of source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common problem.</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ummarize effe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a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strong transition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ctive verb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ite using APA-Style documentation</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use the official manual.</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n doubt, look it up.</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riginal sources whenever possibl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urpose of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6"/>
          <p:cNvSpPr/>
          <p:nvPr/>
        </p:nvSpPr>
        <p:spPr>
          <a:xfrm>
            <a:off x="1295280" y="2209680"/>
            <a:ext cx="6553440" cy="25275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xplain the historical background of a topic</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ynthesize the available researc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note areas of disagree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light gaps in the existing research</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justify the topic you plan to investig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ing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Box 6"/>
          <p:cNvSpPr/>
          <p:nvPr/>
        </p:nvSpPr>
        <p:spPr>
          <a:xfrm>
            <a:off x="1143000" y="1828800"/>
            <a:ext cx="6553080" cy="3744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ffective Literature Review will be organized according to your topic and the themes and problems identified by the research in the field.  In general, try to do the followin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text by defining or introducing the problem/issue to be discussed.</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rends in publications, problems in research, conflicting theor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your purpose in reviewing the literatur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studies according to commonalities– approach, attitude, finding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individual stud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current body of knowledg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de by explaining how your study will add to the body of knowledge.</a:t>
            </a:r>
            <a:endParaRPr b="0" lang="en-US" sz="1600" spc="-1" strike="noStrike">
              <a:solidFill>
                <a:srgbClr val="000000"/>
              </a:solidFill>
              <a:latin typeface="Arial"/>
            </a:endParaRPr>
          </a:p>
        </p:txBody>
      </p:sp>
      <p:pic>
        <p:nvPicPr>
          <p:cNvPr id="61"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ing Track of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5"/>
          <p:cNvSpPr/>
          <p:nvPr/>
        </p:nvSpPr>
        <p:spPr>
          <a:xfrm>
            <a:off x="1523880" y="1828800"/>
            <a:ext cx="586764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each source and keep full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notes as you read.  You can do this on the computer or in a large notebook, but be sure to give yourself plenty of spac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up and save quotes you like with full documentation.  These can be cut and pasted into your main doc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 preformatted source sheet.  (See handout)</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program like Endnote to take notes and keep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e notes by keeping a separate sheet that organizes sources by issue/arg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 with Literature Review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
          <p:cNvSpPr/>
          <p:nvPr/>
        </p:nvSpPr>
        <p:spPr>
          <a:xfrm>
            <a:off x="1295280" y="1905120"/>
            <a:ext cx="6400800" cy="526644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o avoid the following mistakes writers sometimes make when writing the lit review</a:t>
            </a:r>
            <a:r>
              <a:rPr b="0" lang="en-US" sz="1800" spc="-1" strike="noStrike">
                <a:solidFill>
                  <a:srgbClr val="000000"/>
                </a:solidFill>
                <a:latin typeface="Arial"/>
              </a:rPr>
              <a:t>:</a:t>
            </a:r>
            <a:endParaRPr b="0" lang="en-US" sz="18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every source, regardless of its value or pertinence to your topic.</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ing without relating the source to your topic or the view you are creating of the body of research.  Remember that the literature review is an argumentative piece.</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the discussion in an ineffective manner: for example, chronologically instead of by specific issue or school of thought.</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ing track of sources and spending valuable time searching for them.</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quing the Liter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5"/>
          <p:cNvSpPr/>
          <p:nvPr/>
        </p:nvSpPr>
        <p:spPr>
          <a:xfrm>
            <a:off x="1447920" y="2133720"/>
            <a:ext cx="60958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read the relevant research in the field, evaluate it by asking the following ques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 author clearly defined the problem/issu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the problem have been approached more effectively from a different perspectiv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author show bia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author’s theoretical approach?</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good is the study design?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valid are the result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flaws in the logic of the discuss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work contribute to the discipline’s understanding of the problem?</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oblems has the author avoided or igno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11" descr="BD21548_"/>
          <p:cNvPicPr/>
          <p:nvPr/>
        </p:nvPicPr>
        <p:blipFill>
          <a:blip r:embed="rId1"/>
          <a:stretch/>
        </p:blipFill>
        <p:spPr>
          <a:xfrm>
            <a:off x="1600200" y="609588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n Effective Summa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5"/>
          <p:cNvSpPr/>
          <p:nvPr/>
        </p:nvSpPr>
        <p:spPr>
          <a:xfrm>
            <a:off x="914400" y="1905120"/>
            <a:ext cx="754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6"/>
          <p:cNvSpPr/>
          <p:nvPr/>
        </p:nvSpPr>
        <p:spPr>
          <a:xfrm>
            <a:off x="1219320" y="2133720"/>
            <a:ext cx="6553080" cy="3288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Use your own words to express the main idea and relevant details of the piece you have read.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a condensed version of the original reading.</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your understanding of the original tex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your review in the manner the best suits your purpos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some concepts and terms cannot be summarized:  Piaget’s Concrete Operations cannot be summarized as “Asphalt Function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914400" y="380880"/>
            <a:ext cx="7315200" cy="15958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Activel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6"/>
          <p:cNvSpPr/>
          <p:nvPr/>
        </p:nvSpPr>
        <p:spPr>
          <a:xfrm>
            <a:off x="1447920" y="1981080"/>
            <a:ext cx="655308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original text quickly to assess its value and get an impression of its main poin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text more slowly a second time, highlighting important point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rite an informal account of what you have read.</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write your account using more formal languag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re your draft to the original to be sure you have not used the author’s language and that you have represented the author’s ideas accurately and fairly.</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4:28:25Z</dcterms:created>
  <dc:creator>DIEPENBROCK</dc:creator>
  <dc:description/>
  <dc:language>en-US</dc:language>
  <cp:lastModifiedBy>MAMA</cp:lastModifiedBy>
  <dcterms:modified xsi:type="dcterms:W3CDTF">2009-07-28T05:34:04Z</dcterms:modified>
  <cp:revision>127</cp:revision>
  <dc:subject/>
  <dc:title>Slide 1</dc:title>
</cp:coreProperties>
</file>