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3FF-034F-47DB-AAE4-346194FC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AD0-3104-43B8-AD49-1E3705E5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AB9-3D28-4D1A-B27F-2705389F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1D6-897A-41EB-800F-DBA368F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90BF-2E9F-467B-8EBE-E6C219C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85F79-6C0D-4C28-9E58-88C8F8FD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2A9E0-CF88-48EF-8226-C3FB0CE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EBD1D-8FE3-4CF0-8187-6284214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75661-F68E-4D35-BDAD-3646C94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F461B-02E6-4408-8B40-9A6E969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9E1A2-4056-40B4-BEB6-A6630BC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9F0A-206D-4F05-A10F-AFC61FEA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67DA4-70CB-462B-B6D9-19C06EEC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D532D-1B28-46D6-A0ED-ECF7AC0A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C98-D801-449E-B687-48D6F6F7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FDC4-9FEF-4397-B05F-8D003C89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9200E-4E15-45C1-ACE2-5549C033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C916A-8180-4642-9BA7-4F54D51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FFC48-77E7-47D3-B296-0D7DCBB2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35B0D-0799-4627-B84C-8F1C700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5677C-FF96-4F9B-846C-3AD5C01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81AB2-3670-4C97-8946-E160117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07909-4C85-4993-96F0-C6FFC7C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DD61D-C6B4-4990-8893-2B521F2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1EB0C-5A1C-4DBE-9D20-1F976F46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0B7-D2C5-4573-AE48-D2E22236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41DF-AC31-48D7-9F77-569F4373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73A7A-7C2D-4CB7-8552-5237A581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2C6F-99BF-4727-B048-AE13FA9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B5BE9-6C03-49F4-B1F5-A3B694B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A884-8EAF-49FB-A66D-9AB0967A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98444-FC40-4F60-9FCC-09EDA9CC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868F-E5C6-4ADB-B33F-B67D2DA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3997B-063B-4CB2-A82F-B4B17DD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7592-72E6-4332-92E3-7A3B0F2D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E0EF8-199C-485E-BE08-C498CB3F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8221-D2E6-46A0-8F91-BE5142C8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C500A-30AD-4BC7-A29B-BCC0B975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8829D-7648-42C2-AA4B-BE82573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9F72-9B70-4886-8B71-CAA5608C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16666-1C5D-44CB-8D39-9CE725C1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F5473-A6FD-4554-8A29-6601411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89014-CDCE-4503-8583-4B733C7D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52F21-1A83-4257-88D3-83B7E1B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AB1FF-BCB0-41A0-A314-1779C64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2D6A8-D70D-4644-A70A-C8CFBC6D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39CD3-A027-49C4-946D-F563195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9C4-07DC-49C7-91E2-AAC3922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C7B01-EA9F-4EBB-AC8D-FAB3196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71323-342A-4F98-B41D-CA4C608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3E54F-DA59-45D8-A65F-82AE355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B5AA3-2638-4812-91EF-0522D225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4266B-D150-41F2-B1DD-D6EBBDC3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FC0A1-C324-442D-BB2B-971AF5C0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CF8B3-2120-466C-8A55-ACD9BE98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4BAE4-3B01-4F0F-BFDB-75C72E7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86F19-FD51-4088-B8E2-3A2F102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CB2AA-763C-4B32-8C52-403F252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0F25-C4FC-4DC6-878B-3D9298BA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DAB7-A3A6-4F89-9758-2B88767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D502A-F8D3-480A-A78A-2A7B985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F4810-9135-4288-AB9D-5CAC0DF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B48AD-2952-414C-AFCD-3D86ABBA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0DE36-5038-4BC0-BFCF-E7AFBD93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FBB27-E84B-4304-AB4D-1799384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4F3B2-DB6D-453E-ABB0-18CC03BC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44172-D568-4EC1-838F-34B97353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919A2-5CC2-4C2A-B1FF-6922BF94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5D5D0-5E36-45D4-8C1C-78AFDB3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92F-B42F-44E6-B2BB-AEE5281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41F40-713D-479A-ACE1-A7332B1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47F72-F7E1-4534-ADEA-5B3E203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CD61C-1DAA-44BC-9351-C3F7F3A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76440-BB73-4BF6-A693-408FAB10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7C63F-9C81-4C9C-A42D-BF182B7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B1648-EDA3-478B-B105-4DE0D1E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C629A-3AEC-4609-ACD4-99E4707B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01D5E-A30F-4421-95A9-D67577CA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D1C77-E786-4E0C-B36E-CE676FE3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CEE1B-2A74-4CBB-9F2A-22EE4E9D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A5E-AAC9-42C8-BD2F-E7531B5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9A169-1CD3-402B-8B0A-44D52B8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5E3ED-394C-4BA0-AF2A-1AD5F5D6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45772-32C4-4209-A1A7-AFEB8C9F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DC30D-2A86-4851-A123-CBC0917E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F8737-8AE6-4A9B-A3E8-DCF0BFA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28334-9CE3-45ED-94ED-F3010B0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549E8-4C2F-4678-8234-2F55372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3F1E4-EBA0-4ABD-804F-AC0D3B5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162DD-1E0E-4803-817F-17442D86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E5ADA-B60C-48C1-970B-B342F497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50D-59A5-4677-AAA6-3914A91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2C8D7-B9FD-490E-810E-D7A8AB6E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99FF-27F8-4299-9043-FF18208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3FA-445B-4BB6-9379-226DCB5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5F57-12D2-4CE0-B459-DE3EEDF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226-CE1F-4BCF-BCCF-853C5F25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3650-6ED6-46D9-865E-AFE31B8A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4F0A-9EE1-4B01-8601-55E2A2A4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F4BB-F39D-437A-8C12-F1533439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2B28-1E08-4B3B-927C-BBAB86ED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61CD-493C-41C4-8CC5-786F9EB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0532-0ECD-4C24-824C-4BF9E07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CEA2-1A8F-4A2B-9D2D-66DDFED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C9DA-8DE2-4ADF-A817-3F803721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C6D-FABB-4BE5-A7D3-48A9F1D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B367-95FE-41E2-B025-AAED6E6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6BAC-AA68-4646-A22B-F566E5F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F1DB-9C81-4BE6-992E-86DE48F1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1536-BEEA-44DB-A272-BA84B1D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859C-7312-4D9B-908C-3D85172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B3ED-8DC5-4BCC-B023-6DB23B29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00D0-AD6C-43D7-8872-A69FC3A0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78B3-1C6C-4166-A3A4-F79DC4F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6536-ABAD-433A-A609-73BB70B5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3718-FFC8-48D4-811B-BD296695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782-35DF-4043-9349-53952FC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9695-4ACC-42BF-9C8B-BC6523E2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0745-B299-4918-B573-138AA8F2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64D3-C23B-44BF-A58B-35DB008C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B641-DBDD-4F70-A7DF-7A8E725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AB3D-EC6A-43E9-9624-A9E2142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F707-9494-4115-8AB3-87AD80C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9B9FC-C749-469C-B8B9-1A29694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21C4-3212-45F0-A693-3D14F611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CD36-4330-4799-A3C8-33CF48FE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A8F5-F6E9-4662-9DF0-BECA45E9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F7C-1291-4F3F-B22C-EAAEA631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D0BA-B9A5-48A3-AD84-3618C0D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91C2-45E2-4C2D-9BE8-5CBFA83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F3E67-F88A-4140-884C-6AA2BAF8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14A6-A088-4FAF-8FC8-E1EF32D6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D878-5D20-422B-9F7E-1598080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B979B-8BF7-4461-B9C3-6E2DE787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B6A1-AAB0-4F75-A1AD-DD21706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DE99-A647-46C9-900F-CD88847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7DD8-1EE2-4D89-9F87-7A817FA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62BF-D4C0-494E-9AAA-8D9DCC00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B54-6753-4C23-A724-9D33938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AF35-B2A9-489E-A450-315A50F8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C583-384E-48A2-B898-8CDE23CF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34DC0-3E82-41D0-9466-B5F7A9D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86AA3-7EBF-45D5-A5FE-F430003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F423-EEC9-481E-A79E-965A7D9E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90E4-9834-4CFF-8CA4-F258F2D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72DE-D9B5-4561-A781-F913A53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9BCB-CE21-4C44-9C62-EF51598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B7EE-7737-407B-B4A2-49C9CFC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367B8-B3E2-4E69-9857-D9419B9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DBD-622E-4718-9732-50E70C2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1F25-33FB-482F-964E-43895265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6483-5B8D-450D-8969-CAF26B74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076B-0353-47EC-B193-DE2FFD3B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A6D8-AC54-4967-A0B8-A21632F9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8848-6586-464A-B8BE-CBBEDCA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16700-898F-4881-89FB-E71B77A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3C878-B0DB-4A14-92B9-8D287400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ED94-164C-4D14-83FF-3911DA2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A503-E78A-407F-A00F-520BA447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21D5-2331-49DC-986A-DEAB615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B79-EB85-40CD-AC2E-DDE6012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F38A-BC92-4AC2-9B41-810B2D26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6DF01-B27E-4C81-9BEA-422809C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8062-EC02-455E-AA4A-EEA4767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1BBD-E0DE-4832-8B62-9104D661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53E29-F2DA-4463-B37C-0A3408D9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4313-64D3-402E-BFA5-389EB6F8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FCAC-5AA6-40A2-B081-1268E34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6400-59E5-49A8-966C-AD535D0C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70575-39CB-4AA5-8E3C-55DD6217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2684-B1FC-4079-902C-4D0009DA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ACB-2851-4AEB-8F02-6E35380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D11E-2032-4A5A-B958-FDE34668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10BC-19D8-4085-BDFA-C903949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8C1B2-7098-4BF9-B38E-B97DF2C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BEEFE-4D6B-4F37-A9D1-808E32D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E20D-DDD9-45CB-A576-72AF0AB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91545-67B8-4723-895C-05F423E9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5C286-54CD-49B4-B0D0-F6E51607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D6077-7D09-4EF9-9ACA-8FAC046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9679C-2D4F-437D-A577-2290D56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7635-3392-44A8-8FBE-4FC2D95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E2F5-BE66-40BC-A1F1-A34E92D16C7B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7CC-836B-4C4A-BFE7-BB691FA68D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1CB-18B6-405E-9E29-4E88E748BB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1F4E-7CF0-4248-8EA2-8938FAE6A1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30F-07B9-4101-8C33-877516B7CD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1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1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CADE-1875-443C-A574-ADE59C431E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1654-1B24-49A3-A9E0-75325A9BAF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FEE-5A0A-4CD6-99BF-7D59C0D4A0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980F-9BF4-4375-842B-BC0395CAE6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D33C-73A5-4372-96DA-0AD191FE1A72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319C-503D-4F4E-B07E-C719A181070D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62AB-0B29-4BF4-8756-8B6983A244F2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D43-26BA-4811-A43C-32674E0A26D7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B83-C992-4C0F-ADAB-FACB681DA0A4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81BB-B422-4D1D-A0C6-65B7D93B799A}" type="slidenum">
              <a:rPr b="0" lang="en-US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hl2332ak.wikispaces.com/ASSESSMENT+2" TargetMode="External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.custominsight.com/demo/form_widgets.rt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1209240" y="828000"/>
            <a:ext cx="7487280" cy="857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    </a:t>
            </a:r>
            <a:r>
              <a:rPr b="1" lang="en-US" sz="4900" spc="-1" strike="noStrike">
                <a:solidFill>
                  <a:srgbClr val="c22ea4"/>
                </a:solidFill>
                <a:latin typeface="Gill Sans MT"/>
              </a:rPr>
              <a:t>DATA COLLECTION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066680" y="28191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ilation and interpretation of primary and secondary sources of inform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tegration of different sources will consolidate the write up of the repor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"/>
          <p:cNvSpPr/>
          <p:nvPr/>
        </p:nvSpPr>
        <p:spPr>
          <a:xfrm>
            <a:off x="152280" y="228600"/>
            <a:ext cx="403884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b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verbal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verbal commun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rounding atmosp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&amp;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"/>
          <p:cNvSpPr/>
          <p:nvPr/>
        </p:nvSpPr>
        <p:spPr>
          <a:xfrm>
            <a:off x="4952880" y="228600"/>
            <a:ext cx="3962520" cy="2133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to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iculous record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"/>
          <p:cNvSpPr/>
          <p:nvPr/>
        </p:nvSpPr>
        <p:spPr>
          <a:xfrm>
            <a:off x="1447920" y="4572000"/>
            <a:ext cx="6095880" cy="20574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done through discuss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s of habits, ritu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 of documen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2ea4"/>
                </a:solidFill>
                <a:latin typeface="Gill Sans MT"/>
              </a:rPr>
              <a:t>Steps To An Effective Observatio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065320" y="1066680"/>
            <a:ext cx="574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Determine what needs to be 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lan, prepare checklist, how to record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3164040" y="2362320"/>
            <a:ext cx="3544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887840" y="3581280"/>
            <a:ext cx="604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enue, duration, recording materials, take photograph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2290320" y="601992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"/>
          <p:cNvSpPr/>
          <p:nvPr/>
        </p:nvSpPr>
        <p:spPr>
          <a:xfrm>
            <a:off x="4857840" y="19810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"/>
          <p:cNvSpPr/>
          <p:nvPr/>
        </p:nvSpPr>
        <p:spPr>
          <a:xfrm>
            <a:off x="485784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3153960" y="487692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mpil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0"/>
          <p:cNvSpPr/>
          <p:nvPr/>
        </p:nvSpPr>
        <p:spPr>
          <a:xfrm>
            <a:off x="4857840" y="4495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485784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Title 2" descr=""/>
          <p:cNvPicPr/>
          <p:nvPr/>
        </p:nvPicPr>
        <p:blipFill>
          <a:blip r:embed="rId1"/>
          <a:stretch/>
        </p:blipFill>
        <p:spPr>
          <a:xfrm>
            <a:off x="-311040" y="-360360"/>
            <a:ext cx="9637560" cy="19512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155160" y="1676520"/>
            <a:ext cx="8836200" cy="49528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1000"/>
          </a:bodyPr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Decide what kind of data collection instrument(s )that you want to use – refer to your proposal – any change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questionnaire – do you have the established/ ready set of questions? If not, you have to find one, or, come up with your own. (this will take some times and should be done with great detail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e7b6"/>
                </a:solidFill>
                <a:latin typeface="Constantia"/>
              </a:rPr>
              <a:t>If you choose to do interview, you need to decide on the details – how many participants, questions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76080" indent="-676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you choose to do observation, detail out your process – how many, how large, where, how long, etc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Title 2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9468000" cy="8240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55160" y="990360"/>
            <a:ext cx="8836200" cy="5638680"/>
          </a:xfrm>
          <a:prstGeom prst="rect">
            <a:avLst/>
          </a:prstGeom>
          <a:noFill/>
          <a:ln w="50760">
            <a:solidFill>
              <a:srgbClr val="dbe7b6"/>
            </a:solidFill>
            <a:miter/>
          </a:ln>
        </p:spPr>
        <p:txBody>
          <a:bodyPr lIns="45720" rIns="45720" anchor="ctr">
            <a:normAutofit fontScale="99000"/>
          </a:bodyPr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eading 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should consist of  2 forms: Reading Log &amp; Index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368720" indent="-735480">
              <a:spcBef>
                <a:spcPts val="451"/>
              </a:spcBef>
              <a:buClr>
                <a:srgbClr val="0bd0d9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You may get the form from </a:t>
            </a: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hl2332ak.wikispaces.com/ASSESSMENT+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rvey questions – ready set (the ones that you found from other sources) </a:t>
            </a: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c9da92"/>
                </a:solidFill>
                <a:latin typeface="Constantia"/>
              </a:rPr>
              <a:t>Proposed survey questions (the ones that you will come up with your ow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interview, you should submit the details of your interview. (Proposed questions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735480" indent="-735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ose who choose to do observation, you should submit the details of your observation. (Proposed venue, how many, when , how long, et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"/>
          <p:cNvSpPr/>
          <p:nvPr/>
        </p:nvSpPr>
        <p:spPr>
          <a:xfrm>
            <a:off x="609480" y="4572000"/>
            <a:ext cx="8001000" cy="1922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n a small scale study, the most common forms of statistical analysis present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609480" y="106668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o analyse data from interviews and observation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10"/>
          <p:cNvSpPr/>
          <p:nvPr/>
        </p:nvSpPr>
        <p:spPr>
          <a:xfrm flipH="1">
            <a:off x="2133360" y="15238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"/>
          <p:cNvSpPr/>
          <p:nvPr/>
        </p:nvSpPr>
        <p:spPr>
          <a:xfrm>
            <a:off x="1294560" y="19051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2"/>
          <p:cNvSpPr/>
          <p:nvPr/>
        </p:nvSpPr>
        <p:spPr>
          <a:xfrm>
            <a:off x="5334120" y="1523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5028840" y="1828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609480" y="2819520"/>
            <a:ext cx="8001000" cy="459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analyse data from questionnaires,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5"/>
          <p:cNvSpPr/>
          <p:nvPr/>
        </p:nvSpPr>
        <p:spPr>
          <a:xfrm flipH="1">
            <a:off x="1905120" y="3276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6"/>
          <p:cNvSpPr/>
          <p:nvPr/>
        </p:nvSpPr>
        <p:spPr>
          <a:xfrm>
            <a:off x="1371600" y="3657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7"/>
          <p:cNvSpPr/>
          <p:nvPr/>
        </p:nvSpPr>
        <p:spPr>
          <a:xfrm>
            <a:off x="54100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8"/>
          <p:cNvSpPr/>
          <p:nvPr/>
        </p:nvSpPr>
        <p:spPr>
          <a:xfrm>
            <a:off x="5486400" y="32767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457200" y="1371600"/>
            <a:ext cx="8153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nvolves 2 term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76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Resul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presentation of data/findings (statistic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6a3"/>
                </a:solidFill>
                <a:latin typeface="Times New Roman"/>
              </a:rPr>
              <a:t>2. 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- interpretation of data/finding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-255600" y="-146160"/>
            <a:ext cx="9406080" cy="914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304920" y="762120"/>
            <a:ext cx="86868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to consider when interpreting your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pret findings based on the purpose and objectives of your stu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e the findings to real life con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persuasive language to convince your readers to see the research from your point of view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ganise your interpretation to highlight the most important find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 limitations to your researc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simple, cle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5"/>
          <p:cNvSpPr/>
          <p:nvPr/>
        </p:nvSpPr>
        <p:spPr>
          <a:xfrm>
            <a:off x="1447920" y="609480"/>
            <a:ext cx="624816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OURCES OF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Line 7"/>
          <p:cNvSpPr/>
          <p:nvPr/>
        </p:nvSpPr>
        <p:spPr>
          <a:xfrm flipH="1">
            <a:off x="2743200" y="190512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5181480" y="1981080"/>
            <a:ext cx="99072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457200" y="2895480"/>
            <a:ext cx="396252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collec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is g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questionnai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s et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4876920" y="2895480"/>
            <a:ext cx="3962160" cy="365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c7b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ondary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iled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ten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rs eg. book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als, news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reference m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COLLECT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Rectangle 9"/>
          <p:cNvSpPr/>
          <p:nvPr/>
        </p:nvSpPr>
        <p:spPr>
          <a:xfrm flipV="1">
            <a:off x="1523880" y="6019920"/>
            <a:ext cx="6324840" cy="457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ANALYSIS AND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0" y="2421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5"/>
          <p:cNvSpPr/>
          <p:nvPr/>
        </p:nvSpPr>
        <p:spPr>
          <a:xfrm>
            <a:off x="0" y="26956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11"/>
          <p:cNvSpPr/>
          <p:nvPr/>
        </p:nvSpPr>
        <p:spPr>
          <a:xfrm>
            <a:off x="0" y="324324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304920" y="3809880"/>
            <a:ext cx="9144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>
            <a:off x="228600" y="990720"/>
            <a:ext cx="8763120" cy="1676160"/>
          </a:xfrm>
          <a:prstGeom prst="downArrowCallout">
            <a:avLst>
              <a:gd name="adj1" fmla="val -129306"/>
              <a:gd name="adj2" fmla="val 169138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a261a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VIEW &amp; COMPILE SECONDARY SOUR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red to in the BACKGROUND/ INTRODUCTION section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5"/>
          <p:cNvSpPr/>
          <p:nvPr/>
        </p:nvSpPr>
        <p:spPr>
          <a:xfrm>
            <a:off x="228600" y="2895480"/>
            <a:ext cx="8763120" cy="2057400"/>
          </a:xfrm>
          <a:prstGeom prst="downArrowCallout">
            <a:avLst>
              <a:gd name="adj1" fmla="val -81406"/>
              <a:gd name="adj2" fmla="val 10648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 &amp; DESIGN DATA COLLECTION INSTR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O GATHER PRIMA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(Referred to in the FINDINGS, CONCLUSIONS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RECOMMENDATIONS sections of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26"/>
          <p:cNvSpPr/>
          <p:nvPr/>
        </p:nvSpPr>
        <p:spPr>
          <a:xfrm>
            <a:off x="2362320" y="5105520"/>
            <a:ext cx="4495680" cy="838080"/>
          </a:xfrm>
          <a:prstGeom prst="downArrowCallout">
            <a:avLst>
              <a:gd name="adj1" fmla="val 134119"/>
              <a:gd name="adj2" fmla="val 134107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4e7e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ETHODS USED TO COLLECT PRIMARY SOURCE DATA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066680" y="1752480"/>
            <a:ext cx="7696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 a small-scale study, the most commonly used methods are interviews, survey questionnaires and observ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8"/>
          <p:cNvSpPr/>
          <p:nvPr/>
        </p:nvSpPr>
        <p:spPr>
          <a:xfrm>
            <a:off x="304920" y="685800"/>
            <a:ext cx="304776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gath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2743200" y="2819520"/>
            <a:ext cx="3429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5486400" y="685800"/>
            <a:ext cx="29718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a2a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s 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n-ver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2209680" y="4572000"/>
            <a:ext cx="4496040" cy="1600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a8a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cond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e to face, by teleph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or  through 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5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/>
          <p:cNvSpPr/>
          <p:nvPr/>
        </p:nvSpPr>
        <p:spPr>
          <a:xfrm>
            <a:off x="4343400" y="38098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1440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Steps To An Effective Inter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174040" y="1484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interview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945440" y="2743200"/>
            <a:ext cx="53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subjects/ key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2670120" y="419112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Conduct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066680" y="5562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 from the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4267080" y="2209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9"/>
          <p:cNvSpPr/>
          <p:nvPr/>
        </p:nvSpPr>
        <p:spPr>
          <a:xfrm>
            <a:off x="42670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"/>
          <p:cNvSpPr/>
          <p:nvPr/>
        </p:nvSpPr>
        <p:spPr>
          <a:xfrm>
            <a:off x="426708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1297080" y="563868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3"/>
          <p:cNvSpPr/>
          <p:nvPr/>
        </p:nvSpPr>
        <p:spPr>
          <a:xfrm>
            <a:off x="228600" y="685800"/>
            <a:ext cx="3809880" cy="1600200"/>
          </a:xfrm>
          <a:prstGeom prst="ellipse">
            <a:avLst/>
          </a:prstGeom>
          <a:gradFill rotWithShape="0">
            <a:gsLst>
              <a:gs pos="0">
                <a:srgbClr val="000092"/>
              </a:gs>
              <a:gs pos="50000">
                <a:srgbClr val="0000ff"/>
              </a:gs>
              <a:gs pos="100000">
                <a:srgbClr val="0000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st 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collection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743200" y="2666880"/>
            <a:ext cx="3429000" cy="1143000"/>
          </a:xfrm>
          <a:prstGeom prst="rect">
            <a:avLst/>
          </a:prstGeom>
          <a:gradFill rotWithShape="0">
            <a:gsLst>
              <a:gs pos="0">
                <a:srgbClr val="d200d2"/>
              </a:gs>
              <a:gs pos="50000">
                <a:srgbClr val="ff00ff"/>
              </a:gs>
              <a:gs pos="100000">
                <a:srgbClr val="d200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"/>
          <p:cNvSpPr/>
          <p:nvPr/>
        </p:nvSpPr>
        <p:spPr>
          <a:xfrm>
            <a:off x="5181480" y="609480"/>
            <a:ext cx="3733920" cy="167652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ful to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ative and quali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457200" y="4572000"/>
            <a:ext cx="8153280" cy="2133720"/>
          </a:xfrm>
          <a:prstGeom prst="ellipse">
            <a:avLst/>
          </a:prstGeom>
          <a:solidFill>
            <a:srgbClr val="ecc5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hould contain 3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troduction – to explain the objec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nstructions – must be clear, simple language &amp;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User-friendly – avoid difficult or ambiguous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7"/>
          <p:cNvSpPr/>
          <p:nvPr/>
        </p:nvSpPr>
        <p:spPr>
          <a:xfrm>
            <a:off x="6400800" y="2514600"/>
            <a:ext cx="76212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8"/>
          <p:cNvSpPr/>
          <p:nvPr/>
        </p:nvSpPr>
        <p:spPr>
          <a:xfrm flipH="1">
            <a:off x="1676520" y="2514600"/>
            <a:ext cx="761760" cy="838080"/>
          </a:xfrm>
          <a:prstGeom prst="pi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9"/>
          <p:cNvSpPr/>
          <p:nvPr/>
        </p:nvSpPr>
        <p:spPr>
          <a:xfrm>
            <a:off x="434340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1604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2 Basic Types of survey questio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990360" y="1143000"/>
            <a:ext cx="373356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88c5"/>
                </a:solidFill>
                <a:latin typeface="Gill Sans MT"/>
              </a:rPr>
              <a:t>Open-ended Ques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e-respon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ext Open En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ll-in relevant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800600" y="1143000"/>
            <a:ext cx="4191120" cy="40384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88c5"/>
                </a:solidFill>
                <a:latin typeface="Gill Sans MT"/>
              </a:rPr>
              <a:t>Close-ended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chotomous qu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-cho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40960" indent="-420480">
              <a:spcBef>
                <a:spcPts val="550"/>
              </a:spcBef>
              <a:buClr>
                <a:srgbClr val="b83d68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990720" y="5715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pecific examples and students’ activities on each question style, please refer to the notes on Data Collection in the e-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76212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s To An Effective Survey Questionnai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990720" y="90324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Prepare your surve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mulate &amp; choose types of questions, order them, write instructions, make cop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90720" y="2514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Select your respondents/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/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990720" y="3581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dminister the survey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e, venue, tim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9907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Analyze and interpret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87692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876920" y="3352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990720" y="47242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entury Gothic"/>
                <a:ea typeface="宋体"/>
              </a:rPr>
              <a:t>Tabulate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atistical analysis-frequency/mean/correlation/%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13"/>
          <p:cNvSpPr/>
          <p:nvPr/>
        </p:nvSpPr>
        <p:spPr>
          <a:xfrm>
            <a:off x="4876920" y="4419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4"/>
          <p:cNvSpPr/>
          <p:nvPr/>
        </p:nvSpPr>
        <p:spPr>
          <a:xfrm>
            <a:off x="4876920" y="5638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5"/>
          <p:cNvSpPr/>
          <p:nvPr/>
        </p:nvSpPr>
        <p:spPr>
          <a:xfrm rot="5400000">
            <a:off x="-2817720" y="2648160"/>
            <a:ext cx="62499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  <a:ea typeface="宋体"/>
              </a:rPr>
              <a:t>A sample of complete survey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de66"/>
                </a:solidFill>
                <a:uFillTx/>
                <a:latin typeface="Century Gothic"/>
                <a:ea typeface="宋体"/>
                <a:hlinkClick r:id="rId5"/>
              </a:rPr>
              <a:t>http://www.custominsight.com/demo/form_widgets.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8:23Z</dcterms:created>
  <dc:creator>CMLHS</dc:creator>
  <dc:description/>
  <dc:language>en-US</dc:language>
  <cp:lastModifiedBy>Lecturer</cp:lastModifiedBy>
  <dcterms:modified xsi:type="dcterms:W3CDTF">2009-08-10T03:33:54Z</dcterms:modified>
  <cp:revision>34</cp:revision>
  <dc:subject/>
  <dc:title>Data Collection</dc:title>
</cp:coreProperties>
</file>