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D7B-E3C0-4319-9FAC-EAE4DE83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B0B5-303F-49B1-8E12-0E3B9562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9FB-2FDB-4C56-B20B-983353F2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6BB-994B-4259-8F3B-795B373D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05022-1049-4936-9316-E29C16B5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90423-0D1E-4BA1-8460-29B76EB8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F8BBC-86A0-427F-AE29-CFADF51F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B4667-B3F8-4FA9-8FBA-22250C91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BE575-6D62-49A3-903B-69293A9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31CF7-BD16-4F8C-8EB6-9A7E35D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DE1F6-5360-431C-AA0E-5333E51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1921E-62F8-4119-855D-4458EDC3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6FAB3-32A5-4E60-A852-D93C1319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52C3E-B9F9-43AE-8CEE-F243F0BF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072-DC06-472B-8C28-AE35731C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7AB85-8793-4808-8464-501B3978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82F7D-10F0-42D6-9C11-A0928581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2E10D-B15C-4804-8921-C74FBEBE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8AE5D-F682-44D6-AF27-B9E2029C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81C8E-BC86-4F86-933D-5246A80A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C28F8-5F2E-4C71-87C5-1190866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3A65-3EE1-47B8-B201-D9FD513A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D56D3-82D3-4D54-8AB2-7CC2EAFC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4618B-2B47-4A9F-817C-31058C41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DC128-5CF7-46E1-BBAE-0B37AB33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E6C-1BEE-4DFE-B2DF-B955BCF5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769D6-15EF-44E1-A863-EB321316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65839-AD71-44E5-AB2E-1DBAB2D1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86A03-4E4B-42D7-A248-A89DBCB0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B6DFE-17D8-4920-BDCF-79E16B54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381D7-4206-4139-8D21-F0E910D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3A667-1C57-4AF3-8A99-3AFF9FD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EB0D7-A070-4A2F-9926-DA68753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02BE2-B191-4062-BE15-72E221B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45F8-EC65-41A6-AF0F-1167AE1E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EE665-954E-4746-82C1-AEE2DC1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5505-C646-426E-B8B4-9850115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2DA5-5C8D-4771-A76A-CD969602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AD0BC-90BC-42F5-94D2-3A5D9088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4977C-7438-4ACC-949C-713FABDB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15C2A-B69D-4334-96A2-D834EAAA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B4FD1-D982-47CD-9CBB-B90E2FB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13D28-04D1-487D-829B-20F40A6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0B4F9-5742-44B8-A6EB-F8EA4CC0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266EC-2A32-41F4-8063-BB57B0F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C4165-08C7-46F3-9497-E4A33421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F7BEC-17B4-4739-851C-69ACDE2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821E-992D-4DB4-B2E7-8BAB263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44A64-BF74-4A62-A33F-0135244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6C483-2359-47D1-B041-2BDD3CC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15766-5EB6-408A-B3A4-709ACDC4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D0E20-596C-4BCA-8938-F2D79D8E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1DEC0-4121-4C84-8BDC-3464D990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D9D5F-1741-4269-B47B-6911309A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FFB77-A782-47BE-943A-F2245321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9ABAC-2DAE-4667-855B-15933CA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A66F1-D5EB-4E82-822E-C5CDA225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E8114-738E-4552-87E1-55893980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9918-03D5-4959-A809-819CB810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F5212-EEE6-418B-9B47-C723B052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BBB15-E13F-4249-BCDC-684E982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D6115-1C82-4C30-B080-EB18BCB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E2CB3-5830-4EF8-805B-96CF87E8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A7409-88D5-4125-AC3D-E28DBF3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ADBA1-76B7-465B-BFBE-43A6EF7D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7BB16-25B8-4791-8803-A6FD4791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BB9DC-CF46-47CD-8537-C93BF1C3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DD30F-42CB-4397-97DF-0C3030A9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15297-5066-4329-8384-C947917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21B1-8038-451F-AABD-69EB6BF1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74E5F-44FF-4626-8BD6-02359845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D83CC-3392-4FCB-BE3D-615D5537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FFBAC-69BB-41D6-AF0D-450448A8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8F8A8-F08D-4D62-B627-49EEE54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CCF73-CDA5-44B9-8167-61DF377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2AD5D-5719-4807-8E3B-2249577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9015D-B900-4533-9B13-FEC5585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74272-556E-44F9-8084-6DF06DFA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620A1-6847-43DD-A449-2E0B4C69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B8142-2E98-488F-97AB-B7E59737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1C2-4972-453C-8C89-B4A4E6D4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2AC40-125A-487D-9CFC-D8A3B32C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64E5E-6148-432E-8EE1-EF06666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BC576-5559-417E-B5FD-FADB9F40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A391C-884A-487F-96C7-3AECE7A8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36DE7-5A1D-47EA-BF1C-AABF5C57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0E2A4-5500-476F-A9D2-0A4AD82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66574-CC40-4FE9-A617-C01743C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DBA6C-12C5-42D4-87B1-D97783E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DDAFC-FC6E-4283-B6C3-9E5B76F7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C1AFC-B05A-454B-8D97-D41DB589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029-83E8-4BCE-9762-6813BE60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9629F-10CC-4375-83C4-90123D93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8C17-3B72-440F-8113-A0BCCCA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EE0-97AA-44E3-9714-D565D0C4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30DB-09F7-4375-9B24-39FEB49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313E-DB7C-4A31-8070-ED0E883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C648-BDCB-4A51-AC13-3F798D3C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D8A7-9383-4A41-BADB-E7ACC309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D9CD-5627-4BD2-B2D9-ACF02E47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0D9B-FFF1-4C3A-BFE9-86D4A58A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5A2A-37A4-40E5-B453-3E1E1CDB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3D0D-4EFE-4CBC-B935-5FF84954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C60C-615E-403B-AAC2-5734F2E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6734-5B5D-419C-8572-F6CF1B30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C45-7072-45AC-9FCA-6E48FABC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51FB-963E-493C-AF23-61D63BB8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F8CE-6E51-4C21-B7E1-C7F5E3C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02F5-1EEA-4685-A2F8-37C673D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B2EF-0C31-4D11-A47E-5EF2E91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4264-A420-44C1-B5A7-B90B75F1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9A74-4973-4F6E-B095-2409F302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5A8B-09E3-4EC2-B28E-3E8B1A6F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6A00-61DA-420E-9F5C-5E32B572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FBE6-66B6-4ADF-80D8-F2C3ADF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2279-0CBC-4B86-8D18-BF1B09DE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B23-7F84-4B2E-B8A8-D2487BCC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29FA-52CB-4856-914E-8A6792C5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1435-E5C6-49F7-8BCF-2E1B2536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35CA-025F-4E57-9BED-870D308D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9369-5067-4BE3-B070-7C8BCB8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C41B-B069-4196-87B9-C74EF5B1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32B7-F788-4423-8893-EA796485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7E36-3379-43C0-B3DD-8D3ADD3D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FB78-F5A9-44DA-9BDB-1C61837E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C612-0271-4C7F-A3E2-131F263C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BBA0-F4D8-4C4C-8BD5-8FE18908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997-98CD-4448-A4FA-D3F1D31B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9D5E-3C59-4218-98C5-3F1715E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E370-1254-4738-880D-25365567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E001-8CDD-44FA-9B0A-7AE1E8E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DCDC-2DB3-4D42-AECB-C30AEDC6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624E0-69C6-4389-8F69-F21CEFD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7DD3-2C02-466A-A9D5-D08A33F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B2330-C98A-4A6C-AA45-C9148E87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E9CED-6657-498E-B54A-C4F9D12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F8983-50E6-495E-B98D-9AA3D786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F443-C867-4CB3-B374-D034AFA7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C7B-2056-47DD-83B3-AFEE4686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1530-C91F-4403-8A49-AB8DD158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D041A-03AD-403A-914E-B4F09CAE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404B-2FFA-40B2-AE01-FAAB20BC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B925-5B6D-474D-BE35-3BEBBDD0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B6618-554D-4AE1-AB5B-1E49A2E6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C453B-415E-4E64-8B13-27DB21CB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3ED39-B301-4A5D-A783-02BEDF1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7BE82-331B-45DD-90A1-7A1C83AE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B3006-1F3B-4CFB-8E7D-0933F04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3A9C-9690-4478-8DD4-DFE4469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6A9-D77E-46AB-8797-6FF656E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9CAE7-8D5A-4A17-A63D-8FA2A7D2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0614-EEF4-4FEA-A692-160664AD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E32FF-4D2D-429F-AEAF-B2F466C1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8472B-65D3-4B35-B964-28D0D5EF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C679B-D754-4B56-8100-60625700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B751F-9B7F-4A10-9A7E-EBC38294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159EC-2DF7-4757-92D5-84063AA5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B8F3-22C9-4198-B4BE-ABABE7CB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68F9-DD6C-4509-9330-64E1532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7798-410E-44F7-9A38-7848491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D10-230D-4F18-85A1-550C3ABD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820C-FA6F-4F3A-A4FE-DAEE99F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7912-7D6F-45CA-BC24-E4784F5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99F7-DF20-4FC7-95E6-B24BA9C7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581B-CFA6-4996-B89C-BA840FF7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E189-3FE6-4D72-BB97-BAD22B26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C3ABE-3EFB-4C31-86AE-1713CA3E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5FC4C-79EC-4B6F-B2A5-788223FD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9EACC-EF9B-42C6-BF7E-F0676D9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ECFD6-E33C-4518-8C66-C67D0994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74F86-6A2D-43E7-844F-75FD26D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096-5D8D-4E55-84C1-F83F55A5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E1DF-B24B-4ACB-A72B-A98D0982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F340-ECA3-495A-B01F-4D768C8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47BDF-FA76-4574-B863-16C05E9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0B02F-E784-4C5C-B1EF-6951CAE8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E6959-0B4A-484F-9589-A956B30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180D-201B-47EF-AD21-68C9942E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C443-3BBF-4E3B-B928-2CBB15C3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9D5F3-BEE2-41DC-8E7F-FD589E50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269BC-54C5-4E90-85F8-E6BEE623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80CFC-3B2C-4A8C-9530-B12EBB7B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FBC5-FD79-4B63-BF76-8AF154CD563C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C8D1-520D-4C6E-9306-D4BE9D7215E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0AAD-BA63-4D01-88A8-AF0D539F60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9313-0F2D-4DE1-BE3A-02A4B57533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66E3-9027-41FA-AF25-8EC75E6C77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1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A1B-CEB3-40C2-B272-D5FB801FE7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48A9-0E12-4E70-8D85-BCCFCF5CDAA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1FA1-D7F0-4246-84A7-66ACCCF47A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BB93-3FF9-4CA1-BB2E-785AAF1677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57B7-1694-4602-B59D-BCA8277337E9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FFE9-FA17-4534-972E-66EB7AA07C62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3BF-0BC7-4F85-96C0-D31D6FBCFDEB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3452-41AC-484F-8140-A10885D2D7B1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52D0-D897-413D-AC50-9B2C55F6B07C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8B52-B2C9-412A-A4CE-08113B54D3A7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hl2332ak.wikispaces.com/ASSESSMENT+2" TargetMode="External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.custominsight.com/demo/form_widgets.rt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1209240" y="828000"/>
            <a:ext cx="7487280" cy="857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    </a:t>
            </a: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DATA COLLECTION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066680" y="28191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ilation and interpretation of primary and secondary sources of inform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tegration of different sources will consolidate the write up of the repo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52280" y="228600"/>
            <a:ext cx="403884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b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 ver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verbal commun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rounding atmosp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&amp;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4952880" y="228600"/>
            <a:ext cx="3962520" cy="2133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to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iculous record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1447920" y="4572000"/>
            <a:ext cx="609588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done through discuss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s of habits, ritu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of docu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2ea4"/>
                </a:solidFill>
                <a:latin typeface="Gill Sans MT"/>
              </a:rPr>
              <a:t>Steps To An Effective Observatio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065320" y="1066680"/>
            <a:ext cx="574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Determine what needs to be 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lan, prepare checklist, how to record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3164040" y="2362320"/>
            <a:ext cx="3544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887840" y="3581280"/>
            <a:ext cx="604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enue, duration, recording materials, take photograph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290320" y="601992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7"/>
          <p:cNvSpPr/>
          <p:nvPr/>
        </p:nvSpPr>
        <p:spPr>
          <a:xfrm>
            <a:off x="4857840" y="19810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"/>
          <p:cNvSpPr/>
          <p:nvPr/>
        </p:nvSpPr>
        <p:spPr>
          <a:xfrm>
            <a:off x="485784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3153960" y="487692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mpil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0"/>
          <p:cNvSpPr/>
          <p:nvPr/>
        </p:nvSpPr>
        <p:spPr>
          <a:xfrm>
            <a:off x="485784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11"/>
          <p:cNvSpPr/>
          <p:nvPr/>
        </p:nvSpPr>
        <p:spPr>
          <a:xfrm>
            <a:off x="485784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2" descr=""/>
          <p:cNvPicPr/>
          <p:nvPr/>
        </p:nvPicPr>
        <p:blipFill>
          <a:blip r:embed="rId1"/>
          <a:stretch/>
        </p:blipFill>
        <p:spPr>
          <a:xfrm>
            <a:off x="-311040" y="-360360"/>
            <a:ext cx="9637560" cy="19512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155160" y="1676520"/>
            <a:ext cx="8836200" cy="49528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1000"/>
          </a:bodyPr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Decide what kind of data collection instrument(s )that you want to use – refer to your proposal – any chang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questionnaire – do you have the established/ ready set of questions? If not, you have to find one, or, come up with your own. (this will take some times and should be done with great detail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If you choose to do interview, you need to decide on the details – how many participants, questions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to do observation, detail out your process – how many, how large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Title 2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9468000" cy="8240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55160" y="990360"/>
            <a:ext cx="8836200" cy="56386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9000"/>
          </a:bodyPr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eading 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should consist of  2 forms: Reading Log &amp; Index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You may get the form from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hl2332ak.wikispaces.com/ASSESSMENT+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vey questions – ready set (the ones that you found from other sources) </a:t>
            </a: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c9da92"/>
                </a:solidFill>
                <a:latin typeface="Constantia"/>
              </a:rPr>
              <a:t>Proposed survey questions (the ones that you will come up with your ow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interview, you should submit the details of your interview. (Proposed questions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observation, you should submit the details of your observation. (Proposed venue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609480" y="4572000"/>
            <a:ext cx="8001000" cy="1922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a small scale study, the most common forms of statistical analysis present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609480" y="106668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o analyse data from interviews and observation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0"/>
          <p:cNvSpPr/>
          <p:nvPr/>
        </p:nvSpPr>
        <p:spPr>
          <a:xfrm flipH="1">
            <a:off x="2133360" y="1523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1294560" y="19051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2"/>
          <p:cNvSpPr/>
          <p:nvPr/>
        </p:nvSpPr>
        <p:spPr>
          <a:xfrm>
            <a:off x="5334120" y="1523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5028840" y="1828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609480" y="281952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analyse data from questionnaires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5"/>
          <p:cNvSpPr/>
          <p:nvPr/>
        </p:nvSpPr>
        <p:spPr>
          <a:xfrm flipH="1">
            <a:off x="1905120" y="3276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71600" y="3657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54100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5486400" y="3276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457200" y="1371600"/>
            <a:ext cx="8153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nvolves 2 term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76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Resul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presentation of data/findings (statistic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2. 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interpretation of data/finding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304920" y="762120"/>
            <a:ext cx="86868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to consider when interpreting your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pret findings based on the purpose and objectives of your stu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e the findings to real life con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persuasive language to convince your readers to see the research from your point of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se your interpretation to highlight the most important find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ude limitations to your researc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simple, cle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5"/>
          <p:cNvSpPr/>
          <p:nvPr/>
        </p:nvSpPr>
        <p:spPr>
          <a:xfrm>
            <a:off x="1447920" y="609480"/>
            <a:ext cx="624816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OURCES OF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Line 7"/>
          <p:cNvSpPr/>
          <p:nvPr/>
        </p:nvSpPr>
        <p:spPr>
          <a:xfrm flipH="1">
            <a:off x="2743200" y="190512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5181480" y="1981080"/>
            <a:ext cx="9907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457200" y="2895480"/>
            <a:ext cx="396252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collect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g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questionnai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s et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4876920" y="2895480"/>
            <a:ext cx="396216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d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ten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s eg. book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als,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reference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COLLECT D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Rectangle 9"/>
          <p:cNvSpPr/>
          <p:nvPr/>
        </p:nvSpPr>
        <p:spPr>
          <a:xfrm flipV="1">
            <a:off x="1523880" y="6019920"/>
            <a:ext cx="6324840" cy="4572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0" y="242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5"/>
          <p:cNvSpPr/>
          <p:nvPr/>
        </p:nvSpPr>
        <p:spPr>
          <a:xfrm>
            <a:off x="0" y="26956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0" y="324324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304920" y="38098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>
            <a:off x="228600" y="990720"/>
            <a:ext cx="8763120" cy="1676160"/>
          </a:xfrm>
          <a:prstGeom prst="downArrowCallout">
            <a:avLst>
              <a:gd name="adj1" fmla="val -129306"/>
              <a:gd name="adj2" fmla="val 169138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a261a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VIEW &amp; COMPILE SECONDARY SOUR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red to in the BACKGROUND/ INTRODUCTION section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5"/>
          <p:cNvSpPr/>
          <p:nvPr/>
        </p:nvSpPr>
        <p:spPr>
          <a:xfrm>
            <a:off x="228600" y="2895480"/>
            <a:ext cx="8763120" cy="2057400"/>
          </a:xfrm>
          <a:prstGeom prst="downArrowCallout">
            <a:avLst>
              <a:gd name="adj1" fmla="val -81406"/>
              <a:gd name="adj2" fmla="val 10648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 &amp; DESIGN DATA COLLECTION INSTR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 GATHER PRIMA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(Referred to in the FINDINGS, CONCLUSIONS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COMMENDATIONS sections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26"/>
          <p:cNvSpPr/>
          <p:nvPr/>
        </p:nvSpPr>
        <p:spPr>
          <a:xfrm>
            <a:off x="2362320" y="5105520"/>
            <a:ext cx="4495680" cy="838080"/>
          </a:xfrm>
          <a:prstGeom prst="downArrowCallout">
            <a:avLst>
              <a:gd name="adj1" fmla="val 134119"/>
              <a:gd name="adj2" fmla="val 134107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ETHODS USED TO COLLECT PRIMARY SOURCE DATA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1066680" y="1752480"/>
            <a:ext cx="7696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 a small-scale study, the most commonly used methods are interviews, survey questionnaires and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304920" y="685800"/>
            <a:ext cx="304776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ath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5486400" y="68580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a2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s 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n-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2209680" y="4572000"/>
            <a:ext cx="449604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cond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e to face, by teleph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or  through 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An Effective Inter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2174040" y="1484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interview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945440" y="2743200"/>
            <a:ext cx="53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subjects/ key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2670120" y="419112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066680" y="5562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 from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9"/>
          <p:cNvSpPr/>
          <p:nvPr/>
        </p:nvSpPr>
        <p:spPr>
          <a:xfrm>
            <a:off x="42670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"/>
          <p:cNvSpPr/>
          <p:nvPr/>
        </p:nvSpPr>
        <p:spPr>
          <a:xfrm>
            <a:off x="426708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3"/>
          <p:cNvSpPr/>
          <p:nvPr/>
        </p:nvSpPr>
        <p:spPr>
          <a:xfrm>
            <a:off x="228600" y="685800"/>
            <a:ext cx="3809880" cy="1600200"/>
          </a:xfrm>
          <a:prstGeom prst="ellipse">
            <a:avLst/>
          </a:prstGeom>
          <a:gradFill rotWithShape="0">
            <a:gsLst>
              <a:gs pos="0">
                <a:srgbClr val="000092"/>
              </a:gs>
              <a:gs pos="50000">
                <a:srgbClr val="0000ff"/>
              </a:gs>
              <a:gs pos="100000">
                <a:srgbClr val="0000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st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collection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743200" y="2666880"/>
            <a:ext cx="3429000" cy="1143000"/>
          </a:xfrm>
          <a:prstGeom prst="rect">
            <a:avLst/>
          </a:prstGeom>
          <a:gradFill rotWithShape="0">
            <a:gsLst>
              <a:gs pos="0">
                <a:srgbClr val="d200d2"/>
              </a:gs>
              <a:gs pos="50000">
                <a:srgbClr val="ff00ff"/>
              </a:gs>
              <a:gs pos="100000">
                <a:srgbClr val="d200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"/>
          <p:cNvSpPr/>
          <p:nvPr/>
        </p:nvSpPr>
        <p:spPr>
          <a:xfrm>
            <a:off x="5181480" y="609480"/>
            <a:ext cx="3733920" cy="167652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ful to col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ative and quali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457200" y="4572000"/>
            <a:ext cx="8153280" cy="2133720"/>
          </a:xfrm>
          <a:prstGeom prst="ellipse">
            <a:avLst/>
          </a:prstGeom>
          <a:solidFill>
            <a:srgbClr val="ecc5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hould contain 3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troduction – to explain the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structions – must be clear, simple language &amp;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User-friendly – avoid difficult or ambiguous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9"/>
          <p:cNvSpPr/>
          <p:nvPr/>
        </p:nvSpPr>
        <p:spPr>
          <a:xfrm>
            <a:off x="434340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1604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2 Basic Types of survey questio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990360" y="1143000"/>
            <a:ext cx="373356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88c5"/>
                </a:solidFill>
                <a:latin typeface="Gill Sans MT"/>
              </a:rPr>
              <a:t>Open-ended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e-respon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ext Open En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ll-in relevant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800600" y="1143000"/>
            <a:ext cx="419112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88c5"/>
                </a:solidFill>
                <a:latin typeface="Gill Sans MT"/>
              </a:rPr>
              <a:t>Close-ended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chotomous qu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-cho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990720" y="5715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ecific examples and students’ activities on each question style, please refer to the notes on Data Collection in the e-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6212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s To An Effective Survey Questionnai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990720" y="90324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surve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mulate &amp; choose types of questions, order them, write instructions, make cop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90720" y="25146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respondents/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990720" y="3581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dminister the survey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e, venue, tim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9907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87692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48769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990720" y="4724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Tabulat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tistical analysis-frequency/mean/correlation/%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3"/>
          <p:cNvSpPr/>
          <p:nvPr/>
        </p:nvSpPr>
        <p:spPr>
          <a:xfrm>
            <a:off x="4876920" y="4419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4"/>
          <p:cNvSpPr/>
          <p:nvPr/>
        </p:nvSpPr>
        <p:spPr>
          <a:xfrm>
            <a:off x="487692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 rot="5400000">
            <a:off x="-2817720" y="2648160"/>
            <a:ext cx="62499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  <a:ea typeface="宋体"/>
              </a:rPr>
              <a:t>A sample of complete survey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entury Gothic"/>
                <a:ea typeface="宋体"/>
                <a:hlinkClick r:id="rId5"/>
              </a:rPr>
              <a:t>http://www.custominsight.com/demo/form_widgets.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08:23Z</dcterms:created>
  <dc:creator>CMLHS</dc:creator>
  <dc:description/>
  <dc:language>en-US</dc:language>
  <cp:lastModifiedBy>Lecturer</cp:lastModifiedBy>
  <dcterms:modified xsi:type="dcterms:W3CDTF">2009-08-10T03:33:54Z</dcterms:modified>
  <cp:revision>34</cp:revision>
  <dc:subject/>
  <dc:title>Data Collection</dc:title>
</cp:coreProperties>
</file>