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D596-A7DD-4E3B-B97F-6FFD158FB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0CED-A2E7-4938-B24F-F40F76026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966-0940-46D3-A772-10F151C7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41DF-7F42-4F29-8C20-4235CDAC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C176C-4F22-4754-A3E9-CF802F0B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E04DA-304B-417C-BC37-70EF7590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3E9E3-DEC8-49B3-BA1C-ACDC009D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57350-1FC4-4F3B-B20F-F578FEBA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D33B4-B2F3-4B74-B301-D6B4A514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E8D46-32C1-4443-B95C-4B906E7B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02E2B-1A04-40F8-B2C6-6F1E5DDF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72C44-7E37-4574-B8A7-53DDD2C2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D32A5-372B-4799-BBE9-CF654D2C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AAAC9-0959-4C3E-8AD3-A15D7838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176-07DB-428C-B88D-734792A5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89A8F-EF6F-4AD0-8EA0-2BBA15D6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C0DCE-FFC3-4D82-B12B-E2AEEE99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E52C2-375D-430C-B4D1-8D955C78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39715-4150-4EA8-8803-5E77A07E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3EA72-51E3-4488-B08D-DFFA8727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02443-435F-4AB8-B50A-9847D79B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DD4C8-E630-4898-AA1A-829ED207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10A82-3BE3-4826-B431-D83EDE96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2964B-F5EB-48A5-927C-EA9F977D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B3D82-8935-4302-9149-E49264A9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AB9-B441-427A-99CB-AD3D4618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6DFBD-AAE6-41C8-A91C-2B2A050F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AA6FF-AA17-4A1F-BBDE-9D1FD2EA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DD968-B7A5-4B39-B8F7-D55576A5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89445-B654-4A4C-BB0E-074BD63D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18AF7-C363-4870-ADBA-BE7193D4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521B9-83FC-43DE-8CA7-69B18924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593FA-0511-41A5-931A-253567EA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B158F-13B9-40FF-B1CD-91319B00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C120A-2C60-4CC5-B241-A2331DAF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B77C2-E4B6-4507-9180-015E11C6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1B09-1473-4E2A-B499-46297071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F8D3D-20FF-483D-8696-2E8B0331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3F35C-2E7C-48F6-8E4C-4913BC9E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03813-08CB-4FAE-A664-020B89E0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15E64-5F23-467C-ACB6-4607D654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90056-6ABA-4E12-9D39-7BC303AF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E660D-8792-44CB-A903-F6CDE9B0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6C562-EBF5-42B4-9AD1-43DC97A2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9F195-57FE-41AF-B0B0-F71927FD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101D5-6A77-4D18-91F1-9475AC26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7317B-2827-45A4-878C-C2D66083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7387-9C6D-4799-BCDB-B414C78F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0B99C-23C2-41B1-8727-A03C53D1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4D1DC-5D1F-49E0-A350-FCD05668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768E8-6386-43BB-A19F-25459CB0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86FDB-0B5C-46E2-97EC-F7F0BF63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754C9-DA43-43B5-86EE-BD1746E6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14F578-3C7F-420E-AFEA-19C55F7B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67C92-A437-47EB-B10D-FE4B9147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046556-DEF9-4551-9D32-AB828959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A183E-9CA1-4A7E-93FE-9FDD37DA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EA54D-2E12-4409-BA10-148FD048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42C5-62BA-417A-8EE9-61CC8F99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979EA-A3F4-4C7D-A65C-1E43A17F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2CFD4-38BB-421C-A8A9-51CBBA73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ABF01A-D6FA-49F6-AFE7-6C6E79C8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F86B0-3540-4595-A381-D365F30A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C09B2-99FD-451B-8ECE-47F2D7EA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A49B0-68F7-44FE-BF34-BA27D838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879E2-56A2-4738-892B-2CB247D9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EBCD87-DEDB-4604-8A53-192CDF79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C79F94-E863-4861-9EB2-54CFA8BC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A4238D-BC38-41D5-8595-74008B47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13A2-3B61-4362-8027-3FF7A426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92E012-1301-4D3C-ACFC-8F514F8E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76429F-2DC8-4A0B-9B25-671C0D4E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1ECDBA-AA44-44E6-88E0-47C2057B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72AA06-48D1-4EED-9B57-1D8ED323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347FC-0640-4277-9144-F64CA284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82EC43-2EC9-4204-AFB1-E9E47FE9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98344D-76C4-4E71-B113-88A217EF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703A3D-02E0-4F74-A869-2D075BC4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E826C5-8E10-4636-ADD8-A4AC2BDF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8643FC-4234-4EFD-ABF3-502C8365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7707-DEA0-4BA1-B5F2-42155AE1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E27CA9-661A-4C32-B433-54A0D16A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87AB3E-5C42-4EE9-BD85-26128D0D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302081-69A6-4947-A58E-DDCAE27E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A2CCF4-F792-4DC6-B11B-D0A6B5B3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BA7A99-D2A4-4652-8D20-7F74DC10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FBE582-8D2C-4AE1-A482-4D79434B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0C4837-6E33-44B8-B6D3-96F28794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ECE16F-5884-4661-AE6A-C71A4C0E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FAF451-7189-454C-9D3F-5CE9ECA4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4E04DD-1668-4A7C-9655-53449861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41E8-7AEA-477C-BEFC-9556C4DD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022419-134E-46D9-83C8-BB432D4B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C370-D53F-46F3-9804-EB2D3DC3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9DB-27A2-4DE5-8B91-526A0D8A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2DF1-1748-4833-A4DF-93BC368A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8E9C-9ACF-476E-A521-81188079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7826-6057-4524-94DD-46B92DBE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0868-12B9-4A46-ABC6-4F81699B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B871-E1E1-4721-BD00-5ABD3059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CBA42-D0F5-42F1-BAFF-C26853C3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40F1F-1441-454B-A336-B407762B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07C3D-99EB-4450-AB7B-18616838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81BF1-934D-45D7-B96D-140DA592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2841E-E20B-48D0-9C3D-BD611501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41B-C148-4E33-8AC6-79D3E231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D94B8-D972-417F-A23B-76090126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8878-8B5E-4A7A-9A8C-61EA04E9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2E034-6E96-4817-B67D-C8CDB537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8950E-CBFD-4AD4-88EA-8CA39FC4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2B596-0280-46FE-845F-224AF0C7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80421-6406-44C0-B413-319A7470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7BB65-6F70-447D-BB64-6614F0BF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00E8F-22C1-4212-B1F4-FFF3479A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D34F3-2504-47D6-9FEE-0DA559A5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EF221-F2EB-4A94-83E4-D765D239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5771-70D3-4F8F-9503-3EC37086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27FB5-4B44-4B52-9476-6F3FC546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19AB1-51DA-4D30-8454-B40876BC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A12A0-A703-4C02-B0C1-242AF228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DA9CA-8DCA-4D61-B215-CA0FA575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9E30E-E8A9-45E2-957B-85D9561A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E7058-5539-4D32-8560-2A2D1104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D32AF-8975-4D4F-8E5D-1473711E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E99A4-4417-4F53-AADC-D5B20D24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656B2-23B2-4F85-99A2-5CC3C497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7CFCB-5F49-47A3-A697-6CF06733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06F-D201-4706-AE56-DE96F8BA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D6CB0-025D-403B-B3DA-0B4598B6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8CA9F-9AAE-4114-A4D3-7DE06480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C5598-D42C-4859-A050-A5BA0F5D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50BE6-D4D4-4BA8-BEFA-65D0534A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472FA-CA9E-46BC-9245-34090907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B4D05-0FC7-4B39-8D3A-7E2206CC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76664-03AA-4858-BBFD-62F5CFDA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BAFA9-43DE-4500-82FB-EBB62A83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66326-C64E-4289-82F2-C23BD7B4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BA7A2-FE96-449F-BA14-8E1BBE6B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75E7-05B7-41B8-BE56-37EB1A55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99A4F-C0F2-4EAB-9415-5FEBBFB5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E36B4-3D76-4A40-98EB-6664E23B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AEACE-67FD-4312-ABD8-E5F0F8A2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8F42E-CC4C-4842-846D-98F83E44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C919D-E658-42A0-B794-28676561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692D3-12F3-4FE4-ADA3-F2DDF199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A4F78-D55C-4172-B169-6FB19122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9304F-7029-4E47-944C-A8F7A213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CD73B-BDC1-498F-854F-CFE7BF8A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F114D-C293-4FD2-9BC7-25E0998D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24F-A6DC-439D-8153-43D9E211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557B3-177C-4487-9FF3-0D3447CE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F0BF7-C43A-4D2E-8E93-4BF83345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239EE-10BE-4D6B-9842-2F74B9BF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D8087-54F3-45DC-877A-F07BCFED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2AE3D-CC99-4866-9A66-5EF023E1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1FA1F-27B3-4065-AA97-3A01C0B3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35C61-AE8C-4C3B-932C-71EF5C1F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9DE74-A02C-466C-B181-63D4482A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E73B6-F0F1-4070-BAD9-6F0818FD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FA878-F83F-4176-A54E-621D930C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843-EDF7-40CD-8505-E81B7DC3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7D39F-4F68-4455-8D1D-05D37F3A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60ED4-E687-4268-8F99-F942E7A2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1E377-2004-42C7-A37F-2E17194E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9F265-86AB-4397-9434-E145A8B9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8215B-553E-4B52-B5BE-92CC8160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C216E-1F6D-4096-9887-882AC7C6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8512D-BF98-45E3-B264-4156D0FC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CF6F1-6476-4389-8299-DF14E30A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E2382-61D1-4E14-A761-A69E6AB5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8AC03-5223-4F2A-B50B-F6B19A6C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ABFF-3C12-459F-AFA5-5A0E25E2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99EFF-0E5F-4518-B5D5-3B58E678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6750D-1FF3-4A81-8FF7-69A99A66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564B4-AB56-4583-A0DA-3774BEA7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8438C-32EB-44C2-AA57-9E9E2D44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07549-334F-44CA-880E-B6CB9596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FEE41-8CB6-4B19-A7A7-3F446E8F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88D68-B129-46B6-8D4B-D0F4F823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1187F-23EF-4CB3-A52C-C654A239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F7377-4231-4567-B233-EA879CDD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84C74-6BB8-4C0A-8A63-8C1DEB0A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2B9F-7B2A-49EF-B2DC-464758F71ECF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2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2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2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83A5-7B34-4A4F-879E-BF74B7035D4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7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7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7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9819-AF61-49BD-8DE2-1655FE90762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6B96-F8C4-4797-8BA2-31BE514B508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80F0-261E-4575-BD9F-A209704D405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1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1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4A4E-3A3F-45C0-8094-7E681A01DD2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4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C2A7-EF29-41DA-9356-C6239690742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AC32-3D6E-408D-94CD-8113A4C62EB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2FBF-2AA1-4A73-BC2A-0D9FD0FB87C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94DF-3310-4753-B644-0D14E1798026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2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DB14-0839-4263-B345-1713F5497EBE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8E16-8646-4356-9DF5-525385F134EA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5734-CC10-4AEE-9A35-E01DF7132B6B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E920-42CD-4694-A793-BA32B056139C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FE40-7B0D-4C4B-A9E8-C735DBEDC58A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uhl2332ak.wikispaces.com/ASSESSMENT+2" TargetMode="External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hyperlink" Target="http://www.custominsight.com/demo/form_widgets.rtf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1209240" y="828000"/>
            <a:ext cx="7487280" cy="857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22ea4"/>
                </a:solidFill>
                <a:latin typeface="Gill Sans MT"/>
              </a:rPr>
              <a:t>    </a:t>
            </a:r>
            <a:r>
              <a:rPr b="1" lang="en-US" sz="4900" spc="-1" strike="noStrike">
                <a:solidFill>
                  <a:srgbClr val="c22ea4"/>
                </a:solidFill>
                <a:latin typeface="Gill Sans MT"/>
              </a:rPr>
              <a:t>DATA COLLECTION</a:t>
            </a:r>
            <a:endParaRPr b="0" lang="en-US" sz="4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066680" y="2819160"/>
            <a:ext cx="7391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ilation and interpretation of primary and secondary sources of inform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integration of different sources will consolidate the write up of the repor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1297080" y="563868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3"/>
          <p:cNvSpPr/>
          <p:nvPr/>
        </p:nvSpPr>
        <p:spPr>
          <a:xfrm>
            <a:off x="152280" y="228600"/>
            <a:ext cx="4038840" cy="20574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b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e verbal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verbal communic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rounding atmosphe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lture &amp;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2743200" y="2819520"/>
            <a:ext cx="3429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5"/>
          <p:cNvSpPr/>
          <p:nvPr/>
        </p:nvSpPr>
        <p:spPr>
          <a:xfrm>
            <a:off x="4952880" y="228600"/>
            <a:ext cx="3962520" cy="2133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 to kee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iculous record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"/>
          <p:cNvSpPr/>
          <p:nvPr/>
        </p:nvSpPr>
        <p:spPr>
          <a:xfrm>
            <a:off x="1447920" y="4572000"/>
            <a:ext cx="6095880" cy="20574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be done through discussi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ations of habits, ritual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ew of document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6400800" y="2514600"/>
            <a:ext cx="76212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8"/>
          <p:cNvSpPr/>
          <p:nvPr/>
        </p:nvSpPr>
        <p:spPr>
          <a:xfrm flipH="1">
            <a:off x="1676520" y="2514600"/>
            <a:ext cx="76176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AutoShape 9"/>
          <p:cNvSpPr/>
          <p:nvPr/>
        </p:nvSpPr>
        <p:spPr>
          <a:xfrm>
            <a:off x="4343400" y="380988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1440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2ea4"/>
                </a:solidFill>
                <a:latin typeface="Gill Sans MT"/>
              </a:rPr>
              <a:t>Steps To An Effective Observation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2065320" y="1066680"/>
            <a:ext cx="5746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Determine what needs to be  ob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lan, prepare checklist, how to record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3164040" y="2362320"/>
            <a:ext cx="3544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Select your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/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1887840" y="3581280"/>
            <a:ext cx="6048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Conduct the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enue, duration, recording materials, take photographs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2290320" y="6019920"/>
            <a:ext cx="53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nalyze and interpret data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7"/>
          <p:cNvSpPr/>
          <p:nvPr/>
        </p:nvSpPr>
        <p:spPr>
          <a:xfrm>
            <a:off x="4857840" y="19810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8"/>
          <p:cNvSpPr/>
          <p:nvPr/>
        </p:nvSpPr>
        <p:spPr>
          <a:xfrm>
            <a:off x="4857840" y="3352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9"/>
          <p:cNvSpPr/>
          <p:nvPr/>
        </p:nvSpPr>
        <p:spPr>
          <a:xfrm>
            <a:off x="3153960" y="4876920"/>
            <a:ext cx="35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Compile data coll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10"/>
          <p:cNvSpPr/>
          <p:nvPr/>
        </p:nvSpPr>
        <p:spPr>
          <a:xfrm>
            <a:off x="4857840" y="4495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11"/>
          <p:cNvSpPr/>
          <p:nvPr/>
        </p:nvSpPr>
        <p:spPr>
          <a:xfrm>
            <a:off x="4857840" y="5638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Title 2" descr=""/>
          <p:cNvPicPr/>
          <p:nvPr/>
        </p:nvPicPr>
        <p:blipFill>
          <a:blip r:embed="rId1"/>
          <a:stretch/>
        </p:blipFill>
        <p:spPr>
          <a:xfrm>
            <a:off x="-311040" y="-360360"/>
            <a:ext cx="9637560" cy="1951200"/>
          </a:xfrm>
          <a:prstGeom prst="rect">
            <a:avLst/>
          </a:prstGeom>
          <a:ln w="0">
            <a:noFill/>
          </a:ln>
        </p:spPr>
      </p:pic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155160" y="1676520"/>
            <a:ext cx="8836200" cy="4952880"/>
          </a:xfrm>
          <a:prstGeom prst="rect">
            <a:avLst/>
          </a:prstGeom>
          <a:noFill/>
          <a:ln w="50760">
            <a:solidFill>
              <a:srgbClr val="dbe7b6"/>
            </a:solidFill>
            <a:miter/>
          </a:ln>
        </p:spPr>
        <p:txBody>
          <a:bodyPr lIns="45720" rIns="45720" anchor="ctr">
            <a:normAutofit fontScale="91000"/>
          </a:bodyPr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e7b6"/>
                </a:solidFill>
                <a:latin typeface="Constantia"/>
              </a:rPr>
              <a:t>Decide what kind of data collection instrument(s )that you want to use – refer to your proposal – any changes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f you choose questionnaire – do you have the established/ ready set of questions? If not, you have to find one, or, come up with your own. (this will take some times and should be done with great detail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e7b6"/>
                </a:solidFill>
                <a:latin typeface="Constantia"/>
              </a:rPr>
              <a:t>If you choose to do interview, you need to decide on the details – how many participants, questions, where, how long, etc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f you choose to do observation, detail out your process – how many, how large, where, how long, etc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Title 2" descr=""/>
          <p:cNvPicPr/>
          <p:nvPr/>
        </p:nvPicPr>
        <p:blipFill>
          <a:blip r:embed="rId1"/>
          <a:stretch/>
        </p:blipFill>
        <p:spPr>
          <a:xfrm>
            <a:off x="-317520" y="-6480"/>
            <a:ext cx="9468000" cy="824040"/>
          </a:xfrm>
          <a:prstGeom prst="rect">
            <a:avLst/>
          </a:prstGeom>
          <a:ln w="0">
            <a:noFill/>
          </a:ln>
        </p:spPr>
      </p:pic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155160" y="990360"/>
            <a:ext cx="8836200" cy="5638680"/>
          </a:xfrm>
          <a:prstGeom prst="rect">
            <a:avLst/>
          </a:prstGeom>
          <a:noFill/>
          <a:ln w="50760">
            <a:solidFill>
              <a:srgbClr val="dbe7b6"/>
            </a:solidFill>
            <a:miter/>
          </a:ln>
        </p:spPr>
        <p:txBody>
          <a:bodyPr lIns="45720" rIns="45720" anchor="ctr">
            <a:normAutofit fontScale="99000"/>
          </a:bodyPr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reading Lo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1368720" indent="-735480">
              <a:spcBef>
                <a:spcPts val="451"/>
              </a:spcBef>
              <a:buClr>
                <a:srgbClr val="0bd0d9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t should consist of  2 forms: Reading Log &amp; Index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1368720" indent="-735480">
              <a:spcBef>
                <a:spcPts val="451"/>
              </a:spcBef>
              <a:buClr>
                <a:srgbClr val="0bd0d9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You may get the form from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uhl2332ak.wikispaces.com/ASSESSMENT+2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rvey questions – ready set (the ones that you found from other sources) </a:t>
            </a:r>
            <a:r>
              <a:rPr b="0" lang="en-US" sz="2600" spc="-1" strike="noStrike">
                <a:solidFill>
                  <a:srgbClr val="5ff3ca"/>
                </a:solidFill>
                <a:latin typeface="Constantia"/>
              </a:rPr>
              <a:t>o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c9da92"/>
                </a:solidFill>
                <a:latin typeface="Constantia"/>
              </a:rPr>
              <a:t>Proposed survey questions (the ones that you will come up with your own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r those who choose to do interview, you should submit the details of your interview. (Proposed questions, how many, when , how long, etc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r those who choose to do observation, you should submit the details of your observation. (Proposed venue, how many, when , how long, etc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Rectangle 2" descr=""/>
          <p:cNvPicPr/>
          <p:nvPr/>
        </p:nvPicPr>
        <p:blipFill>
          <a:blip r:embed="rId1"/>
          <a:stretch/>
        </p:blipFill>
        <p:spPr>
          <a:xfrm>
            <a:off x="-6480" y="-96840"/>
            <a:ext cx="9156960" cy="86508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"/>
          <p:cNvSpPr/>
          <p:nvPr/>
        </p:nvSpPr>
        <p:spPr>
          <a:xfrm>
            <a:off x="609480" y="4572000"/>
            <a:ext cx="8001000" cy="19227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n a small scale study, the most common forms of statistical analysis presented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5"/>
          <p:cNvSpPr/>
          <p:nvPr/>
        </p:nvSpPr>
        <p:spPr>
          <a:xfrm>
            <a:off x="609480" y="1066680"/>
            <a:ext cx="8001000" cy="459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o analyse data from interviews and observation,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10"/>
          <p:cNvSpPr/>
          <p:nvPr/>
        </p:nvSpPr>
        <p:spPr>
          <a:xfrm flipH="1">
            <a:off x="2133360" y="15238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11"/>
          <p:cNvSpPr/>
          <p:nvPr/>
        </p:nvSpPr>
        <p:spPr>
          <a:xfrm>
            <a:off x="1294560" y="190512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12"/>
          <p:cNvSpPr/>
          <p:nvPr/>
        </p:nvSpPr>
        <p:spPr>
          <a:xfrm>
            <a:off x="5334120" y="15238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5028840" y="1828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609480" y="2819520"/>
            <a:ext cx="8001000" cy="459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analyse data from questionnaires,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15"/>
          <p:cNvSpPr/>
          <p:nvPr/>
        </p:nvSpPr>
        <p:spPr>
          <a:xfrm flipH="1">
            <a:off x="1905120" y="327672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16"/>
          <p:cNvSpPr/>
          <p:nvPr/>
        </p:nvSpPr>
        <p:spPr>
          <a:xfrm>
            <a:off x="1371600" y="3657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17"/>
          <p:cNvSpPr/>
          <p:nvPr/>
        </p:nvSpPr>
        <p:spPr>
          <a:xfrm>
            <a:off x="541008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8"/>
          <p:cNvSpPr/>
          <p:nvPr/>
        </p:nvSpPr>
        <p:spPr>
          <a:xfrm>
            <a:off x="5486400" y="32767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Rectangle 2" descr=""/>
          <p:cNvPicPr/>
          <p:nvPr/>
        </p:nvPicPr>
        <p:blipFill>
          <a:blip r:embed="rId1"/>
          <a:stretch/>
        </p:blipFill>
        <p:spPr>
          <a:xfrm>
            <a:off x="-255600" y="-146160"/>
            <a:ext cx="9406080" cy="91440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4"/>
          <p:cNvSpPr/>
          <p:nvPr/>
        </p:nvSpPr>
        <p:spPr>
          <a:xfrm>
            <a:off x="457200" y="1371600"/>
            <a:ext cx="81532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nvolves 2 term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76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6a3"/>
                </a:solidFill>
                <a:latin typeface="Times New Roman"/>
              </a:rPr>
              <a:t>Result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- presentation of data/findings (statistics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6a3"/>
                </a:solidFill>
                <a:latin typeface="Times New Roman"/>
              </a:rPr>
              <a:t>2. Discuss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- interpretation of data/finding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Rectangle 2" descr=""/>
          <p:cNvPicPr/>
          <p:nvPr/>
        </p:nvPicPr>
        <p:blipFill>
          <a:blip r:embed="rId1"/>
          <a:stretch/>
        </p:blipFill>
        <p:spPr>
          <a:xfrm>
            <a:off x="-255600" y="-146160"/>
            <a:ext cx="9406080" cy="91440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4"/>
          <p:cNvSpPr/>
          <p:nvPr/>
        </p:nvSpPr>
        <p:spPr>
          <a:xfrm>
            <a:off x="304920" y="762120"/>
            <a:ext cx="868680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gs to consider when interpreting your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pret findings based on the purpose and objectives of your stud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late the findings to real life contex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 persuasive language to convince your readers to see the research from your point of view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rganise your interpretation to highlight the most important find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clude limitations to your researc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 simple, cle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Oval 5"/>
          <p:cNvSpPr/>
          <p:nvPr/>
        </p:nvSpPr>
        <p:spPr>
          <a:xfrm>
            <a:off x="1447920" y="609480"/>
            <a:ext cx="6248160" cy="1219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OURCES OF INFORM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9" name="Line 7"/>
          <p:cNvSpPr/>
          <p:nvPr/>
        </p:nvSpPr>
        <p:spPr>
          <a:xfrm flipH="1">
            <a:off x="2743200" y="190512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8"/>
          <p:cNvSpPr/>
          <p:nvPr/>
        </p:nvSpPr>
        <p:spPr>
          <a:xfrm>
            <a:off x="5181480" y="1981080"/>
            <a:ext cx="99072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10"/>
          <p:cNvSpPr/>
          <p:nvPr/>
        </p:nvSpPr>
        <p:spPr>
          <a:xfrm>
            <a:off x="457200" y="2895480"/>
            <a:ext cx="3962520" cy="365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5c7b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Primary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is collected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er him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is gath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 questionnai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view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rvations etc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13"/>
          <p:cNvSpPr/>
          <p:nvPr/>
        </p:nvSpPr>
        <p:spPr>
          <a:xfrm>
            <a:off x="4876920" y="2895480"/>
            <a:ext cx="3962160" cy="365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5c7b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econdary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collecte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iled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ten by 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ers eg. book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urnals, news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reference mu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cknowled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STEPS TO COLLECT DAT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4" name="Rectangle 9"/>
          <p:cNvSpPr/>
          <p:nvPr/>
        </p:nvSpPr>
        <p:spPr>
          <a:xfrm flipV="1">
            <a:off x="1523880" y="6019920"/>
            <a:ext cx="6324840" cy="4572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 ANALYSIS AND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19"/>
          <p:cNvSpPr/>
          <p:nvPr/>
        </p:nvSpPr>
        <p:spPr>
          <a:xfrm>
            <a:off x="0" y="2421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15"/>
          <p:cNvSpPr/>
          <p:nvPr/>
        </p:nvSpPr>
        <p:spPr>
          <a:xfrm>
            <a:off x="0" y="269568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11"/>
          <p:cNvSpPr/>
          <p:nvPr/>
        </p:nvSpPr>
        <p:spPr>
          <a:xfrm>
            <a:off x="0" y="324324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22"/>
          <p:cNvSpPr/>
          <p:nvPr/>
        </p:nvSpPr>
        <p:spPr>
          <a:xfrm>
            <a:off x="304920" y="3809880"/>
            <a:ext cx="91440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24"/>
          <p:cNvSpPr/>
          <p:nvPr/>
        </p:nvSpPr>
        <p:spPr>
          <a:xfrm>
            <a:off x="228600" y="990720"/>
            <a:ext cx="8763120" cy="1676160"/>
          </a:xfrm>
          <a:prstGeom prst="downArrowCallout">
            <a:avLst>
              <a:gd name="adj1" fmla="val -129306"/>
              <a:gd name="adj2" fmla="val 169138"/>
              <a:gd name="adj3" fmla="val 16667"/>
              <a:gd name="adj4" fmla="val 66667"/>
            </a:avLst>
          </a:prstGeom>
          <a:gradFill rotWithShape="0">
            <a:gsLst>
              <a:gs pos="0">
                <a:srgbClr val="ff99ff"/>
              </a:gs>
              <a:gs pos="100000">
                <a:srgbClr val="a261a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4e7e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EVIEW &amp; COMPILE SECONDARY SOURC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Referred to in the BACKGROUND/ INTRODUCTION section of re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5"/>
          <p:cNvSpPr/>
          <p:nvPr/>
        </p:nvSpPr>
        <p:spPr>
          <a:xfrm>
            <a:off x="228600" y="2895480"/>
            <a:ext cx="8763120" cy="2057400"/>
          </a:xfrm>
          <a:prstGeom prst="downArrowCallout">
            <a:avLst>
              <a:gd name="adj1" fmla="val -81406"/>
              <a:gd name="adj2" fmla="val 106483"/>
              <a:gd name="adj3" fmla="val 16667"/>
              <a:gd name="adj4" fmla="val 66667"/>
            </a:avLst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4e7e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LAN &amp; DESIGN DATA COLLECTION INSTR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 GATHER PRIMAR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(Referred to in the FINDINGS, CONCLUSIONS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RECOMMENDATIONS sections of re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26"/>
          <p:cNvSpPr/>
          <p:nvPr/>
        </p:nvSpPr>
        <p:spPr>
          <a:xfrm>
            <a:off x="2362320" y="5105520"/>
            <a:ext cx="4495680" cy="838080"/>
          </a:xfrm>
          <a:prstGeom prst="downArrowCallout">
            <a:avLst>
              <a:gd name="adj1" fmla="val 134119"/>
              <a:gd name="adj2" fmla="val 134107"/>
              <a:gd name="adj3" fmla="val 16667"/>
              <a:gd name="adj4" fmla="val 66667"/>
            </a:avLst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4e7e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METHODS USED TO COLLECT PRIMARY SOURCE DATA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1066680" y="1752480"/>
            <a:ext cx="7696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for a small-scale study, the most commonly used methods are interviews, survey questionnaires and observ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1297080" y="563868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8"/>
          <p:cNvSpPr/>
          <p:nvPr/>
        </p:nvSpPr>
        <p:spPr>
          <a:xfrm>
            <a:off x="304920" y="685800"/>
            <a:ext cx="3047760" cy="1600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8a8a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gathe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0"/>
          <p:cNvSpPr/>
          <p:nvPr/>
        </p:nvSpPr>
        <p:spPr>
          <a:xfrm>
            <a:off x="2743200" y="2819520"/>
            <a:ext cx="3429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11"/>
          <p:cNvSpPr/>
          <p:nvPr/>
        </p:nvSpPr>
        <p:spPr>
          <a:xfrm>
            <a:off x="5486400" y="685800"/>
            <a:ext cx="2971800" cy="167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a2a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olves verb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non-verb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12"/>
          <p:cNvSpPr/>
          <p:nvPr/>
        </p:nvSpPr>
        <p:spPr>
          <a:xfrm>
            <a:off x="2209680" y="4572000"/>
            <a:ext cx="4496040" cy="1600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8a8a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be condu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e to face, by telepho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ine or  through ma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15"/>
          <p:cNvSpPr/>
          <p:nvPr/>
        </p:nvSpPr>
        <p:spPr>
          <a:xfrm>
            <a:off x="6400800" y="2514600"/>
            <a:ext cx="76212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16"/>
          <p:cNvSpPr/>
          <p:nvPr/>
        </p:nvSpPr>
        <p:spPr>
          <a:xfrm flipH="1">
            <a:off x="1676520" y="2514600"/>
            <a:ext cx="76176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17"/>
          <p:cNvSpPr/>
          <p:nvPr/>
        </p:nvSpPr>
        <p:spPr>
          <a:xfrm>
            <a:off x="4343400" y="380988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1440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Steps To An Effective Intervie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2174040" y="148428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Prepare your interview sche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4"/>
          <p:cNvSpPr/>
          <p:nvPr/>
        </p:nvSpPr>
        <p:spPr>
          <a:xfrm>
            <a:off x="1945440" y="2743200"/>
            <a:ext cx="53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Select your subjects/ key inform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5"/>
          <p:cNvSpPr/>
          <p:nvPr/>
        </p:nvSpPr>
        <p:spPr>
          <a:xfrm>
            <a:off x="2670120" y="419112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Conduct the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6"/>
          <p:cNvSpPr/>
          <p:nvPr/>
        </p:nvSpPr>
        <p:spPr>
          <a:xfrm>
            <a:off x="1066680" y="5562720"/>
            <a:ext cx="78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nalyze and interpret data collected from the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7"/>
          <p:cNvSpPr/>
          <p:nvPr/>
        </p:nvSpPr>
        <p:spPr>
          <a:xfrm>
            <a:off x="4267080" y="2209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9"/>
          <p:cNvSpPr/>
          <p:nvPr/>
        </p:nvSpPr>
        <p:spPr>
          <a:xfrm>
            <a:off x="4267080" y="34290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0"/>
          <p:cNvSpPr/>
          <p:nvPr/>
        </p:nvSpPr>
        <p:spPr>
          <a:xfrm>
            <a:off x="4267080" y="48006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1297080" y="563868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3"/>
          <p:cNvSpPr/>
          <p:nvPr/>
        </p:nvSpPr>
        <p:spPr>
          <a:xfrm>
            <a:off x="228600" y="685800"/>
            <a:ext cx="3809880" cy="1600200"/>
          </a:xfrm>
          <a:prstGeom prst="ellipse">
            <a:avLst/>
          </a:prstGeom>
          <a:gradFill rotWithShape="0">
            <a:gsLst>
              <a:gs pos="0">
                <a:srgbClr val="000092"/>
              </a:gs>
              <a:gs pos="50000">
                <a:srgbClr val="0000ff"/>
              </a:gs>
              <a:gs pos="100000">
                <a:srgbClr val="00009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most com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 collection instr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2743200" y="2666880"/>
            <a:ext cx="3429000" cy="1143000"/>
          </a:xfrm>
          <a:prstGeom prst="rect">
            <a:avLst/>
          </a:prstGeom>
          <a:gradFill rotWithShape="0">
            <a:gsLst>
              <a:gs pos="0">
                <a:srgbClr val="d200d2"/>
              </a:gs>
              <a:gs pos="50000">
                <a:srgbClr val="ff00ff"/>
              </a:gs>
              <a:gs pos="100000">
                <a:srgbClr val="d200d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estionn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5"/>
          <p:cNvSpPr/>
          <p:nvPr/>
        </p:nvSpPr>
        <p:spPr>
          <a:xfrm>
            <a:off x="5181480" y="609480"/>
            <a:ext cx="3733920" cy="167652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ful to coll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ntitative and qualit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6"/>
          <p:cNvSpPr/>
          <p:nvPr/>
        </p:nvSpPr>
        <p:spPr>
          <a:xfrm>
            <a:off x="457200" y="4572000"/>
            <a:ext cx="8153280" cy="2133720"/>
          </a:xfrm>
          <a:prstGeom prst="ellipse">
            <a:avLst/>
          </a:prstGeom>
          <a:solidFill>
            <a:srgbClr val="ecc5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hould contain 3 ele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Introduction – to explain the objecti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Instructions – must be clear, simple language &amp; sh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User-friendly – avoid difficult or ambiguous ques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7"/>
          <p:cNvSpPr/>
          <p:nvPr/>
        </p:nvSpPr>
        <p:spPr>
          <a:xfrm>
            <a:off x="6400800" y="2514600"/>
            <a:ext cx="76212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8"/>
          <p:cNvSpPr/>
          <p:nvPr/>
        </p:nvSpPr>
        <p:spPr>
          <a:xfrm flipH="1">
            <a:off x="1676520" y="2514600"/>
            <a:ext cx="76176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9"/>
          <p:cNvSpPr/>
          <p:nvPr/>
        </p:nvSpPr>
        <p:spPr>
          <a:xfrm>
            <a:off x="4343400" y="39625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716040"/>
          </a:xfrm>
          <a:prstGeom prst="rect">
            <a:avLst/>
          </a:prstGeom>
          <a:solidFill>
            <a:srgbClr val="e5c6d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2 Basic Types of survey questions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990360" y="1143000"/>
            <a:ext cx="3733560" cy="4038480"/>
          </a:xfrm>
          <a:prstGeom prst="rect">
            <a:avLst/>
          </a:prstGeom>
          <a:noFill/>
          <a:ln w="9360">
            <a:solidFill>
              <a:srgbClr val="b13f9a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88c5"/>
                </a:solidFill>
                <a:latin typeface="Gill Sans MT"/>
              </a:rPr>
              <a:t>Open-ended Ques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ree-respons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Text Open End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ll-in relevant inform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800600" y="1143000"/>
            <a:ext cx="4191120" cy="4038480"/>
          </a:xfrm>
          <a:prstGeom prst="rect">
            <a:avLst/>
          </a:prstGeom>
          <a:noFill/>
          <a:ln w="9360">
            <a:solidFill>
              <a:srgbClr val="b13f9a"/>
            </a:solidFill>
            <a:miter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488c5"/>
                </a:solidFill>
                <a:latin typeface="Gill Sans MT"/>
              </a:rPr>
              <a:t>Close-ended Ques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chotomous ques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-choi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tegoric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umeric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990720" y="57150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pecific examples and students’ activities on each question style, please refer to the notes on Data Collection in the e-lea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76212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s To An Effective Survey Questionnair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3" name="Text Box 3"/>
          <p:cNvSpPr/>
          <p:nvPr/>
        </p:nvSpPr>
        <p:spPr>
          <a:xfrm>
            <a:off x="990720" y="903240"/>
            <a:ext cx="792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Prepare your survey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mulate &amp; choose types of questions, order them, write instructions, make cop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990720" y="251460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Select your respondents/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/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990720" y="358128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dminister the survey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ate, venue, time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6"/>
          <p:cNvSpPr/>
          <p:nvPr/>
        </p:nvSpPr>
        <p:spPr>
          <a:xfrm>
            <a:off x="99072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nalyze and interpret data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7"/>
          <p:cNvSpPr/>
          <p:nvPr/>
        </p:nvSpPr>
        <p:spPr>
          <a:xfrm>
            <a:off x="4876920" y="2209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AutoShape 11"/>
          <p:cNvSpPr/>
          <p:nvPr/>
        </p:nvSpPr>
        <p:spPr>
          <a:xfrm>
            <a:off x="4876920" y="3352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990720" y="472428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Tabulate data coll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tatistical analysis-frequency/mean/correlation/%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AutoShape 13"/>
          <p:cNvSpPr/>
          <p:nvPr/>
        </p:nvSpPr>
        <p:spPr>
          <a:xfrm>
            <a:off x="4876920" y="44197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AutoShape 14"/>
          <p:cNvSpPr/>
          <p:nvPr/>
        </p:nvSpPr>
        <p:spPr>
          <a:xfrm>
            <a:off x="4876920" y="5638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5"/>
          <p:cNvSpPr/>
          <p:nvPr/>
        </p:nvSpPr>
        <p:spPr>
          <a:xfrm rot="5400000">
            <a:off x="-2817720" y="2648160"/>
            <a:ext cx="624996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  <a:ea typeface="宋体"/>
              </a:rPr>
              <a:t>A sample of complete survey question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de66"/>
                </a:solidFill>
                <a:uFillTx/>
                <a:latin typeface="Century Gothic"/>
                <a:ea typeface="宋体"/>
                <a:hlinkClick r:id="rId5"/>
              </a:rPr>
              <a:t>http://www.custominsight.com/demo/form_widgets.r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02:08:23Z</dcterms:created>
  <dc:creator>CMLHS</dc:creator>
  <dc:description/>
  <dc:language>en-US</dc:language>
  <cp:lastModifiedBy>Lecturer</cp:lastModifiedBy>
  <dcterms:modified xsi:type="dcterms:W3CDTF">2009-08-10T03:33:54Z</dcterms:modified>
  <cp:revision>34</cp:revision>
  <dc:subject/>
  <dc:title>Data Collection</dc:title>
</cp:coreProperties>
</file>