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FF17-506B-47EF-B8BD-4BFADD4F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3958-B561-46A0-B781-97B0312E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F1F2-F839-409A-92B8-E8E68B5F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C81C-F02F-446D-A862-FFE36146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5816-679F-4E75-B023-C441EAF3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90AB-3E45-4639-A93C-9E13BA43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8248-7314-47D5-B46D-9BC1DB82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EFAE-97B0-43BF-A375-2E942E14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1CC8-9A70-4CCE-96DA-39ED0140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4D7D-A838-4AE5-A98E-AF937032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36F4-F7C9-4344-9FAF-D89006E4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B3FC-BEAD-4C2A-96CD-51C9BB39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6BA4-4D73-43B4-B24C-C5ABE090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D5BB-B310-46CD-BC60-A7B82504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7772-5DF4-4C08-A44B-53812B75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11F4-7513-46FD-AE35-B16B9B04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5300-48A5-4174-AA62-02561084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9859B-B7BC-4FE7-80F4-1F6E2157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68AC3-8ADA-4077-A15C-5AA501EB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CA36E-052E-4BE6-AAD5-6ED34348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FFEE4-2AFD-4D6A-BCA9-40767801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A48A7-97D8-40AD-87C8-BE6B2B50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997B-CD09-4FDE-95AD-86492EF2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CF1B7-1306-4D8D-BD7E-C70852FE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94637-1B05-4457-A7CA-92E45C96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71797-72BA-40CD-B830-30565D9D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7BED9-EA78-4B99-8CD2-8978DE22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5EA0D-4CA2-4AB8-8E19-486A7FBB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51DA7-9EA8-4A5E-83F4-DCAEAA54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1EA00-2952-4C95-8521-4F53A44F6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F84D6-E9CC-45DA-9B16-31B203D1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BC745-15C0-42D2-9BEF-872CEFBF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E4D54-02B0-469F-AA0C-3388F6A9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8F70-240E-44B7-915C-D8499935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8BC57-D2CE-4DDE-B928-BD62074D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269BE-B094-4ED5-98F4-023C38F4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E59B5-5EF9-46C4-AACB-1C5959AD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6778D-56FE-42C0-B7FE-BA469D30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762D6-F529-4CAC-BEFA-1F95B811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93B5C-1DA4-405D-8109-E97BBEF6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957D5-6348-4D86-B897-A20EF47F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EC7AC-D7F8-46A7-9318-529650317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3F976-A878-42CF-A39A-2B2D223F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DDD0E-12F0-46C9-A93F-CD7C96C29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2AFD-309D-4A82-A065-F700A3AD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8FECE-71C5-4CCE-9F70-97D5D3F7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CABE7-515E-4BEF-870B-E6F8F202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63308-6A9E-4913-BEBE-EF322273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37ACF-8333-4BF3-98A2-BC60DDF1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B117E-AA62-44E2-98D2-48BCB96E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8F390-BA64-44A9-9999-72460E59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3869E-D8FF-4521-8F05-3FAE6BF5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0A44E-6A5D-494A-A121-83230330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32960-DA42-437C-84AF-0C663D50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C0226-2709-49C2-A45A-9F0733B2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5BE2-BE30-45A1-BC30-C9939D75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9C8DF-D0E1-4450-A887-2B7A6FEF7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2FAC2-512B-47AB-9FA1-2C5E4DEE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07D93-0B2D-4351-81B3-EB3950C6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60EEA-036A-4BBB-A1CA-5F547651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3D214-07FC-4567-8878-57722E7F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FEA8A-39FF-4CBC-BFD8-B3E4E9C7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F7D68-46CA-4140-B350-3B91D2BD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F9403-C8A6-4CC2-960B-6CBC98DB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030D1-1CAE-481B-8CBC-13C58405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6EE3E-B136-405E-B665-5E0642A6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F5AD-DEFA-4FC0-8B29-EA859E08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1428D-AB52-4211-A2A4-AB5D3EF0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C6E5D-1515-4691-A142-F5CB2EF6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49326-047E-43D7-9C02-868A2B9E0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532F5-0FAE-4DC2-B08F-6EE945E52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F969D-538D-4098-A8A0-502A3E7F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15F80-5BDD-4EC2-90A1-1B5F884B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2B6B3-9532-46A0-8751-28961382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55F6B-AE1B-4A6D-834F-B416E5D2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1777D-4DF2-48D4-B8F1-63BAAFD3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91FF9-CDD5-4A64-8970-D1FAAF06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1CF6-7D9E-49D0-B887-07871E63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2E482-99EC-4BB7-8C02-F91FBB5E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128B2-CA73-42F1-9C4C-AC642CB6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4D57B-C9DB-4193-99A4-775B5F6F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86333-0DBB-44E3-8814-930FDC7C5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D040E-0CE1-4AAC-B7CE-058C6DE30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AEAA-6582-4970-A2D0-71CFD37F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B442-2C00-4159-A86A-E08288BC68DC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3AE0-5F18-4A09-860A-2925370A23A9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A694-F42F-4A70-A6EB-FB7DCA009568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004B-23E9-4B64-B1FF-F71977612197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23EC-EA59-49B8-BAC0-75193F49C4F9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A88D-C9BD-4A18-8A1C-1DAF10A3CB4B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96F4-DFD0-4A4E-A88B-872FFB87D549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428840" y="1785960"/>
            <a:ext cx="7407360" cy="2571840"/>
          </a:xfrm>
          <a:prstGeom prst="rect">
            <a:avLst/>
          </a:prstGeom>
          <a:solidFill>
            <a:srgbClr val="8e2f00"/>
          </a:solidFill>
          <a:ln w="0">
            <a:noFill/>
          </a:ln>
        </p:spPr>
        <p:txBody>
          <a:bodyPr tIns="0" anchor="ctr" anchorCtr="1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ill Sans MT"/>
              </a:rPr>
              <a:t>LITERATURE REVIEW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00080" y="131760"/>
            <a:ext cx="8143920" cy="868320"/>
          </a:xfrm>
          <a:prstGeom prst="rect">
            <a:avLst/>
          </a:prstGeom>
          <a:solidFill>
            <a:srgbClr val="3b1d15"/>
          </a:solidFill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accab"/>
                </a:solidFill>
                <a:latin typeface="Gill Sans MT"/>
              </a:rPr>
              <a:t>A good literature review is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Content Placeholder 2"/>
          <p:cNvSpPr/>
          <p:nvPr/>
        </p:nvSpPr>
        <p:spPr>
          <a:xfrm>
            <a:off x="1000080" y="1143000"/>
            <a:ext cx="8143920" cy="5572080"/>
          </a:xfrm>
          <a:prstGeom prst="rect">
            <a:avLst/>
          </a:prstGeom>
          <a:solidFill>
            <a:srgbClr val="e7dec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2223"/>
                </a:solidFill>
                <a:latin typeface="Arial"/>
              </a:rPr>
              <a:t>critical of what has been writt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2223"/>
                </a:solidFill>
                <a:latin typeface="Arial"/>
              </a:rPr>
              <a:t>it identifies areas of controvers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2223"/>
                </a:solidFill>
                <a:latin typeface="Arial"/>
              </a:rPr>
              <a:t>raises questions and identifies areas which need further researc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8571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00080" y="999720"/>
            <a:ext cx="8143920" cy="5715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2223"/>
                </a:solidFill>
                <a:latin typeface="Gill Sans MT"/>
              </a:rPr>
              <a:t>The IR4W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Identify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Record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Relevanc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Retriev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Review 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Writ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000080" y="1000080"/>
            <a:ext cx="8143920" cy="55720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800000"/>
                </a:solidFill>
                <a:latin typeface="Gill Sans MT"/>
              </a:rPr>
              <a:t>Stage 1</a:t>
            </a:r>
            <a:r>
              <a:rPr b="1" lang="en-US" sz="3900" spc="-1" strike="noStrike">
                <a:solidFill>
                  <a:srgbClr val="800000"/>
                </a:solidFill>
                <a:latin typeface="Gill Sans MT"/>
              </a:rPr>
              <a:t> – Identify</a:t>
            </a:r>
            <a:endParaRPr b="0" lang="en-US" sz="39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ompile a list of references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Use a kind of index system either a hard copy or a software referencing system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ork through key catalogues, databases, indexes, bibliographies and websites for relevant resourc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heck the references and in the articles you have read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Locate and use research reviews, most journals have a section on review of articles, it is essential you see what other people think about these articles as they be from a previous research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8571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000080" y="1214280"/>
            <a:ext cx="8143920" cy="4500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ill Sans MT"/>
              </a:rPr>
              <a:t>Stage </a:t>
            </a:r>
            <a:r>
              <a:rPr b="1" lang="en-US" sz="3600" spc="-1" strike="noStrike">
                <a:solidFill>
                  <a:srgbClr val="800000"/>
                </a:solidFill>
                <a:latin typeface="Gill Sans MT"/>
              </a:rPr>
              <a:t> 2 - Record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e17b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ke a record of any literature that  relates to your topic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e17b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should have citation details and where it is locate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e17b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should also write a few sentences that help you remember what the article is abou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8571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000080" y="1143000"/>
            <a:ext cx="8143920" cy="46432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ill Sans MT"/>
              </a:rPr>
              <a:t>Stage 3 </a:t>
            </a:r>
            <a:r>
              <a:rPr b="1" lang="en-US" sz="3600" spc="-1" strike="noStrike">
                <a:solidFill>
                  <a:srgbClr val="800000"/>
                </a:solidFill>
                <a:latin typeface="Gill Sans MT"/>
              </a:rPr>
              <a:t>– Relevanc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ioritize the literature, after having read the abstract, rank them if it should be high, medium or low priorit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 the website scan through the literature for relevance before you decide to download or print it ou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8571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000080" y="1071720"/>
            <a:ext cx="8143920" cy="53575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ill Sans MT"/>
              </a:rPr>
              <a:t>Stage 3 </a:t>
            </a:r>
            <a:r>
              <a:rPr b="1" lang="en-US" sz="3600" spc="-1" strike="noStrike">
                <a:solidFill>
                  <a:srgbClr val="800000"/>
                </a:solidFill>
                <a:latin typeface="Gill Sans MT"/>
              </a:rPr>
              <a:t>– Relevanc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need to focus on the literature and sources you have identified and ranked as most important,  the most recent development from the periodical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istinguish between textbooks, research articles from journals and books. They contain different kinds of information that will be more or less relevant to your research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8571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000080" y="1447920"/>
            <a:ext cx="8143920" cy="36957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ill Sans MT"/>
              </a:rPr>
              <a:t>Stage 4 </a:t>
            </a:r>
            <a:r>
              <a:rPr b="1" lang="en-US" sz="3600" spc="-1" strike="noStrike">
                <a:solidFill>
                  <a:srgbClr val="800000"/>
                </a:solidFill>
                <a:latin typeface="Gill Sans MT"/>
              </a:rPr>
              <a:t>- Retriev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ke hard copies of the most important literature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int relevant journal articles from databases and  photocopy articles from journa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00080" y="214200"/>
            <a:ext cx="8143920" cy="8575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000080" y="1143000"/>
            <a:ext cx="8143920" cy="5500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ill Sans MT"/>
              </a:rPr>
              <a:t>Stage 5 </a:t>
            </a:r>
            <a:r>
              <a:rPr b="1" lang="en-US" sz="3600" spc="-1" strike="noStrike">
                <a:solidFill>
                  <a:srgbClr val="800000"/>
                </a:solidFill>
                <a:latin typeface="Gill Sans MT"/>
              </a:rPr>
              <a:t>– Review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Use the reading log which allows you to record different kinds of information: the bibliographic details, a description, and relationship to other readings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lso record where the literature is located so that you can easily refer to the quotes or ideas paraphrased when you are editing. 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s you are taking notes, ensure that you are clear about what you are quoting and paraphrasing. You cannot risk unintentionally plagiarizing ideas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0080" y="71280"/>
            <a:ext cx="8143920" cy="8575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000080" y="1213920"/>
            <a:ext cx="8143920" cy="4357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ill Sans MT"/>
              </a:rPr>
              <a:t>Stage 6 </a:t>
            </a:r>
            <a:r>
              <a:rPr b="1" lang="en-US" sz="3600" spc="-1" strike="noStrike">
                <a:solidFill>
                  <a:srgbClr val="800000"/>
                </a:solidFill>
                <a:latin typeface="Gill Sans MT"/>
              </a:rPr>
              <a:t>- Writ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art with an introductory paragraph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iscuss the literature on the subject in a logical and coherent wa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clude with a paragraph that is relevant to the literature of the research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0080" y="142560"/>
            <a:ext cx="8143920" cy="8571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Content Placeholder 2"/>
          <p:cNvSpPr/>
          <p:nvPr/>
        </p:nvSpPr>
        <p:spPr>
          <a:xfrm>
            <a:off x="1000080" y="1143000"/>
            <a:ext cx="8143920" cy="5572080"/>
          </a:xfrm>
          <a:prstGeom prst="rect">
            <a:avLst/>
          </a:prstGeom>
          <a:solidFill>
            <a:srgbClr val="f5d3d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Decide the subheadings for your literature re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Always refer to your objectives and research questions when you want to decide on the subhead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Make sure subheadings are relevant and able to describe your research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Discuss on where you are going to get the reading materials from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MY" sz="3200" spc="-1" strike="noStrike">
                <a:solidFill>
                  <a:srgbClr val="800000"/>
                </a:solidFill>
                <a:latin typeface="Gill Sans MT"/>
              </a:rPr>
              <a:t>Delegate ta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00080" y="142560"/>
            <a:ext cx="8143920" cy="857160"/>
          </a:xfrm>
          <a:prstGeom prst="rect">
            <a:avLst/>
          </a:prstGeom>
          <a:solidFill>
            <a:srgbClr val="611617"/>
          </a:solidFill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ccc3"/>
                </a:solidFill>
                <a:latin typeface="Gill Sans MT"/>
              </a:rPr>
              <a:t>Now, get into your groups…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13920" y="213840"/>
            <a:ext cx="7720200" cy="1071720"/>
          </a:xfrm>
          <a:prstGeom prst="rect">
            <a:avLst/>
          </a:prstGeom>
          <a:noFill/>
          <a:ln w="38160">
            <a:solidFill>
              <a:srgbClr val="713204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4300" spc="-1" strike="noStrike">
                <a:solidFill>
                  <a:srgbClr val="572314"/>
                </a:solidFill>
                <a:latin typeface="Gill Sans MT"/>
              </a:rPr>
              <a:t>What is a “Literature Review”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1214280" y="1571760"/>
            <a:ext cx="7715520" cy="5114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literature review is an overview of research on a given topic and answers to related research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iterature review is an important part of research and should be treated as su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well-written literature revie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9222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2223"/>
                </a:solidFill>
                <a:uFillTx/>
                <a:latin typeface="Gill Sans MT"/>
                <a:ea typeface="Arial"/>
              </a:rPr>
              <a:t>Organizes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  <a:ea typeface="Arial"/>
              </a:rPr>
              <a:t> 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9222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2223"/>
                </a:solidFill>
                <a:uFillTx/>
                <a:latin typeface="Gill Sans MT"/>
                <a:ea typeface="Arial"/>
              </a:rPr>
              <a:t>Evaluates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  <a:ea typeface="Arial"/>
              </a:rPr>
              <a:t> 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9222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2223"/>
                </a:solidFill>
                <a:uFillTx/>
                <a:latin typeface="Gill Sans MT"/>
                <a:ea typeface="Arial"/>
              </a:rPr>
              <a:t>Identifies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  <a:ea typeface="Arial"/>
              </a:rPr>
              <a:t> patterns and trends in  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  <a:ea typeface="Arial"/>
              </a:rPr>
              <a:t>	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  <a:ea typeface="Arial"/>
              </a:rPr>
              <a:t>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9222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2223"/>
                </a:solidFill>
                <a:uFillTx/>
                <a:latin typeface="Gill Sans MT"/>
                <a:ea typeface="Arial"/>
              </a:rPr>
              <a:t>Synthesizes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  <a:ea typeface="Arial"/>
              </a:rPr>
              <a:t> 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Content Placeholder 2"/>
          <p:cNvSpPr/>
          <p:nvPr/>
        </p:nvSpPr>
        <p:spPr>
          <a:xfrm>
            <a:off x="1000080" y="714240"/>
            <a:ext cx="8143920" cy="2928960"/>
          </a:xfrm>
          <a:prstGeom prst="rect">
            <a:avLst/>
          </a:prstGeom>
          <a:solidFill>
            <a:srgbClr val="f5d3d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800000"/>
                </a:solidFill>
                <a:latin typeface="Gill Sans MT"/>
              </a:rPr>
              <a:t>Stage 1</a:t>
            </a:r>
            <a:r>
              <a:rPr b="1" lang="en-US" sz="2500" spc="-1" strike="noStrike">
                <a:solidFill>
                  <a:srgbClr val="800000"/>
                </a:solidFill>
                <a:latin typeface="Gill Sans MT"/>
              </a:rPr>
              <a:t> – Identif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Compile a list of references relevant to your study.  (10 articl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Use a kind of index system either a hard copy or a software referencing syste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Work through key </a:t>
            </a:r>
            <a:r>
              <a:rPr b="0" lang="en-US" sz="2500" spc="-1" strike="noStrike">
                <a:solidFill>
                  <a:srgbClr val="922223"/>
                </a:solidFill>
                <a:latin typeface="Gill Sans MT"/>
              </a:rPr>
              <a:t>catalogues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2500" spc="-1" strike="noStrike">
                <a:solidFill>
                  <a:srgbClr val="922223"/>
                </a:solidFill>
                <a:latin typeface="Gill Sans MT"/>
              </a:rPr>
              <a:t>databases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, indexes, bibliographies and </a:t>
            </a:r>
            <a:r>
              <a:rPr b="0" lang="en-US" sz="2500" spc="-1" strike="noStrike">
                <a:solidFill>
                  <a:srgbClr val="922223"/>
                </a:solidFill>
                <a:latin typeface="Gill Sans MT"/>
              </a:rPr>
              <a:t>websites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 for relevant resour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642960"/>
          </a:xfrm>
          <a:prstGeom prst="rect">
            <a:avLst/>
          </a:prstGeom>
          <a:solidFill>
            <a:srgbClr val="611617"/>
          </a:solidFill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ccc3"/>
                </a:solidFill>
                <a:latin typeface="Gill Sans MT"/>
              </a:rPr>
              <a:t>Assignment for next class…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00080" y="3714480"/>
            <a:ext cx="8143920" cy="3071880"/>
          </a:xfrm>
          <a:prstGeom prst="rect">
            <a:avLst/>
          </a:prstGeom>
          <a:solidFill>
            <a:srgbClr val="f5d3d3"/>
          </a:solidFill>
          <a:ln w="9360">
            <a:solidFill>
              <a:srgbClr val="800000"/>
            </a:solidFill>
            <a:miter/>
          </a:ln>
        </p:spPr>
        <p:txBody>
          <a:bodyPr anchor="ctr">
            <a:normAutofit fontScale="90000"/>
          </a:bodyPr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800000"/>
                </a:solidFill>
                <a:latin typeface="Gill Sans MT"/>
              </a:rPr>
              <a:t>Stage </a:t>
            </a:r>
            <a:r>
              <a:rPr b="1" lang="en-US" sz="2500" spc="-1" strike="noStrike">
                <a:solidFill>
                  <a:srgbClr val="800000"/>
                </a:solidFill>
                <a:latin typeface="Gill Sans MT"/>
              </a:rPr>
              <a:t>2 - Record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Make a record of any literature that relates to your topic.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You should have </a:t>
            </a:r>
            <a:r>
              <a:rPr b="0" lang="en-US" sz="2500" spc="-1" strike="noStrike">
                <a:solidFill>
                  <a:srgbClr val="922223"/>
                </a:solidFill>
                <a:latin typeface="Gill Sans MT"/>
              </a:rPr>
              <a:t>citation details 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and where it is located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You should also write a few sentences that help you remember what the article is about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Submit this “record” on your wikispace before the next meeting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434960" y="713880"/>
            <a:ext cx="7499520" cy="5534280"/>
          </a:xfrm>
          <a:prstGeom prst="rect">
            <a:avLst/>
          </a:prstGeom>
          <a:noFill/>
          <a:ln w="9360">
            <a:solidFill>
              <a:srgbClr val="922223"/>
            </a:solidFill>
            <a:miter/>
          </a:ln>
        </p:spPr>
        <p:txBody>
          <a:bodyPr anchor="ctr">
            <a:normAutofit/>
          </a:bodyPr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literature’ means the works you </a:t>
            </a: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consulted/ referred to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order to understand and investigate your research problem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literature review involves providing a rationale for your selection of literature related to the subject studie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213920" y="785880"/>
            <a:ext cx="7720200" cy="5214960"/>
          </a:xfrm>
          <a:prstGeom prst="rect">
            <a:avLst/>
          </a:prstGeom>
          <a:noFill/>
          <a:ln w="9360">
            <a:solidFill>
              <a:srgbClr val="713204"/>
            </a:solidFill>
            <a:miter/>
          </a:ln>
        </p:spPr>
        <p:txBody>
          <a:bodyPr anchor="ctr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literature review 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familiariz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reader with the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subject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d the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scope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f the research topic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helps the reader  to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define key concept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establishes the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body of knowledge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which will be able to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contribute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wards the research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00080" y="142920"/>
            <a:ext cx="8143920" cy="9288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riting the Literature Review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000080" y="1214280"/>
            <a:ext cx="8143920" cy="5500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/>
          </a:bodyPr>
          <a:p>
            <a:pPr marL="365040" indent="-28260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rstly decide what you need to read from a broad spectrum of literature available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Refer to books, periodicals, journals, and websites which will be relevant to your study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Determine what exactly are your </a:t>
            </a:r>
            <a:r>
              <a:rPr b="0" lang="en-US" sz="3600" spc="-1" strike="noStrike">
                <a:solidFill>
                  <a:srgbClr val="922223"/>
                </a:solidFill>
                <a:latin typeface="Gill Sans MT"/>
              </a:rPr>
              <a:t>objective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00080" y="142920"/>
            <a:ext cx="8143920" cy="9288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riting the Literature Review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000080" y="1214280"/>
            <a:ext cx="8143920" cy="5500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You have to decide on  what </a:t>
            </a:r>
            <a:r>
              <a:rPr b="0" lang="en-US" sz="3600" spc="-1" strike="noStrike">
                <a:solidFill>
                  <a:srgbClr val="922223"/>
                </a:solidFill>
                <a:latin typeface="Gill Sans MT"/>
              </a:rPr>
              <a:t>approach or methodology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would you adopt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You should provide a  rather </a:t>
            </a:r>
            <a:r>
              <a:rPr b="0" lang="en-US" sz="3600" spc="-1" strike="noStrike">
                <a:solidFill>
                  <a:srgbClr val="922223"/>
                </a:solidFill>
                <a:latin typeface="Gill Sans MT"/>
              </a:rPr>
              <a:t>current complete overview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of your related topic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You are to show that you have </a:t>
            </a:r>
            <a:r>
              <a:rPr b="0" lang="en-US" sz="3600" spc="-1" strike="noStrike">
                <a:solidFill>
                  <a:srgbClr val="922223"/>
                </a:solidFill>
                <a:latin typeface="Gill Sans MT"/>
              </a:rPr>
              <a:t>read extensively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and </a:t>
            </a:r>
            <a:r>
              <a:rPr b="0" lang="en-US" sz="3600" spc="-1" strike="noStrike">
                <a:solidFill>
                  <a:srgbClr val="922223"/>
                </a:solidFill>
                <a:latin typeface="Gill Sans MT"/>
              </a:rPr>
              <a:t>formed a body of knowledge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on the subject of field of study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00080" y="131760"/>
            <a:ext cx="8143920" cy="8683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3900"/>
            </a:br>
            <a:r>
              <a:rPr b="0" lang="en-MY" sz="3900" spc="-1" strike="noStrike">
                <a:solidFill>
                  <a:srgbClr val="572314"/>
                </a:solidFill>
                <a:latin typeface="Gill Sans MT"/>
              </a:rPr>
              <a:t>Purpose of writing a literature 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eview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 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00080" y="1285560"/>
            <a:ext cx="8143920" cy="51260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r review should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 in a form of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critical decis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ow awareness of differing arguments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scribe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theories, approaches and methodologi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 a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synthesis and analysi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f the relevant published work,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linked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t all times to your objective and rationale of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your stu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00080" y="131760"/>
            <a:ext cx="8143920" cy="8683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3900"/>
            </a:br>
            <a:r>
              <a:rPr b="0" lang="en-MY" sz="3900" spc="-1" strike="noStrike">
                <a:solidFill>
                  <a:srgbClr val="572314"/>
                </a:solidFill>
                <a:latin typeface="Gill Sans MT"/>
              </a:rPr>
              <a:t>Purpose of writing a literature 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eview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 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000080" y="1143000"/>
            <a:ext cx="8143920" cy="55720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 fontScale="99000"/>
          </a:bodyPr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write literature review becaus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review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knowledge of previous studies on the subject of researc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identifie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conceptual framework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one’s own research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provides directions for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future researc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provides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resourc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previously unknown to the rea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identifies gap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past stud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00080" y="131760"/>
            <a:ext cx="8143920" cy="8683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3900"/>
            </a:br>
            <a:r>
              <a:rPr b="0" lang="en-MY" sz="3900" spc="-1" strike="noStrike">
                <a:solidFill>
                  <a:srgbClr val="572314"/>
                </a:solidFill>
                <a:latin typeface="Gill Sans MT"/>
              </a:rPr>
              <a:t>Purpose of writing a literature 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eview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 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00080" y="1143000"/>
            <a:ext cx="8143920" cy="55720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e write literature review because: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t </a:t>
            </a:r>
            <a:r>
              <a:rPr b="0" lang="en-US" sz="3000" spc="-1" strike="noStrike">
                <a:solidFill>
                  <a:srgbClr val="922223"/>
                </a:solidFill>
                <a:latin typeface="Gill Sans MT"/>
              </a:rPr>
              <a:t>relate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r findings to previous knowledge and suggest further research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n a literature review the writer has to </a:t>
            </a:r>
            <a:r>
              <a:rPr b="0" lang="en-US" sz="3000" spc="-1" strike="noStrike">
                <a:solidFill>
                  <a:srgbClr val="922223"/>
                </a:solidFill>
                <a:latin typeface="Gill Sans MT"/>
              </a:rPr>
              <a:t>justify his choice of research question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e researcher has to provide  the necessary </a:t>
            </a:r>
            <a:r>
              <a:rPr b="0" lang="en-US" sz="3000" spc="-1" strike="noStrike">
                <a:solidFill>
                  <a:srgbClr val="922223"/>
                </a:solidFill>
                <a:latin typeface="Gill Sans MT"/>
              </a:rPr>
              <a:t>background information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needed to understand the study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o show the readers that the writer is familiar with  the significant and up to date research which is relevant to the  research topic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06:17:09Z</dcterms:created>
  <dc:creator>Owner</dc:creator>
  <dc:description/>
  <dc:language>en-US</dc:language>
  <cp:lastModifiedBy>Lecturer</cp:lastModifiedBy>
  <dcterms:modified xsi:type="dcterms:W3CDTF">2009-08-10T03:17:32Z</dcterms:modified>
  <cp:revision>46</cp:revision>
  <dc:subject/>
  <dc:title>CHAPTER 2</dc:title>
</cp:coreProperties>
</file>