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F4F6-0CDA-499A-8173-26908FA01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C3B5-369B-4067-A40A-4845F3533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45A6-CD26-4C33-B537-4965822DF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E5CF-827B-4B1F-9C77-27E89ACA4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5E912-B27F-40D2-854C-042917282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99E98-144C-4F9F-82F9-70C065110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3C368-582B-43D0-A8AE-6593E0615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B3619-8C1F-455C-AA7B-285B9191A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D5413-E0E5-4C4F-989C-934A681AA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1D203-6BAD-429F-9CB4-0A2506D9A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F603B-1C3E-44C3-AA6C-D65CB032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91A3-CB2E-4C0F-BF3C-DED4BED54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C8C05-968B-4FC8-89CD-86D1D599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6B988-0A1E-4A35-9CC9-18D11C27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6DDC4-5054-40B0-BD4B-E6DA67FEF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5A2D7-C4DE-4113-A096-9577C71F3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54F83-2925-4E2E-8EEE-BAEE68CD9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583ED-0D36-4903-8669-A06492E89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DA29F-C8E3-45E8-BF52-394C36132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47BC1-2976-47BD-99E1-A468F06D0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0C5E7-FB11-4059-96F5-8B6485676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AC578-6792-4C45-8830-B7E5475AB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ADEE-55B9-4985-85EE-E04C8C394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E2ADA-E0E5-45AF-BE3C-953CB160C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DB5BC-C886-45E9-B269-AB77ABE9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F920C-D47B-4FEC-A221-D1734476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5D6A1-0D43-491E-B7CD-6C2CA589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D2AC0-9E31-4C76-84CB-AB494A22E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0DDA5-E65A-4E65-A34C-1B68C9299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C8B51-311E-487E-B0B9-A69AE4435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E7F6E-935D-4A31-AD63-197EB01D8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1EFF3-4E67-4156-8C5F-B985B1195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A0899-70DF-4402-8ABF-0C2A39A18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BB73-4790-47CD-A877-0096A26E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561EE-3FCA-47E0-8A66-F77B0236C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C5767-C13D-4678-87EA-FB262C704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0FB9A-7892-4D37-B584-B12900D2A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4618A-0C25-46A0-82CF-B114CBA2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F2715-CC07-4DAE-BDBC-D07EF8ED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5E97E-FF31-48E1-AC6E-D9F82B60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FE4AC-9207-4B08-A157-338975C24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0520A-332E-40F8-9A52-7EF969C00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AA292-D417-47A0-A265-79CC05FF8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D5232-1582-40B6-AEF7-EBAD6BDAB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E221-8792-4FDC-8AC9-190EA630A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4FD86-7343-4AD4-9FEA-45A924534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DCA106-3405-49DC-8F6D-145ACBE78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D7E00-B070-4156-B0E9-CDCC74A31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23D4F-D48D-439B-B0DE-E5CA03559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1BD6F-C974-4199-A83A-400D71A32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16A00-BD79-48A1-905B-F5BD4630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8C493-6515-4566-9CD3-03A2E678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541B9-9E85-430A-AE64-82FC1E63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8A5DB-8AD1-467E-B36B-5607CDECB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96A92-C057-49D7-BF75-9F566BF88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655E-A6D8-474E-8A9D-5EBD7768F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98F5E-3911-41CF-B5E8-8FDB42C99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FBAC1-7B56-4FC1-875E-5FFABAF32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7CF15-D3E9-4120-82FE-578A52DF2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7E82C-098D-4AB6-8704-29E00F071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BDA08-D07F-486A-B7D0-254718594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321AC-CE58-48AD-85C7-F66085153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3D0A7-BB00-444B-985C-CB82111B1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C1039-8A43-4F2C-998A-E0D1ACD8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6056E-D6F0-49B8-8B23-7C058E0B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936D3-4851-40FC-8E59-C84BE288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45B0-6637-4287-B8A3-9FA5055B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88879-554F-4382-9A8C-8BCF21BD6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FB9A0-F519-4813-8A27-19DE76117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76AFE7-6FE4-41D0-89C5-01B4700E4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2E0B43-4CD9-4B0D-AD79-43F95B87A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75F50C-B724-4A73-96E1-6C429762E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CC167-595F-45E5-A03D-B1880B7AF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5574ED-96BA-40C7-A533-95B684D04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967ECE-F66D-4999-B55B-86C140942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F2A18D-DA9B-4540-A5CB-C856C7931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5B939-4259-45E2-B427-AD819AFC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0A98-DA06-4BFE-B04C-657408F7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AD2D0-81AB-4FAD-AAFB-7AE1BA18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CB45B-CCC7-4998-900E-2E05E257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8EF8B4-CA09-4104-8266-B9521FC02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00F1B3-7F03-4FDD-B233-2998470A2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F60FA3-A6CD-45A6-A095-81B8EE985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770F-3A78-43C4-BEFC-BBB7E74E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61C9D-DAB9-4E14-A935-06E568183FDC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DC03F-2467-4046-AAF7-F1B964AAA106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D5158-BDDD-4E36-A23F-0947344193AB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A9EE1-9CA6-4F62-916F-BA457C5DB4DD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3784-915D-4391-9E13-A98CA6002F72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9EDBF-3A53-4EB7-92D7-6BB3F318E65A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BE389-7B4E-4AC8-8E56-CB9371452FB2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1428840" y="1785960"/>
            <a:ext cx="7407360" cy="2571840"/>
          </a:xfrm>
          <a:prstGeom prst="rect">
            <a:avLst/>
          </a:prstGeom>
          <a:solidFill>
            <a:srgbClr val="8e2f00"/>
          </a:solidFill>
          <a:ln w="0">
            <a:noFill/>
          </a:ln>
        </p:spPr>
        <p:txBody>
          <a:bodyPr tIns="0" anchor="ctr" anchorCtr="1">
            <a:noAutofit/>
          </a:bodyPr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ill Sans MT"/>
              </a:rPr>
              <a:t>LITERATURE REVIEW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00080" y="131760"/>
            <a:ext cx="8143920" cy="868320"/>
          </a:xfrm>
          <a:prstGeom prst="rect">
            <a:avLst/>
          </a:prstGeom>
          <a:solidFill>
            <a:srgbClr val="3b1d15"/>
          </a:solidFill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accab"/>
                </a:solidFill>
                <a:latin typeface="Gill Sans MT"/>
              </a:rPr>
              <a:t>A good literature review is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Content Placeholder 2"/>
          <p:cNvSpPr/>
          <p:nvPr/>
        </p:nvSpPr>
        <p:spPr>
          <a:xfrm>
            <a:off x="1000080" y="1143000"/>
            <a:ext cx="8143920" cy="5572080"/>
          </a:xfrm>
          <a:prstGeom prst="rect">
            <a:avLst/>
          </a:prstGeom>
          <a:solidFill>
            <a:srgbClr val="e7dec9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9222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22223"/>
                </a:solidFill>
                <a:latin typeface="Arial"/>
              </a:rPr>
              <a:t>critical of what has been writt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222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22223"/>
                </a:solidFill>
                <a:latin typeface="Arial"/>
              </a:rPr>
              <a:t>it identifies areas of controversy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222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22223"/>
                </a:solidFill>
                <a:latin typeface="Arial"/>
              </a:rPr>
              <a:t>raises questions and identifies areas which need further researc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8571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Process of Writing a Literature Review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000080" y="999720"/>
            <a:ext cx="8143920" cy="57150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anchor="ctr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22223"/>
                </a:solidFill>
                <a:latin typeface="Gill Sans MT"/>
              </a:rPr>
              <a:t>The IR4W: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9222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Identify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9222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Record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9222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Relevance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9222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Retrieve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9222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Review 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9222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Write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1000080" y="1000080"/>
            <a:ext cx="8143920" cy="55720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anchor="ctr">
            <a:normAutofit fontScale="97000"/>
          </a:bodyPr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800000"/>
                </a:solidFill>
                <a:latin typeface="Gill Sans MT"/>
              </a:rPr>
              <a:t>Stage 1</a:t>
            </a:r>
            <a:r>
              <a:rPr b="1" lang="en-US" sz="3900" spc="-1" strike="noStrike">
                <a:solidFill>
                  <a:srgbClr val="800000"/>
                </a:solidFill>
                <a:latin typeface="Gill Sans MT"/>
              </a:rPr>
              <a:t> – Identify</a:t>
            </a:r>
            <a:endParaRPr b="0" lang="en-US" sz="39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Compile a list of references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Use a kind of index system either a hard copy or a software referencing system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Work through key catalogues, databases, indexes, bibliographies and websites for relevant resource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Check the references and in the articles you have read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Locate and use research reviews, most journals have a section on review of articles, it is essential you see what other people think about these articles as they be from a previous research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8571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Process of Writing a Literature Review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1000080" y="1214280"/>
            <a:ext cx="8143920" cy="45007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anchor="ctr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Gill Sans MT"/>
              </a:rPr>
              <a:t>Stage </a:t>
            </a:r>
            <a:r>
              <a:rPr b="1" lang="en-US" sz="3600" spc="-1" strike="noStrike">
                <a:solidFill>
                  <a:srgbClr val="800000"/>
                </a:solidFill>
                <a:latin typeface="Gill Sans MT"/>
              </a:rPr>
              <a:t> 2 - Record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e17b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ake a record of any literature that  relates to your topic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e17b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ou should have citation details and where it is located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e17b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ou should also write a few sentences that help you remember what the article is abou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8571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Process of Writing a Literature Review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1000080" y="1143000"/>
            <a:ext cx="8143920" cy="46432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anchor="ctr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Gill Sans MT"/>
              </a:rPr>
              <a:t>Stage 3 </a:t>
            </a:r>
            <a:r>
              <a:rPr b="1" lang="en-US" sz="3600" spc="-1" strike="noStrike">
                <a:solidFill>
                  <a:srgbClr val="800000"/>
                </a:solidFill>
                <a:latin typeface="Gill Sans MT"/>
              </a:rPr>
              <a:t>– Relevanc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rioritize the literature, after having read the abstract, rank them if it should be high, medium or low priority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n the website scan through the literature for relevance before you decide to download or print it ou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8571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Process of Writing a Literature Review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1000080" y="1071720"/>
            <a:ext cx="8143920" cy="53575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anchor="ctr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Gill Sans MT"/>
              </a:rPr>
              <a:t>Stage 3 </a:t>
            </a:r>
            <a:r>
              <a:rPr b="1" lang="en-US" sz="3600" spc="-1" strike="noStrike">
                <a:solidFill>
                  <a:srgbClr val="800000"/>
                </a:solidFill>
                <a:latin typeface="Gill Sans MT"/>
              </a:rPr>
              <a:t>– Relevanc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ou need to focus on the literature and sources you have identified and ranked as most important,  the most recent development from the periodical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istinguish between textbooks, research articles from journals and books. They contain different kinds of information that will be more or less relevant to your research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8571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Process of Writing a Literature Review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1000080" y="1447920"/>
            <a:ext cx="8143920" cy="36957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Gill Sans MT"/>
              </a:rPr>
              <a:t>Stage 4 </a:t>
            </a:r>
            <a:r>
              <a:rPr b="1" lang="en-US" sz="3600" spc="-1" strike="noStrike">
                <a:solidFill>
                  <a:srgbClr val="800000"/>
                </a:solidFill>
                <a:latin typeface="Gill Sans MT"/>
              </a:rPr>
              <a:t>- Retriev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ake hard copies of the most important literature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rint relevant journal articles from databases and  photocopy articles from journal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00080" y="214200"/>
            <a:ext cx="8143920" cy="8575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Process of Writing a Literature Review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1000080" y="1143000"/>
            <a:ext cx="8143920" cy="55008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Gill Sans MT"/>
              </a:rPr>
              <a:t>Stage 5 </a:t>
            </a:r>
            <a:r>
              <a:rPr b="1" lang="en-US" sz="3600" spc="-1" strike="noStrike">
                <a:solidFill>
                  <a:srgbClr val="800000"/>
                </a:solidFill>
                <a:latin typeface="Gill Sans MT"/>
              </a:rPr>
              <a:t>– Review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Use the reading log which allows you to record different kinds of information: the bibliographic details, a description, and relationship to other readings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Also record where the literature is located so that you can easily refer to the quotes or ideas paraphrased when you are editing. 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As you are taking notes, ensure that you are clear about what you are quoting and paraphrasing. You cannot risk unintentionally plagiarizing ideas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00080" y="71280"/>
            <a:ext cx="8143920" cy="8575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Process of Writing a Literature Review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1000080" y="1213920"/>
            <a:ext cx="8143920" cy="43578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anchor="ctr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Gill Sans MT"/>
              </a:rPr>
              <a:t>Stage 6 </a:t>
            </a:r>
            <a:r>
              <a:rPr b="1" lang="en-US" sz="3600" spc="-1" strike="noStrike">
                <a:solidFill>
                  <a:srgbClr val="800000"/>
                </a:solidFill>
                <a:latin typeface="Gill Sans MT"/>
              </a:rPr>
              <a:t>- Writ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tart with an introductory paragraph,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iscuss the literature on the subject in a logical and coherent way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nclude with a paragraph that is relevant to the literature of the research</a:t>
            </a: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00080" y="142560"/>
            <a:ext cx="8143920" cy="8571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Process of Writing a Literature Review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Content Placeholder 2"/>
          <p:cNvSpPr/>
          <p:nvPr/>
        </p:nvSpPr>
        <p:spPr>
          <a:xfrm>
            <a:off x="1000080" y="1143000"/>
            <a:ext cx="8143920" cy="5572080"/>
          </a:xfrm>
          <a:prstGeom prst="rect">
            <a:avLst/>
          </a:prstGeom>
          <a:solidFill>
            <a:srgbClr val="f5d3d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800000"/>
                </a:solidFill>
                <a:latin typeface="Gill Sans MT"/>
              </a:rPr>
              <a:t>Decide the subheadings for your literature revie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800000"/>
                </a:solidFill>
                <a:latin typeface="Gill Sans MT"/>
              </a:rPr>
              <a:t>Always refer to your objectives and research questions when you want to decide on the subhead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Gill Sans MT"/>
              </a:rPr>
              <a:t>Make sure subheadings are relevant and able to describe your research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800000"/>
                </a:solidFill>
                <a:latin typeface="Gill Sans MT"/>
              </a:rPr>
              <a:t>Discuss on where you are going to get the reading materials from</a:t>
            </a: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800000"/>
                </a:solidFill>
                <a:latin typeface="Gill Sans MT"/>
              </a:rPr>
              <a:t> </a:t>
            </a:r>
            <a:r>
              <a:rPr b="0" lang="en-MY" sz="3200" spc="-1" strike="noStrike">
                <a:solidFill>
                  <a:srgbClr val="800000"/>
                </a:solidFill>
                <a:latin typeface="Gill Sans MT"/>
              </a:rPr>
              <a:t>Delegate tas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00080" y="142560"/>
            <a:ext cx="8143920" cy="857160"/>
          </a:xfrm>
          <a:prstGeom prst="rect">
            <a:avLst/>
          </a:prstGeom>
          <a:solidFill>
            <a:srgbClr val="611617"/>
          </a:solidFill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ccc3"/>
                </a:solidFill>
                <a:latin typeface="Gill Sans MT"/>
              </a:rPr>
              <a:t>Now, get into your groups…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13920" y="213840"/>
            <a:ext cx="7720200" cy="1071720"/>
          </a:xfrm>
          <a:prstGeom prst="rect">
            <a:avLst/>
          </a:prstGeom>
          <a:noFill/>
          <a:ln w="38160">
            <a:solidFill>
              <a:srgbClr val="713204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4300" spc="-1" strike="noStrike">
                <a:solidFill>
                  <a:srgbClr val="572314"/>
                </a:solidFill>
                <a:latin typeface="Gill Sans MT"/>
              </a:rPr>
              <a:t>What is a “Literature Review”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0" name="Rectangle 3"/>
          <p:cNvSpPr/>
          <p:nvPr/>
        </p:nvSpPr>
        <p:spPr>
          <a:xfrm>
            <a:off x="1214280" y="1571760"/>
            <a:ext cx="7715520" cy="5114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64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 literature review is an overview of research on a given topic and answers to related research ques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iterature review is an important part of research and should be treated as su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 well-written literature revie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9222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22223"/>
                </a:solidFill>
                <a:uFillTx/>
                <a:latin typeface="Gill Sans MT"/>
                <a:ea typeface="Arial"/>
              </a:rPr>
              <a:t>Organizes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  <a:ea typeface="Arial"/>
              </a:rPr>
              <a:t> lit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9222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22223"/>
                </a:solidFill>
                <a:uFillTx/>
                <a:latin typeface="Gill Sans MT"/>
                <a:ea typeface="Arial"/>
              </a:rPr>
              <a:t>Evaluates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  <a:ea typeface="Arial"/>
              </a:rPr>
              <a:t> lit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9222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22223"/>
                </a:solidFill>
                <a:uFillTx/>
                <a:latin typeface="Gill Sans MT"/>
                <a:ea typeface="Arial"/>
              </a:rPr>
              <a:t>Identifies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  <a:ea typeface="Arial"/>
              </a:rPr>
              <a:t> patterns and trends in   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  <a:ea typeface="Arial"/>
              </a:rPr>
              <a:t>	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  <a:ea typeface="Arial"/>
              </a:rPr>
              <a:t>lit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9222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22223"/>
                </a:solidFill>
                <a:uFillTx/>
                <a:latin typeface="Gill Sans MT"/>
                <a:ea typeface="Arial"/>
              </a:rPr>
              <a:t>Synthesizes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  <a:ea typeface="Arial"/>
              </a:rPr>
              <a:t> lit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Content Placeholder 2"/>
          <p:cNvSpPr/>
          <p:nvPr/>
        </p:nvSpPr>
        <p:spPr>
          <a:xfrm>
            <a:off x="1000080" y="714240"/>
            <a:ext cx="8143920" cy="2928960"/>
          </a:xfrm>
          <a:prstGeom prst="rect">
            <a:avLst/>
          </a:prstGeom>
          <a:solidFill>
            <a:srgbClr val="f5d3d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800000"/>
                </a:solidFill>
                <a:latin typeface="Gill Sans MT"/>
              </a:rPr>
              <a:t>Stage 1</a:t>
            </a:r>
            <a:r>
              <a:rPr b="1" lang="en-US" sz="2500" spc="-1" strike="noStrike">
                <a:solidFill>
                  <a:srgbClr val="800000"/>
                </a:solidFill>
                <a:latin typeface="Gill Sans MT"/>
              </a:rPr>
              <a:t> – Identif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Compile a list of references relevant to your study.  (10 article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Use a kind of index system either a hard copy or a software referencing system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Work through key </a:t>
            </a:r>
            <a:r>
              <a:rPr b="0" lang="en-US" sz="2500" spc="-1" strike="noStrike">
                <a:solidFill>
                  <a:srgbClr val="922223"/>
                </a:solidFill>
                <a:latin typeface="Gill Sans MT"/>
              </a:rPr>
              <a:t>catalogues</a:t>
            </a: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en-US" sz="2500" spc="-1" strike="noStrike">
                <a:solidFill>
                  <a:srgbClr val="922223"/>
                </a:solidFill>
                <a:latin typeface="Gill Sans MT"/>
              </a:rPr>
              <a:t>databases</a:t>
            </a: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, indexes, bibliographies and </a:t>
            </a:r>
            <a:r>
              <a:rPr b="0" lang="en-US" sz="2500" spc="-1" strike="noStrike">
                <a:solidFill>
                  <a:srgbClr val="922223"/>
                </a:solidFill>
                <a:latin typeface="Gill Sans MT"/>
              </a:rPr>
              <a:t>websites</a:t>
            </a: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 for relevant resourc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8143920" cy="642960"/>
          </a:xfrm>
          <a:prstGeom prst="rect">
            <a:avLst/>
          </a:prstGeom>
          <a:solidFill>
            <a:srgbClr val="611617"/>
          </a:solidFill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ccc3"/>
                </a:solidFill>
                <a:latin typeface="Gill Sans MT"/>
              </a:rPr>
              <a:t>Assignment for next class…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000080" y="3714480"/>
            <a:ext cx="8143920" cy="3071880"/>
          </a:xfrm>
          <a:prstGeom prst="rect">
            <a:avLst/>
          </a:prstGeom>
          <a:solidFill>
            <a:srgbClr val="f5d3d3"/>
          </a:solidFill>
          <a:ln w="9360">
            <a:solidFill>
              <a:srgbClr val="800000"/>
            </a:solidFill>
            <a:miter/>
          </a:ln>
        </p:spPr>
        <p:txBody>
          <a:bodyPr anchor="ctr">
            <a:normAutofit fontScale="90000"/>
          </a:bodyPr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800000"/>
                </a:solidFill>
                <a:latin typeface="Gill Sans MT"/>
              </a:rPr>
              <a:t>Stage </a:t>
            </a:r>
            <a:r>
              <a:rPr b="1" lang="en-US" sz="2500" spc="-1" strike="noStrike">
                <a:solidFill>
                  <a:srgbClr val="800000"/>
                </a:solidFill>
                <a:latin typeface="Gill Sans MT"/>
              </a:rPr>
              <a:t>2 - Record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Make a record of any literature that relates to your topic. 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You should have </a:t>
            </a:r>
            <a:r>
              <a:rPr b="0" lang="en-US" sz="2500" spc="-1" strike="noStrike">
                <a:solidFill>
                  <a:srgbClr val="922223"/>
                </a:solidFill>
                <a:latin typeface="Gill Sans MT"/>
              </a:rPr>
              <a:t>citation details </a:t>
            </a: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and where it is located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You should also write a few sentences that help you remember what the article is about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Submit this “record” on your wikispace before the next meeting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1434960" y="713880"/>
            <a:ext cx="7499520" cy="5534280"/>
          </a:xfrm>
          <a:prstGeom prst="rect">
            <a:avLst/>
          </a:prstGeom>
          <a:noFill/>
          <a:ln w="9360">
            <a:solidFill>
              <a:srgbClr val="922223"/>
            </a:solidFill>
            <a:miter/>
          </a:ln>
        </p:spPr>
        <p:txBody>
          <a:bodyPr anchor="ctr">
            <a:normAutofit/>
          </a:bodyPr>
          <a:p>
            <a:pPr marL="365040" indent="-28260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literature’ means the works you </a:t>
            </a:r>
            <a:r>
              <a:rPr b="0" lang="en-US" sz="3200" spc="-1" strike="noStrike">
                <a:solidFill>
                  <a:srgbClr val="800000"/>
                </a:solidFill>
                <a:latin typeface="Gill Sans MT"/>
              </a:rPr>
              <a:t>consulted/ referred to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 order to understand and investigate your research problem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 literature review involves providing a rationale for your selection of literature related to the subject studied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1213920" y="785880"/>
            <a:ext cx="7720200" cy="5214960"/>
          </a:xfrm>
          <a:prstGeom prst="rect">
            <a:avLst/>
          </a:prstGeom>
          <a:noFill/>
          <a:ln w="9360">
            <a:solidFill>
              <a:srgbClr val="713204"/>
            </a:solidFill>
            <a:miter/>
          </a:ln>
        </p:spPr>
        <p:txBody>
          <a:bodyPr anchor="ctr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6116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literature review  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familiarize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e reader with the 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subject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nd the 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scope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f the research topic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6116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6116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t helps the reader  to 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define key concept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6116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6116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t establishes the 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body of knowledge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which will be able to 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contribute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owards the research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00080" y="142920"/>
            <a:ext cx="8143920" cy="9288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riting the Literature Review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000080" y="1214280"/>
            <a:ext cx="8143920" cy="55008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anchor="ctr">
            <a:normAutofit/>
          </a:bodyPr>
          <a:p>
            <a:pPr marL="365040" indent="-282600">
              <a:spcBef>
                <a:spcPts val="601"/>
              </a:spcBef>
              <a:buClr>
                <a:srgbClr val="61161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irstly decide what you need to read from a broad spectrum of literature available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61161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61161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Refer to books, periodicals, journals, and websites which will be relevant to your study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61161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61161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Determine what exactly are your </a:t>
            </a:r>
            <a:r>
              <a:rPr b="0" lang="en-US" sz="3600" spc="-1" strike="noStrike">
                <a:solidFill>
                  <a:srgbClr val="922223"/>
                </a:solidFill>
                <a:latin typeface="Gill Sans MT"/>
              </a:rPr>
              <a:t>objectives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00080" y="142920"/>
            <a:ext cx="8143920" cy="9288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riting the Literature Review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000080" y="1214280"/>
            <a:ext cx="8143920" cy="55008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anchor="ctr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61161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You have to decide on  what </a:t>
            </a:r>
            <a:r>
              <a:rPr b="0" lang="en-US" sz="3600" spc="-1" strike="noStrike">
                <a:solidFill>
                  <a:srgbClr val="922223"/>
                </a:solidFill>
                <a:latin typeface="Gill Sans MT"/>
              </a:rPr>
              <a:t>approach or methodology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would you adopt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61161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61161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You should provide a  rather </a:t>
            </a:r>
            <a:r>
              <a:rPr b="0" lang="en-US" sz="3600" spc="-1" strike="noStrike">
                <a:solidFill>
                  <a:srgbClr val="922223"/>
                </a:solidFill>
                <a:latin typeface="Gill Sans MT"/>
              </a:rPr>
              <a:t>current complete overview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of your related topic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61161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61161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You are to show that you have </a:t>
            </a:r>
            <a:r>
              <a:rPr b="0" lang="en-US" sz="3600" spc="-1" strike="noStrike">
                <a:solidFill>
                  <a:srgbClr val="922223"/>
                </a:solidFill>
                <a:latin typeface="Gill Sans MT"/>
              </a:rPr>
              <a:t>read extensively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and </a:t>
            </a:r>
            <a:r>
              <a:rPr b="0" lang="en-US" sz="3600" spc="-1" strike="noStrike">
                <a:solidFill>
                  <a:srgbClr val="922223"/>
                </a:solidFill>
                <a:latin typeface="Gill Sans MT"/>
              </a:rPr>
              <a:t>formed a body of knowledge 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on the subject of field of study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00080" y="131760"/>
            <a:ext cx="8143920" cy="8683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 </a:t>
            </a:r>
            <a:br>
              <a:rPr sz="3900"/>
            </a:br>
            <a:r>
              <a:rPr b="0" lang="en-MY" sz="3900" spc="-1" strike="noStrike">
                <a:solidFill>
                  <a:srgbClr val="572314"/>
                </a:solidFill>
                <a:latin typeface="Gill Sans MT"/>
              </a:rPr>
              <a:t>Purpose of writing a literature 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Review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 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000080" y="1285560"/>
            <a:ext cx="8143920" cy="512604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anchor="ctr">
            <a:normAutofit fontScale="98000"/>
          </a:bodyPr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our review should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e in a form of 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critical decis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how awareness of differing arguments,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escribe 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theories, approaches and methodologie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e a 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synthesis and analysi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f the relevant published work, 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linked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t all times to your objective and rationale of 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your stud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00080" y="131760"/>
            <a:ext cx="8143920" cy="8683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 </a:t>
            </a:r>
            <a:br>
              <a:rPr sz="3900"/>
            </a:br>
            <a:r>
              <a:rPr b="0" lang="en-MY" sz="3900" spc="-1" strike="noStrike">
                <a:solidFill>
                  <a:srgbClr val="572314"/>
                </a:solidFill>
                <a:latin typeface="Gill Sans MT"/>
              </a:rPr>
              <a:t>Purpose of writing a literature 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Review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 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000080" y="1143000"/>
            <a:ext cx="8143920" cy="55720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anchor="ctr">
            <a:normAutofit fontScale="99000"/>
          </a:bodyPr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 write literature review because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t 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review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knowledge of previous studies on the subject of research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identifie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 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conceptual framework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r one’s own research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t provides directions for 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future research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t provides 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resource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previously unknown to the read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t 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identifies gap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 past studi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00080" y="131760"/>
            <a:ext cx="8143920" cy="8683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 </a:t>
            </a:r>
            <a:br>
              <a:rPr sz="3900"/>
            </a:br>
            <a:r>
              <a:rPr b="0" lang="en-MY" sz="3900" spc="-1" strike="noStrike">
                <a:solidFill>
                  <a:srgbClr val="572314"/>
                </a:solidFill>
                <a:latin typeface="Gill Sans MT"/>
              </a:rPr>
              <a:t>Purpose of writing a literature 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Review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 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000080" y="1143000"/>
            <a:ext cx="8143920" cy="55720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anchor="ctr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We write literature review because: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it </a:t>
            </a:r>
            <a:r>
              <a:rPr b="0" lang="en-US" sz="3000" spc="-1" strike="noStrike">
                <a:solidFill>
                  <a:srgbClr val="922223"/>
                </a:solidFill>
                <a:latin typeface="Gill Sans MT"/>
              </a:rPr>
              <a:t>relates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your findings to previous knowledge and suggest further research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in a literature review the writer has to </a:t>
            </a:r>
            <a:r>
              <a:rPr b="0" lang="en-US" sz="3000" spc="-1" strike="noStrike">
                <a:solidFill>
                  <a:srgbClr val="922223"/>
                </a:solidFill>
                <a:latin typeface="Gill Sans MT"/>
              </a:rPr>
              <a:t>justify his choice of research question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the researcher has to provide  the necessary </a:t>
            </a:r>
            <a:r>
              <a:rPr b="0" lang="en-US" sz="3000" spc="-1" strike="noStrike">
                <a:solidFill>
                  <a:srgbClr val="922223"/>
                </a:solidFill>
                <a:latin typeface="Gill Sans MT"/>
              </a:rPr>
              <a:t>background information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needed to understand the study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to show the readers that the writer is familiar with  the significant and up to date research which is relevant to the  research topic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9T06:17:09Z</dcterms:created>
  <dc:creator>Owner</dc:creator>
  <dc:description/>
  <dc:language>en-US</dc:language>
  <cp:lastModifiedBy>Lecturer</cp:lastModifiedBy>
  <dcterms:modified xsi:type="dcterms:W3CDTF">2009-08-10T03:17:32Z</dcterms:modified>
  <cp:revision>46</cp:revision>
  <dc:subject/>
  <dc:title>CHAPTER 2</dc:title>
</cp:coreProperties>
</file>