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642E-2481-40C3-B27D-36B317650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F14B-A243-4CA7-A9F3-7B4BE93BE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F814-F908-410B-9E9D-9DFA56184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3129-DCA5-4CC8-8857-3E171442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75A72-6366-4609-BB2F-A74318DE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B8493-E1D3-4475-83C4-75BFA88D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662D0-BB35-4006-AEBA-AD97E90B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EC227-8AD1-4C84-8529-A404D485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EEF4D3-CA5C-499A-A78B-9F89443F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7CC40-3740-4B0D-A713-001E4930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0193F-1455-4044-A5DC-CBD8429D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A5EBD-1A1C-408B-A140-AF9FE55F3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C2103C-281F-4B17-A867-E08E68647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447835-76EE-43BC-ACA2-CA96F7A37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B6B6-8015-48DA-8A4C-122D0320B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696E3-B149-46C6-8987-259E805E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0AC92-2890-4CA0-8770-88A4DE63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7CAE2-914E-4D12-ABA4-40F31766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081CB-8A02-4547-A9C6-D69F7227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48A85C-8021-4F24-86EF-A300D774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62D46-2C49-4BDE-BEC7-44212635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C4506-343C-4F0B-95F1-F9A53B27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4651F7-1D50-4448-910C-D173F510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84CAC3-151D-4C67-9204-78F3A488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41875-0ED2-4ABD-A853-DD4F1C335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B484-832B-4636-BC05-3F0B0C035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AE6753-956F-4AB3-8E31-C02D77CD3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2431E-08FB-420D-A574-FE7BDEE32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F6E3E-850D-44F7-8CD3-FA6C985E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5B984-EC64-409F-BF14-23B50500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B92E8-77D7-45E6-8490-EFCA790A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2D97C-1910-45CE-AD33-324838CB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FC7BC-67C6-4205-9B4D-065CE99F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C68B6-83EC-4686-BD56-A0D4DCFB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22275-FBB7-4E78-B606-067570F5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FBDFBF-C6F6-4702-9708-44AFD783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D51A-095D-4471-BC9F-82DA55C0B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BD4CC-68A3-42E6-9C7A-48716BE5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FB46D-CFA5-4287-948C-00022A3EF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DC4E0-3857-4D31-9274-FB2DA6876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6EA2B-919A-474C-A668-AB267C49A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1FB27D-178B-4B10-83BC-04B0173D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1FDD3E-01F8-432A-A4F7-361A30E9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912071-B276-4978-A05C-7DD9960E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90FF3B-B277-437D-9D27-BEB6E5E5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8F44E-E006-474B-B5AD-09F38228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AC7E6F-A86A-4C0F-A483-BF32E4DC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4511-CA29-481A-BF0A-DCED23BC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3A8DE8-6B6B-4D7A-93EF-0EAACCA0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09007-C2CD-44ED-8355-EC8C0445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8950BF-ECC1-4DDB-AF5D-22172E9B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5FC34C-64BE-4973-BC62-A15C389CD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B88AEA-79FF-42AC-9D21-FFE90A0B2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2367EB-0B85-44A8-A9BE-FEE482E24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64CE7D-4BCA-421E-A162-ED02EE74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56C42F-4AED-43CE-AED8-744F8A5E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FE5280-C298-40E9-82D2-C78B82BA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F20606-3BA6-4897-956C-82AF9836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B751-2303-4BDB-BF33-D5D6C170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6096B7-3EB6-49B5-96B0-CB233D30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E8BE30-5508-459B-9CB0-3B83D39F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CF97CA-F83F-4C34-9273-F99E5CD6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69A063-3364-4175-BD81-1B32F404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454352-A997-498C-BC77-2FA020BB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51F77E-C1C5-4A10-AC3B-1DA96A400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E9AC20-0341-42D1-B0A2-36EAB92E3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9AC87E-5EBB-4171-AFD1-65B99C3FE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52AEB7-BDC8-4456-BD30-50C916C3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E3C04E-17AE-4BC1-AEAD-6E0F37C6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04AF-58B9-4098-90A2-0ADFE8ED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925A4A-1797-4A42-AEEC-A2A9D125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D606C6-1F90-44D0-A8CF-EA5DD203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B9CA0F-016A-4538-B635-75564005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A88346-6F57-49CF-A943-334F28B0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CA6C65-A394-4083-8F51-36AA6E63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915B5B-68C3-4C2F-9902-DB118190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C5E811-A73A-42F3-9594-C3656BB0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B40ABB-621B-43F6-9E03-37EAEB840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6E37AD-BDF5-4C2D-B38D-3E9AF059F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0BA98A-BB8E-4F5A-9C40-19B5954EF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928D-D345-4A34-83B5-B97A9B80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9A413C-9BE4-45E9-B281-FD2C5683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7EA82D-E536-468E-84A3-552133B0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E836E5-A130-4FAC-A1D6-7250F153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5A5286-A610-4805-B6A4-1F3D405C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E50201-6B97-4918-BF7C-98B5AC14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E03E4B-AA79-4C00-BCC0-D4B66674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8D4D1E-981F-4674-BAB4-BF6766E3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0DB6E6-B9A7-4369-9B84-1F410620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B90268-0C89-4909-8AC5-50E62D69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DB2607-B4D2-4E33-B853-98B7D9C17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81CF-F377-4FBB-8CFF-81049E9A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D425D2-0E71-46DC-BFBD-AAC26F104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9F5C-35E7-4197-AC2D-768F32BF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00F5-D68A-4CE7-8B74-3427A9AD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9EA9-C958-48A9-96CD-CAE29976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B2C6-0F40-4CFC-966B-083AC38A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F906-DA01-4064-BD0A-248E0ABC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5A1F-0792-4638-A675-70B432705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7D72-6528-4F12-AA88-2DD8AA8D1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81B57-7DAE-44A4-BA6C-1D2BB4071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BF7A5-57DA-4101-8E20-DD123325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DACAD-7ABD-4016-81F2-2F010C6C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C563F-B895-4E76-A33E-7B8387A8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9F94F-0212-4D6A-A61D-EF12A13A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4571-A5B5-4E8F-B6C8-893DEF7B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7DDA6-C1E2-4496-A41F-A75F71C7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F19A3-7FBC-45D1-BB57-EF853850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93C0C-CC2B-46F3-8687-39B5D46B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E09D7-D345-4D98-9230-A881C486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DF5E7-D6A1-4CC6-AC6E-F4B2A21C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D414C-E8AE-4E37-8543-F82BAC399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647FE-9B0C-4FB6-8DC7-5CE392D84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6A46D-B299-491E-9B73-E7E8F76AA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0BDE3-BA17-47A2-992C-16CC0E35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D2D5A-4CD2-47F4-8F08-51025312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4231-4BA5-48BC-9216-0900D6B0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49A2F-EB7D-4990-A86E-FBC6A4D5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AD4CE-379F-4ADB-88A0-32D3998C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F022B-2176-4CE2-BAF2-4542BC6D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9C37D-A7B7-4049-BE83-409C7A84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0BA8D-1ED6-4DE7-820B-54CF8B02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2BF6D-EC75-4707-B162-79AFC234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690C3-04E8-40AE-8248-C16EF14D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29D05-CCED-4E6E-B5D1-145E9969B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D092D-EE56-498B-8C02-5FA4EC5FA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FF949-C2CA-4919-ACA1-70638804C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1068-83D5-4DC9-A7AE-C01948C6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35C47-99F3-4491-8F70-97CC1CB2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C3E9C-4EA0-4FFB-BA7C-7A4B0CB1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4CF69-1FA1-4944-9891-9ADF8174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B55BD-C3BB-4DE9-923F-76D52C42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3C499-4D5D-438F-82EA-6562699E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AACF1-F55D-48F9-AAC8-5B398412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0BA47-C88F-489C-A7B1-AFCE17F8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0F806-E7DB-41F2-A900-97DE3538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8A9F8-A7CD-402D-8C39-C8225EE2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488D7-CE37-46B2-9EB1-90056DD1A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BA40-5814-4A4F-8FDB-275D7903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9E4CB-8DFC-4FE1-916F-F2B766047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DD97E-B56C-4930-957A-7D1C2A7F6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96968-0070-41E3-99B4-36576D53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EF12D-8E8B-4351-B83D-E63836C7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AAA95-1F3F-45FD-A9B6-57278556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4DAFE-DE03-4F3B-8F81-86344875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A06C7-ADD3-4254-9702-0CF1D2F2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5E866-A189-4312-8FE2-4D6DCBA7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AB395-CC2C-44EB-A2A5-4AD77FBC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C05D8-0532-4984-8291-B0BC7C22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66BC-67D7-48F4-8FE9-44F89039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E74F3-B3CE-4724-AC23-99F0CCC2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9B7F7-DDDC-421B-B195-B2BE1E2A9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26037-5DDC-4B90-9850-07E00B6B0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342BA-71D0-48AE-983F-22B122DB9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AFBCB-7B4D-4453-A393-E0CF853E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3A5F0-3DBC-437D-A737-56245B96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A26B2-00BC-4A1F-961E-B40DEF7D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781AA-1991-43EE-8D5C-92CF71EC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A2442-C76C-4174-9CCB-4CFCCD33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52E09-BDAF-44EA-BDA6-550C0F3C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3E81-A7BE-463A-91BC-5F7D3CC8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B7B6C-4F7A-4004-8626-BF6CEC5B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1C9C1-F3D4-48B5-9FD3-5E26C0E1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7FF5D-D9CF-4A55-985D-C93494D8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F909F-B085-409F-BEB7-382ED92F8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80DEF-36BA-48A7-B519-5C0EDDE14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4695E-A498-46EA-BE06-415302FD4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78DE8-E2C4-4C20-8AE5-417E6E6E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63E2D-5D55-407B-A708-3B07951F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A4BCC-B915-4DD0-9827-4040C18D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A4E65-58B4-4052-BA53-191F7BD8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7A96-AEED-47A0-A478-306CC705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46C33-C331-4119-A679-E37A3906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FB3AF-2C6D-45A8-891E-6DD74F48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F14B1-60DE-4DDA-BC0B-38C98811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B9899-8CE2-494B-9317-2F2DF8FF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0995A-83DD-4089-A554-AB58C8B5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D4831-CF82-4BA0-BFE3-BF617037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DA774-BA8B-4871-9F62-E725886F3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9A05F-7B79-4482-B8D0-76AAC64B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DC9DA-1B0A-41A8-B1F6-213774E0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438A1-B59F-4C5A-B8CA-053435E2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DC08-33DA-423E-8F35-526C012781DF}" type="slidenum">
              <a:rPr b="0" lang="en-US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2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2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2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7016-BE31-41D2-A33C-DC707CB56F8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7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7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7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F0D3-4F6B-4316-87B4-72CC481C76B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3960-13BA-45B6-B547-0B8EA340DF2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6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C189-3D2A-44B8-A093-5752A54DE17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1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1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F368-A86F-493F-A9F8-2BD478083D0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4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19F0-D544-49A9-9211-D7E8F5F98DC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FF1B-174E-4D1F-B4C8-C12F841CD9E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840D-ACAC-4BD8-9769-A9A8492708E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1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CB5A-A137-4A33-9FE4-CD070B2C0A86}" type="slidenum">
              <a:rPr b="0" lang="en-US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2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92BE-9855-41B7-8862-5DFFF76F3349}" type="slidenum">
              <a:rPr b="0" lang="en-US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2840-5385-4310-B199-212B5E4797ED}" type="slidenum">
              <a:rPr b="0" lang="en-US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1ADD-3378-46D9-993F-CC0734D0106E}" type="slidenum">
              <a:rPr b="0" lang="en-US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9637-9610-4860-9CE0-286D001D654E}" type="slidenum">
              <a:rPr b="0" lang="en-US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fd6e2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4e7e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D96A-5D22-4D68-9990-6C657335061D}" type="slidenum">
              <a:rPr b="0" lang="en-US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uhl2332ak.wikispaces.com/ASSESSMENT+2" TargetMode="External"/><Relationship Id="rId3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hyperlink" Target="http://www.custominsight.com/demo/form_widgets.rtf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 txBox="1"/>
          <p:nvPr/>
        </p:nvSpPr>
        <p:spPr>
          <a:xfrm>
            <a:off x="1209240" y="828000"/>
            <a:ext cx="7487280" cy="857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22ea4"/>
                </a:solidFill>
                <a:latin typeface="Gill Sans MT"/>
              </a:rPr>
              <a:t>    </a:t>
            </a:r>
            <a:r>
              <a:rPr b="1" lang="en-US" sz="4900" spc="-1" strike="noStrike">
                <a:solidFill>
                  <a:srgbClr val="c22ea4"/>
                </a:solidFill>
                <a:latin typeface="Gill Sans MT"/>
              </a:rPr>
              <a:t>DATA COLLECTION</a:t>
            </a:r>
            <a:endParaRPr b="0" lang="en-US" sz="4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1066680" y="2819160"/>
            <a:ext cx="73915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ilation and interpretation of primary and secondary sources of informa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integration of different sources will consolidate the write up of the repor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Text Box 2"/>
          <p:cNvSpPr/>
          <p:nvPr/>
        </p:nvSpPr>
        <p:spPr>
          <a:xfrm>
            <a:off x="1297080" y="5638680"/>
            <a:ext cx="28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Oval 3"/>
          <p:cNvSpPr/>
          <p:nvPr/>
        </p:nvSpPr>
        <p:spPr>
          <a:xfrm>
            <a:off x="152280" y="228600"/>
            <a:ext cx="4038840" cy="205740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b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serve verbal &am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-verbal communic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rounding atmosphe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lture &amp;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4"/>
          <p:cNvSpPr/>
          <p:nvPr/>
        </p:nvSpPr>
        <p:spPr>
          <a:xfrm>
            <a:off x="2743200" y="2819520"/>
            <a:ext cx="3429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5"/>
          <p:cNvSpPr/>
          <p:nvPr/>
        </p:nvSpPr>
        <p:spPr>
          <a:xfrm>
            <a:off x="4952880" y="228600"/>
            <a:ext cx="3962520" cy="21337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ed to kee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iculous record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Oval 6"/>
          <p:cNvSpPr/>
          <p:nvPr/>
        </p:nvSpPr>
        <p:spPr>
          <a:xfrm>
            <a:off x="1447920" y="4572000"/>
            <a:ext cx="6095880" cy="205740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a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be done through discussion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servations of habits, ritual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view of document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AutoShape 7"/>
          <p:cNvSpPr/>
          <p:nvPr/>
        </p:nvSpPr>
        <p:spPr>
          <a:xfrm>
            <a:off x="6400800" y="2514600"/>
            <a:ext cx="762120" cy="838080"/>
          </a:xfrm>
          <a:prstGeom prst="pi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AutoShape 8"/>
          <p:cNvSpPr/>
          <p:nvPr/>
        </p:nvSpPr>
        <p:spPr>
          <a:xfrm flipH="1">
            <a:off x="1676520" y="2514600"/>
            <a:ext cx="761760" cy="838080"/>
          </a:xfrm>
          <a:prstGeom prst="pi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AutoShape 9"/>
          <p:cNvSpPr/>
          <p:nvPr/>
        </p:nvSpPr>
        <p:spPr>
          <a:xfrm>
            <a:off x="4343400" y="3809880"/>
            <a:ext cx="304920" cy="685800"/>
          </a:xfrm>
          <a:prstGeom prst="downArrow">
            <a:avLst>
              <a:gd name="adj1" fmla="val 50000"/>
              <a:gd name="adj2" fmla="val 56228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914400"/>
          </a:xfrm>
          <a:prstGeom prst="rect">
            <a:avLst/>
          </a:prstGeom>
          <a:solidFill>
            <a:srgbClr val="f4e7e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2ea4"/>
                </a:solidFill>
                <a:latin typeface="Gill Sans MT"/>
              </a:rPr>
              <a:t>Steps To An Effective Observation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2065320" y="1066680"/>
            <a:ext cx="5746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Determine what needs to be  ob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lan, prepare checklist, how to record da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3164040" y="2362320"/>
            <a:ext cx="35442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Select your particip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/Sel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1887840" y="3581280"/>
            <a:ext cx="6048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Conduct the 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venue, duration, recording materials, take photographs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2290320" y="6019920"/>
            <a:ext cx="53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Analyze and interpret data col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AutoShape 7"/>
          <p:cNvSpPr/>
          <p:nvPr/>
        </p:nvSpPr>
        <p:spPr>
          <a:xfrm>
            <a:off x="4857840" y="19810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AutoShape 8"/>
          <p:cNvSpPr/>
          <p:nvPr/>
        </p:nvSpPr>
        <p:spPr>
          <a:xfrm>
            <a:off x="4857840" y="3352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9"/>
          <p:cNvSpPr/>
          <p:nvPr/>
        </p:nvSpPr>
        <p:spPr>
          <a:xfrm>
            <a:off x="3153960" y="4876920"/>
            <a:ext cx="35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Compile data colle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AutoShape 10"/>
          <p:cNvSpPr/>
          <p:nvPr/>
        </p:nvSpPr>
        <p:spPr>
          <a:xfrm>
            <a:off x="4857840" y="4495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AutoShape 11"/>
          <p:cNvSpPr/>
          <p:nvPr/>
        </p:nvSpPr>
        <p:spPr>
          <a:xfrm>
            <a:off x="4857840" y="5638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Title 2" descr=""/>
          <p:cNvPicPr/>
          <p:nvPr/>
        </p:nvPicPr>
        <p:blipFill>
          <a:blip r:embed="rId1"/>
          <a:stretch/>
        </p:blipFill>
        <p:spPr>
          <a:xfrm>
            <a:off x="-311040" y="-360360"/>
            <a:ext cx="9637560" cy="1951200"/>
          </a:xfrm>
          <a:prstGeom prst="rect">
            <a:avLst/>
          </a:prstGeom>
          <a:ln w="0">
            <a:noFill/>
          </a:ln>
        </p:spPr>
      </p:pic>
      <p:sp>
        <p:nvSpPr>
          <p:cNvPr id="792" name="PlaceHolder 1"/>
          <p:cNvSpPr>
            <a:spLocks noGrp="1"/>
          </p:cNvSpPr>
          <p:nvPr>
            <p:ph/>
          </p:nvPr>
        </p:nvSpPr>
        <p:spPr>
          <a:xfrm>
            <a:off x="155160" y="1676520"/>
            <a:ext cx="8836200" cy="4952880"/>
          </a:xfrm>
          <a:prstGeom prst="rect">
            <a:avLst/>
          </a:prstGeom>
          <a:noFill/>
          <a:ln w="50760">
            <a:solidFill>
              <a:srgbClr val="dbe7b6"/>
            </a:solidFill>
            <a:miter/>
          </a:ln>
        </p:spPr>
        <p:txBody>
          <a:bodyPr lIns="45720" rIns="45720" anchor="ctr">
            <a:normAutofit fontScale="91000"/>
          </a:bodyPr>
          <a:p>
            <a:pPr marL="676080" indent="-676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e7b6"/>
                </a:solidFill>
                <a:latin typeface="Constantia"/>
              </a:rPr>
              <a:t>Decide what kind of data collection instrument(s )that you want to use – refer to your proposal – any changes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76080" indent="-676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f you choose questionnaire – do you have the established/ ready set of questions? If not, you have to find one, or, come up with your own. (this will take some times and should be done with great detail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76080" indent="-676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e7b6"/>
                </a:solidFill>
                <a:latin typeface="Constantia"/>
              </a:rPr>
              <a:t>If you choose to do interview, you need to decide on the details – how many participants, questions, where, how long, etc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76080" indent="-676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f you choose to do observation, detail out your process – how many, how large, where, how long, etc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Title 2" descr=""/>
          <p:cNvPicPr/>
          <p:nvPr/>
        </p:nvPicPr>
        <p:blipFill>
          <a:blip r:embed="rId1"/>
          <a:stretch/>
        </p:blipFill>
        <p:spPr>
          <a:xfrm>
            <a:off x="-317520" y="-6480"/>
            <a:ext cx="9468000" cy="824040"/>
          </a:xfrm>
          <a:prstGeom prst="rect">
            <a:avLst/>
          </a:prstGeom>
          <a:ln w="0">
            <a:noFill/>
          </a:ln>
        </p:spPr>
      </p:pic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155160" y="990360"/>
            <a:ext cx="8836200" cy="5638680"/>
          </a:xfrm>
          <a:prstGeom prst="rect">
            <a:avLst/>
          </a:prstGeom>
          <a:noFill/>
          <a:ln w="50760">
            <a:solidFill>
              <a:srgbClr val="dbe7b6"/>
            </a:solidFill>
            <a:miter/>
          </a:ln>
        </p:spPr>
        <p:txBody>
          <a:bodyPr lIns="45720" rIns="45720" anchor="ctr">
            <a:normAutofit fontScale="99000"/>
          </a:bodyPr>
          <a:p>
            <a:pPr marL="735480" indent="-735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reading Lo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1368720" indent="-735480">
              <a:spcBef>
                <a:spcPts val="451"/>
              </a:spcBef>
              <a:buClr>
                <a:srgbClr val="0bd0d9"/>
              </a:buClr>
              <a:buSzPct val="8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It should consist of  2 forms: Reading Log &amp; Index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1" marL="1368720" indent="-735480">
              <a:spcBef>
                <a:spcPts val="451"/>
              </a:spcBef>
              <a:buClr>
                <a:srgbClr val="0bd0d9"/>
              </a:buClr>
              <a:buSzPct val="8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You may get the form from </a:t>
            </a: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uhl2332ak.wikispaces.com/ASSESSMENT+2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735480" indent="-735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urvey questions – ready set (the ones that you found from other sources) </a:t>
            </a:r>
            <a:r>
              <a:rPr b="0" lang="en-US" sz="2600" spc="-1" strike="noStrike">
                <a:solidFill>
                  <a:srgbClr val="5ff3ca"/>
                </a:solidFill>
                <a:latin typeface="Constantia"/>
              </a:rPr>
              <a:t>or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c9da92"/>
                </a:solidFill>
                <a:latin typeface="Constantia"/>
              </a:rPr>
              <a:t>Proposed survey questions (the ones that you will come up with your own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735480" indent="-735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r those who choose to do interview, you should submit the details of your interview. (Proposed questions, how many, when , how long, etc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735480" indent="-735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r those who choose to do observation, you should submit the details of your observation. (Proposed venue, how many, when , how long, etc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Rectangle 2" descr=""/>
          <p:cNvPicPr/>
          <p:nvPr/>
        </p:nvPicPr>
        <p:blipFill>
          <a:blip r:embed="rId1"/>
          <a:stretch/>
        </p:blipFill>
        <p:spPr>
          <a:xfrm>
            <a:off x="-6480" y="-96840"/>
            <a:ext cx="9156960" cy="86508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"/>
          <p:cNvSpPr/>
          <p:nvPr/>
        </p:nvSpPr>
        <p:spPr>
          <a:xfrm>
            <a:off x="609480" y="4572000"/>
            <a:ext cx="8001000" cy="192276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In a small scale study, the most common forms of statistical analysis presented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5"/>
          <p:cNvSpPr/>
          <p:nvPr/>
        </p:nvSpPr>
        <p:spPr>
          <a:xfrm>
            <a:off x="609480" y="1066680"/>
            <a:ext cx="8001000" cy="45972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To analyse data from interviews and observation,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Line 10"/>
          <p:cNvSpPr/>
          <p:nvPr/>
        </p:nvSpPr>
        <p:spPr>
          <a:xfrm flipH="1">
            <a:off x="2133360" y="152388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Text Box 11"/>
          <p:cNvSpPr/>
          <p:nvPr/>
        </p:nvSpPr>
        <p:spPr>
          <a:xfrm>
            <a:off x="1294560" y="190512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 sh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Line 12"/>
          <p:cNvSpPr/>
          <p:nvPr/>
        </p:nvSpPr>
        <p:spPr>
          <a:xfrm>
            <a:off x="5334120" y="15238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5028840" y="1828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609480" y="2819520"/>
            <a:ext cx="8001000" cy="45972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analyse data from questionnaires,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Line 15"/>
          <p:cNvSpPr/>
          <p:nvPr/>
        </p:nvSpPr>
        <p:spPr>
          <a:xfrm flipH="1">
            <a:off x="1905120" y="327672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16"/>
          <p:cNvSpPr/>
          <p:nvPr/>
        </p:nvSpPr>
        <p:spPr>
          <a:xfrm>
            <a:off x="1371600" y="36576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17"/>
          <p:cNvSpPr/>
          <p:nvPr/>
        </p:nvSpPr>
        <p:spPr>
          <a:xfrm>
            <a:off x="541008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Line 18"/>
          <p:cNvSpPr/>
          <p:nvPr/>
        </p:nvSpPr>
        <p:spPr>
          <a:xfrm>
            <a:off x="5486400" y="32767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Rectangle 2" descr=""/>
          <p:cNvPicPr/>
          <p:nvPr/>
        </p:nvPicPr>
        <p:blipFill>
          <a:blip r:embed="rId1"/>
          <a:stretch/>
        </p:blipFill>
        <p:spPr>
          <a:xfrm>
            <a:off x="-255600" y="-146160"/>
            <a:ext cx="9406080" cy="914400"/>
          </a:xfrm>
          <a:prstGeom prst="rect">
            <a:avLst/>
          </a:prstGeom>
          <a:ln w="0">
            <a:noFill/>
          </a:ln>
        </p:spPr>
      </p:pic>
      <p:sp>
        <p:nvSpPr>
          <p:cNvPr id="808" name="Text Box 4"/>
          <p:cNvSpPr/>
          <p:nvPr/>
        </p:nvSpPr>
        <p:spPr>
          <a:xfrm>
            <a:off x="457200" y="1371600"/>
            <a:ext cx="815328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nvolves 2 term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76a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6a3"/>
                </a:solidFill>
                <a:latin typeface="Times New Roman"/>
              </a:rPr>
              <a:t>Result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- presentation of data/findings (statistics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6a3"/>
                </a:solidFill>
                <a:latin typeface="Times New Roman"/>
              </a:rPr>
              <a:t>2. Discussio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- interpretation of data/finding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Rectangle 2" descr=""/>
          <p:cNvPicPr/>
          <p:nvPr/>
        </p:nvPicPr>
        <p:blipFill>
          <a:blip r:embed="rId1"/>
          <a:stretch/>
        </p:blipFill>
        <p:spPr>
          <a:xfrm>
            <a:off x="-255600" y="-146160"/>
            <a:ext cx="9406080" cy="914400"/>
          </a:xfrm>
          <a:prstGeom prst="rect">
            <a:avLst/>
          </a:prstGeom>
          <a:ln w="0">
            <a:noFill/>
          </a:ln>
        </p:spPr>
      </p:pic>
      <p:sp>
        <p:nvSpPr>
          <p:cNvPr id="810" name="Text Box 4"/>
          <p:cNvSpPr/>
          <p:nvPr/>
        </p:nvSpPr>
        <p:spPr>
          <a:xfrm>
            <a:off x="304920" y="762120"/>
            <a:ext cx="8686800" cy="53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gs to consider when interpreting your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erpret findings based on the purpose and objectives of your stud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late the findings to real life contex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Use persuasive language to convince your readers to see the research from your point of view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rganise your interpretation to highlight the most important findin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clude limitations to your research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Use simple, clear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Oval 5"/>
          <p:cNvSpPr/>
          <p:nvPr/>
        </p:nvSpPr>
        <p:spPr>
          <a:xfrm>
            <a:off x="1447920" y="609480"/>
            <a:ext cx="6248160" cy="12193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556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OURCES OF INFORMATIO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9" name="Line 7"/>
          <p:cNvSpPr/>
          <p:nvPr/>
        </p:nvSpPr>
        <p:spPr>
          <a:xfrm flipH="1">
            <a:off x="2743200" y="190512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8"/>
          <p:cNvSpPr/>
          <p:nvPr/>
        </p:nvSpPr>
        <p:spPr>
          <a:xfrm>
            <a:off x="5181480" y="1981080"/>
            <a:ext cx="99072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10"/>
          <p:cNvSpPr/>
          <p:nvPr/>
        </p:nvSpPr>
        <p:spPr>
          <a:xfrm>
            <a:off x="457200" y="2895480"/>
            <a:ext cx="3962520" cy="3657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5c7b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Primary 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is collected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archer him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is gather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ough questionnair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view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servations etc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13"/>
          <p:cNvSpPr/>
          <p:nvPr/>
        </p:nvSpPr>
        <p:spPr>
          <a:xfrm>
            <a:off x="4876920" y="2895480"/>
            <a:ext cx="3962160" cy="3657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5c7b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Secondary 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collecte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iled 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ten by oth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archers eg. book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urnals, newspa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y reference mu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 acknowled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STEPS TO COLLECT DAT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4" name="Rectangle 9"/>
          <p:cNvSpPr/>
          <p:nvPr/>
        </p:nvSpPr>
        <p:spPr>
          <a:xfrm flipV="1">
            <a:off x="1523880" y="6019920"/>
            <a:ext cx="6324840" cy="45720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7647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DATA ANALYSIS AND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19"/>
          <p:cNvSpPr/>
          <p:nvPr/>
        </p:nvSpPr>
        <p:spPr>
          <a:xfrm>
            <a:off x="0" y="24210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AutoShape 15"/>
          <p:cNvSpPr/>
          <p:nvPr/>
        </p:nvSpPr>
        <p:spPr>
          <a:xfrm>
            <a:off x="0" y="2695680"/>
            <a:ext cx="5486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AutoShape 11"/>
          <p:cNvSpPr/>
          <p:nvPr/>
        </p:nvSpPr>
        <p:spPr>
          <a:xfrm>
            <a:off x="0" y="3243240"/>
            <a:ext cx="5486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22"/>
          <p:cNvSpPr/>
          <p:nvPr/>
        </p:nvSpPr>
        <p:spPr>
          <a:xfrm>
            <a:off x="304920" y="3809880"/>
            <a:ext cx="91440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AutoShape 24"/>
          <p:cNvSpPr/>
          <p:nvPr/>
        </p:nvSpPr>
        <p:spPr>
          <a:xfrm>
            <a:off x="228600" y="990720"/>
            <a:ext cx="8763120" cy="1676160"/>
          </a:xfrm>
          <a:prstGeom prst="downArrowCallout">
            <a:avLst>
              <a:gd name="adj1" fmla="val -129306"/>
              <a:gd name="adj2" fmla="val 169138"/>
              <a:gd name="adj3" fmla="val 16667"/>
              <a:gd name="adj4" fmla="val 66667"/>
            </a:avLst>
          </a:prstGeom>
          <a:gradFill rotWithShape="0">
            <a:gsLst>
              <a:gs pos="0">
                <a:srgbClr val="ff99ff"/>
              </a:gs>
              <a:gs pos="100000">
                <a:srgbClr val="a261a2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4e7e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REVIEW &amp; COMPILE SECONDARY SOURC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Referred to in the BACKGROUND/ INTRODUCTION section of repo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AutoShape 25"/>
          <p:cNvSpPr/>
          <p:nvPr/>
        </p:nvSpPr>
        <p:spPr>
          <a:xfrm>
            <a:off x="228600" y="2895480"/>
            <a:ext cx="8763120" cy="2057400"/>
          </a:xfrm>
          <a:prstGeom prst="downArrowCallout">
            <a:avLst>
              <a:gd name="adj1" fmla="val -81406"/>
              <a:gd name="adj2" fmla="val 106483"/>
              <a:gd name="adj3" fmla="val 16667"/>
              <a:gd name="adj4" fmla="val 66667"/>
            </a:avLst>
          </a:prstGeom>
          <a:gradFill rotWithShape="0">
            <a:gsLst>
              <a:gs pos="0">
                <a:srgbClr val="ff99ff"/>
              </a:gs>
              <a:gs pos="100000">
                <a:srgbClr val="76477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4e7e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PLAN &amp; DESIGN DATA COLLECTION INSTRU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O GATHER PRIMARY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(Referred to in the FINDINGS, CONCLUSIONS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RECOMMENDATIONS sections of repo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26"/>
          <p:cNvSpPr/>
          <p:nvPr/>
        </p:nvSpPr>
        <p:spPr>
          <a:xfrm>
            <a:off x="2362320" y="5105520"/>
            <a:ext cx="4495680" cy="838080"/>
          </a:xfrm>
          <a:prstGeom prst="downArrowCallout">
            <a:avLst>
              <a:gd name="adj1" fmla="val 134119"/>
              <a:gd name="adj2" fmla="val 134107"/>
              <a:gd name="adj3" fmla="val 16667"/>
              <a:gd name="adj4" fmla="val 66667"/>
            </a:avLst>
          </a:prstGeom>
          <a:gradFill rotWithShape="0">
            <a:gsLst>
              <a:gs pos="0">
                <a:srgbClr val="ff99ff"/>
              </a:gs>
              <a:gs pos="100000">
                <a:srgbClr val="76477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4e7e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2314"/>
                </a:solidFill>
                <a:latin typeface="Gill Sans MT"/>
              </a:rPr>
              <a:t>METHODS USED TO COLLECT PRIMARY SOURCE DATA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3" name="Text Box 5"/>
          <p:cNvSpPr/>
          <p:nvPr/>
        </p:nvSpPr>
        <p:spPr>
          <a:xfrm>
            <a:off x="1066680" y="1752480"/>
            <a:ext cx="7696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n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v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for a small-scale study, the most commonly used methods are interviews, survey questionnaires and observa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3"/>
          <p:cNvSpPr/>
          <p:nvPr/>
        </p:nvSpPr>
        <p:spPr>
          <a:xfrm>
            <a:off x="1297080" y="5638680"/>
            <a:ext cx="28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Oval 8"/>
          <p:cNvSpPr/>
          <p:nvPr/>
        </p:nvSpPr>
        <p:spPr>
          <a:xfrm>
            <a:off x="304920" y="685800"/>
            <a:ext cx="3047760" cy="16002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8a8a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fective w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gathe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0"/>
          <p:cNvSpPr/>
          <p:nvPr/>
        </p:nvSpPr>
        <p:spPr>
          <a:xfrm>
            <a:off x="2743200" y="2819520"/>
            <a:ext cx="3429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Oval 11"/>
          <p:cNvSpPr/>
          <p:nvPr/>
        </p:nvSpPr>
        <p:spPr>
          <a:xfrm>
            <a:off x="5486400" y="685800"/>
            <a:ext cx="2971800" cy="1676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a2a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olves verb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non-verb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Oval 12"/>
          <p:cNvSpPr/>
          <p:nvPr/>
        </p:nvSpPr>
        <p:spPr>
          <a:xfrm>
            <a:off x="2209680" y="4572000"/>
            <a:ext cx="4496040" cy="16002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8a8a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be condu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e to face, by telephon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ine or  through ma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AutoShape 15"/>
          <p:cNvSpPr/>
          <p:nvPr/>
        </p:nvSpPr>
        <p:spPr>
          <a:xfrm>
            <a:off x="6400800" y="2514600"/>
            <a:ext cx="762120" cy="838080"/>
          </a:xfrm>
          <a:prstGeom prst="pi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AutoShape 16"/>
          <p:cNvSpPr/>
          <p:nvPr/>
        </p:nvSpPr>
        <p:spPr>
          <a:xfrm flipH="1">
            <a:off x="1676520" y="2514600"/>
            <a:ext cx="761760" cy="838080"/>
          </a:xfrm>
          <a:prstGeom prst="pi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AutoShape 17"/>
          <p:cNvSpPr/>
          <p:nvPr/>
        </p:nvSpPr>
        <p:spPr>
          <a:xfrm>
            <a:off x="4343400" y="3809880"/>
            <a:ext cx="304920" cy="685800"/>
          </a:xfrm>
          <a:prstGeom prst="downArrow">
            <a:avLst>
              <a:gd name="adj1" fmla="val 50000"/>
              <a:gd name="adj2" fmla="val 56228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914400"/>
          </a:xfrm>
          <a:prstGeom prst="rect">
            <a:avLst/>
          </a:prstGeom>
          <a:solidFill>
            <a:srgbClr val="f4e7e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Steps To An Effective Interview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3" name="Text Box 3"/>
          <p:cNvSpPr/>
          <p:nvPr/>
        </p:nvSpPr>
        <p:spPr>
          <a:xfrm>
            <a:off x="2174040" y="1484280"/>
            <a:ext cx="48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Prepare your interview schedu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4"/>
          <p:cNvSpPr/>
          <p:nvPr/>
        </p:nvSpPr>
        <p:spPr>
          <a:xfrm>
            <a:off x="1945440" y="2743200"/>
            <a:ext cx="53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Select your subjects/ key inform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5"/>
          <p:cNvSpPr/>
          <p:nvPr/>
        </p:nvSpPr>
        <p:spPr>
          <a:xfrm>
            <a:off x="2670120" y="419112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Conduct the int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6"/>
          <p:cNvSpPr/>
          <p:nvPr/>
        </p:nvSpPr>
        <p:spPr>
          <a:xfrm>
            <a:off x="1066680" y="5562720"/>
            <a:ext cx="78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Analyze and interpret data collected from the int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AutoShape 7"/>
          <p:cNvSpPr/>
          <p:nvPr/>
        </p:nvSpPr>
        <p:spPr>
          <a:xfrm>
            <a:off x="4267080" y="22096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AutoShape 9"/>
          <p:cNvSpPr/>
          <p:nvPr/>
        </p:nvSpPr>
        <p:spPr>
          <a:xfrm>
            <a:off x="4267080" y="34290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AutoShape 10"/>
          <p:cNvSpPr/>
          <p:nvPr/>
        </p:nvSpPr>
        <p:spPr>
          <a:xfrm>
            <a:off x="4267080" y="48006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2"/>
          <p:cNvSpPr/>
          <p:nvPr/>
        </p:nvSpPr>
        <p:spPr>
          <a:xfrm>
            <a:off x="1297080" y="5638680"/>
            <a:ext cx="28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Oval 3"/>
          <p:cNvSpPr/>
          <p:nvPr/>
        </p:nvSpPr>
        <p:spPr>
          <a:xfrm>
            <a:off x="228600" y="685800"/>
            <a:ext cx="3809880" cy="1600200"/>
          </a:xfrm>
          <a:prstGeom prst="ellipse">
            <a:avLst/>
          </a:prstGeom>
          <a:gradFill rotWithShape="0">
            <a:gsLst>
              <a:gs pos="0">
                <a:srgbClr val="000092"/>
              </a:gs>
              <a:gs pos="50000">
                <a:srgbClr val="0000ff"/>
              </a:gs>
              <a:gs pos="100000">
                <a:srgbClr val="00009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most comm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ta collection instr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2743200" y="2666880"/>
            <a:ext cx="3429000" cy="1143000"/>
          </a:xfrm>
          <a:prstGeom prst="rect">
            <a:avLst/>
          </a:prstGeom>
          <a:gradFill rotWithShape="0">
            <a:gsLst>
              <a:gs pos="0">
                <a:srgbClr val="d200d2"/>
              </a:gs>
              <a:gs pos="50000">
                <a:srgbClr val="ff00ff"/>
              </a:gs>
              <a:gs pos="100000">
                <a:srgbClr val="d200d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rv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estionna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Oval 5"/>
          <p:cNvSpPr/>
          <p:nvPr/>
        </p:nvSpPr>
        <p:spPr>
          <a:xfrm>
            <a:off x="5181480" y="609480"/>
            <a:ext cx="3733920" cy="167652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50000">
                <a:srgbClr val="0000ff"/>
              </a:gs>
              <a:gs pos="100000">
                <a:srgbClr val="0000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eful to coll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antitative and qualit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Oval 6"/>
          <p:cNvSpPr/>
          <p:nvPr/>
        </p:nvSpPr>
        <p:spPr>
          <a:xfrm>
            <a:off x="457200" y="4572000"/>
            <a:ext cx="8153280" cy="2133720"/>
          </a:xfrm>
          <a:prstGeom prst="ellipse">
            <a:avLst/>
          </a:prstGeom>
          <a:solidFill>
            <a:srgbClr val="ecc5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Should contain 3 ele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Introduction – to explain the objectiv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Instructions – must be clear, simple language &amp; sh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User-friendly – avoid difficult or ambiguous ques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AutoShape 7"/>
          <p:cNvSpPr/>
          <p:nvPr/>
        </p:nvSpPr>
        <p:spPr>
          <a:xfrm>
            <a:off x="6400800" y="2514600"/>
            <a:ext cx="762120" cy="838080"/>
          </a:xfrm>
          <a:prstGeom prst="pi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AutoShape 8"/>
          <p:cNvSpPr/>
          <p:nvPr/>
        </p:nvSpPr>
        <p:spPr>
          <a:xfrm flipH="1">
            <a:off x="1676520" y="2514600"/>
            <a:ext cx="761760" cy="838080"/>
          </a:xfrm>
          <a:prstGeom prst="pi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AutoShape 9"/>
          <p:cNvSpPr/>
          <p:nvPr/>
        </p:nvSpPr>
        <p:spPr>
          <a:xfrm>
            <a:off x="4343400" y="396252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716040"/>
          </a:xfrm>
          <a:prstGeom prst="rect">
            <a:avLst/>
          </a:prstGeom>
          <a:solidFill>
            <a:srgbClr val="e5c6d5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c22ea4"/>
                </a:solidFill>
                <a:latin typeface="Gill Sans MT"/>
              </a:rPr>
              <a:t>2 Basic Types of survey questions: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990360" y="1143000"/>
            <a:ext cx="3733560" cy="4038480"/>
          </a:xfrm>
          <a:prstGeom prst="rect">
            <a:avLst/>
          </a:prstGeom>
          <a:noFill/>
          <a:ln w="9360">
            <a:solidFill>
              <a:srgbClr val="b13f9a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88c5"/>
                </a:solidFill>
                <a:latin typeface="Gill Sans MT"/>
              </a:rPr>
              <a:t>Open-ended Ques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457200">
              <a:spcBef>
                <a:spcPts val="550"/>
              </a:spcBef>
              <a:buClr>
                <a:srgbClr val="b83d68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ree-respons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4572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Text Open End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457200">
              <a:spcBef>
                <a:spcPts val="550"/>
              </a:spcBef>
              <a:buClr>
                <a:srgbClr val="b83d68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ll-in relevant inform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4800600" y="1143000"/>
            <a:ext cx="4191120" cy="4038480"/>
          </a:xfrm>
          <a:prstGeom prst="rect">
            <a:avLst/>
          </a:prstGeom>
          <a:noFill/>
          <a:ln w="9360">
            <a:solidFill>
              <a:srgbClr val="b13f9a"/>
            </a:solidFill>
            <a:miter/>
          </a:ln>
        </p:spPr>
        <p:txBody>
          <a:bodyPr anchor="t">
            <a:normAutofit fontScale="92000"/>
          </a:bodyPr>
          <a:p>
            <a:pPr marL="490680" indent="-49068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488c5"/>
                </a:solidFill>
                <a:latin typeface="Gill Sans MT"/>
              </a:rPr>
              <a:t>Close-ended Ques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40960" indent="-420480">
              <a:spcBef>
                <a:spcPts val="550"/>
              </a:spcBef>
              <a:buClr>
                <a:srgbClr val="b83d68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chotomous ques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40960" indent="-420480">
              <a:spcBef>
                <a:spcPts val="550"/>
              </a:spcBef>
              <a:buClr>
                <a:srgbClr val="b83d68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-choi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40960" indent="-420480">
              <a:spcBef>
                <a:spcPts val="550"/>
              </a:spcBef>
              <a:buClr>
                <a:srgbClr val="b83d68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an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40960" indent="-420480">
              <a:spcBef>
                <a:spcPts val="550"/>
              </a:spcBef>
              <a:buClr>
                <a:srgbClr val="b83d68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ca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40960" indent="-420480">
              <a:spcBef>
                <a:spcPts val="550"/>
              </a:spcBef>
              <a:buClr>
                <a:srgbClr val="b83d68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tegoric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40960" indent="-420480">
              <a:spcBef>
                <a:spcPts val="550"/>
              </a:spcBef>
              <a:buClr>
                <a:srgbClr val="b83d68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umeric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1" name="Text Box 5"/>
          <p:cNvSpPr/>
          <p:nvPr/>
        </p:nvSpPr>
        <p:spPr>
          <a:xfrm>
            <a:off x="990720" y="57150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pecific examples and students’ activities on each question style, please refer to the notes on Data Collection in the e-lea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762120"/>
          </a:xfrm>
          <a:prstGeom prst="rect">
            <a:avLst/>
          </a:prstGeom>
          <a:solidFill>
            <a:srgbClr val="f4e7e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eps To An Effective Survey Questionnair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3" name="Text Box 3"/>
          <p:cNvSpPr/>
          <p:nvPr/>
        </p:nvSpPr>
        <p:spPr>
          <a:xfrm>
            <a:off x="990720" y="903240"/>
            <a:ext cx="7924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Prepare your survey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ormulate &amp; choose types of questions, order them, write instructions, make cop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990720" y="2514600"/>
            <a:ext cx="7924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Select your respondents/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/Sel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5"/>
          <p:cNvSpPr/>
          <p:nvPr/>
        </p:nvSpPr>
        <p:spPr>
          <a:xfrm>
            <a:off x="990720" y="3581280"/>
            <a:ext cx="7924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Administer the survey question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ate, venue, time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6"/>
          <p:cNvSpPr/>
          <p:nvPr/>
        </p:nvSpPr>
        <p:spPr>
          <a:xfrm>
            <a:off x="990720" y="5943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Analyze and interpret data col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AutoShape 7"/>
          <p:cNvSpPr/>
          <p:nvPr/>
        </p:nvSpPr>
        <p:spPr>
          <a:xfrm>
            <a:off x="4876920" y="2209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AutoShape 11"/>
          <p:cNvSpPr/>
          <p:nvPr/>
        </p:nvSpPr>
        <p:spPr>
          <a:xfrm>
            <a:off x="4876920" y="3352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12"/>
          <p:cNvSpPr/>
          <p:nvPr/>
        </p:nvSpPr>
        <p:spPr>
          <a:xfrm>
            <a:off x="990720" y="4724280"/>
            <a:ext cx="7924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Tabulate data colle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tatistical analysis-frequency/mean/correlation/%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AutoShape 13"/>
          <p:cNvSpPr/>
          <p:nvPr/>
        </p:nvSpPr>
        <p:spPr>
          <a:xfrm>
            <a:off x="4876920" y="441972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AutoShape 14"/>
          <p:cNvSpPr/>
          <p:nvPr/>
        </p:nvSpPr>
        <p:spPr>
          <a:xfrm>
            <a:off x="4876920" y="5638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5"/>
          <p:cNvSpPr/>
          <p:nvPr/>
        </p:nvSpPr>
        <p:spPr>
          <a:xfrm rot="5400000">
            <a:off x="-2817720" y="2648160"/>
            <a:ext cx="624996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entury Gothic"/>
                <a:ea typeface="宋体"/>
              </a:rPr>
              <a:t>A sample of complete survey question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de66"/>
                </a:solidFill>
                <a:uFillTx/>
                <a:latin typeface="Century Gothic"/>
                <a:ea typeface="宋体"/>
                <a:hlinkClick r:id="rId5"/>
              </a:rPr>
              <a:t>http://www.custominsight.com/demo/form_widgets.rt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02:08:23Z</dcterms:created>
  <dc:creator>CMLHS</dc:creator>
  <dc:description/>
  <dc:language>en-US</dc:language>
  <cp:lastModifiedBy>Lecturer</cp:lastModifiedBy>
  <dcterms:modified xsi:type="dcterms:W3CDTF">2009-08-10T03:33:54Z</dcterms:modified>
  <cp:revision>34</cp:revision>
  <dc:subject/>
  <dc:title>Data Collection</dc:title>
</cp:coreProperties>
</file>