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CC07-1EFF-44A6-ACA4-5DACF6235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BAF-F6F1-46EE-8B3E-768074610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3C6-6B30-4692-8AF2-BC7FE80F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64C-F397-443B-8910-1BF191A0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B8F52-B688-4ABA-993B-8B24116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1B372-DB70-4049-8B65-87FE00BB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B32AB-F640-4574-A8A4-33D0F6B5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46AB1-6E28-4F62-92BE-E12B6D44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E9EC2-82A4-4233-98B4-1CC1106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733AB-635B-4948-BC61-23523CE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746C2-FE0D-44DB-99C6-32898F1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D79D1-60EB-48B9-8369-CEB1354D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0CB09-2A20-436D-A89D-0ABE796D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0FB93-B250-45B4-AB36-6D2EF4EF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6E1-B109-4236-9AA5-7F823A88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5A9F3-1DEE-48E8-8336-C7295EBB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11444-932C-4E9E-B386-087B5EC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72AA5-B404-4CF7-B84C-9D1F1A2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E0A1F-331F-4F1E-9AE3-BF1CD96F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628BB-3FF2-4B6D-BD33-E1DC2F2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830C2-3FD0-47BF-8803-C02EABFA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0B331-5517-4B56-8B43-C0BB0AE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FA39A-9364-42AE-AA2A-0AF00F2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44046-C472-4798-8ED9-FDAF8AE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CA243-6A09-442F-8997-4EA00296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E8D-79EE-4B72-AE61-BC1FA9EC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6A74-65B0-4FD7-B59F-4C3E97B0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E1F5B-6E1F-4532-B61E-7132B617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44E10-0AB2-49FA-A5EE-339B3183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2AF00-F22C-402E-868E-59F350CA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712F-A329-419D-97B3-773E1880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3BF9E-124E-4D0F-AFF3-DD91F5D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C7702-6FAD-45DF-B1B9-DA54D3D1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0B6B4-3B93-4C8B-9FB0-4A8B67B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A9907-6984-4D48-A525-4759A6E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A1E65-8B08-423B-B3E9-1E6C5C5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B52C-6544-4A68-84E7-DB5E2785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6EB03-7D67-458D-86F1-56B05B6A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36C9-9E6F-41D0-94FE-40BBAA2E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C9B9D-3FC5-423C-8724-3099FC5A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079F5-0FB7-4947-902A-D8660376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A062F-AECB-4347-95F3-257C5A9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A56D6-8136-4CD9-B6F2-236B695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4F92D-DF35-4E83-AF54-05BDA13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0D99B-420C-445D-A287-5C92C3E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64955-A1A3-4CAC-9E2B-B9CE2B7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1D972-378A-4C36-90B6-A896EFF2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23F6-2435-4761-A524-6D8F485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5A576-F008-4ECF-86B8-2A8933D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EEDE0-1DF3-42B8-8AD0-AC8BF244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0B038-44BC-43BB-8100-2B116CE2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F1A20-9F53-4D74-A8E7-060C171D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EB5AD-70E8-4DD3-BB72-6CEB937F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DF769-BD68-4555-8945-E0F6FD95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393D0-0D1A-4F99-8659-0DF3F389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3FCA2-8279-4076-AA2B-DEF1592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782D8-203D-4910-99B7-2D934E40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54DF9-C8CA-4986-B8D0-AA8F905E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4CA-B848-4676-8916-5DAF590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72CCE-FD3E-47F8-9842-A770181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9BA77-6C46-47FD-9009-43303A6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9A8B5-5E08-4DD2-8ECE-7B823A10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4847D-51F3-4CF4-8AD7-B8ACC2E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9E0FC-FCB5-4CBD-89B7-4C472D09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7F7C7-BA91-447C-9B8F-EBE370A5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E383D-D9D8-4213-95DE-8C65F9A4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22AE2-09DF-4E36-B669-122276EE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3465F-5A7C-4126-B5F9-5E47FC8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B88C0-14A4-442A-B0A8-FAADC27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FEFD-F23E-4B3F-ADBF-BBB6EEB2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EB133-A023-4567-8893-BD144429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CD409-F04E-4B4F-AD65-AEA143B4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92D7A-809E-4FCB-AE2F-0532EEE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C2055-D174-4A0F-9050-FA34CC6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F79EB-36F1-407C-AAFF-788FF65A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90721-A234-40E4-B73B-9338CD00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0A42C-9051-474B-8310-A81AC5AC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8949F-4B9D-42EE-AA96-CA56B8ED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4D856-62AC-4EF5-91AE-2E75A4E9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1DF3D-AFC9-4589-8658-01F1A23E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5CDD-A6E9-40CA-BE7D-CD546DC4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8A7E7-805C-46A5-B108-F91175E3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CDCC6-B709-4F5E-8FC6-2CB29625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1F3D1-61FE-4D74-8090-00FDFB8C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84192-A66C-4676-8FDE-C54FE45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F4F8C-97C5-4578-BCA0-772A7856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D2D88-17FD-478C-B3A2-4FE3919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254AB-F653-4052-A4C1-4F1A20C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057AD-372B-4EE0-B0B3-35F2384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4A88B-CF4B-4D7E-BD44-0D3C730E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14938-B0E4-4405-9D65-582D647A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B705-ACFB-43EA-A1B7-542FB5D6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14FA7-8BC6-4FD1-A3ED-0A0F1BF5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EF5-93C4-4F58-A496-9B53758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6EC-C470-419A-AB24-E446C258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A37B-D002-42EB-B0F8-129E6F6A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6E2-7603-4715-BDEA-C36C8AB3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F47D-B521-448B-A815-92BCA70D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BBF2-1F4F-4C25-B59E-FC734716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43F1-FFF6-4623-9F57-4FD6100E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50B3-C051-4372-9BF2-2BFD455B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113E-975E-49A5-8F09-432F8D08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3B3F-679B-4BE5-9EB2-25510750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2D73-80FE-4B66-990C-A4551177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A35F-3E34-4BCC-A820-EA9172C7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395-6863-46B2-8448-4816CA4B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D342-857B-495A-BFC2-9B91DA3D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00F3-61C9-4EFA-A259-D6AC0DC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342E-71AB-43CE-8D98-C7A85B61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888A-648A-4428-8D09-E5481DA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7D04-E4F1-4059-B671-DDFF7365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D20D-9B9A-4AAC-AAA3-3ECB4096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18F9-9382-44DF-889B-F7B47655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A3AB-B033-4A8D-BF19-7F71AF00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4D2A-324A-456D-8EE9-06B352CC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3F79-BCA8-4092-A6B2-5C1E884C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17A-2B5C-4471-B2EA-B0E1F06F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D134-3035-4FE6-9E97-9089EB04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A474-341E-43A9-B7CB-5B1E911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205E-197F-4431-9F54-112077B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05BB7-6C29-4CB4-8BE4-748F231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A8E87-8D84-4CBB-855F-7F57308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1647-08A6-4E55-9D6F-6A1BA03A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B4871-0774-4342-8EBF-6C14F4A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39C0-5384-4BA4-975B-710C924F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8CC9-92B8-4D90-B7F8-574D7F7C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6D9A-A67A-4EDF-A24A-386855F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B16-DB74-428B-92F7-B97A051C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6CF58-40C2-4C87-AA3E-8E69305E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60D73-FA74-47A8-A068-A9EBFC5D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313C-53BE-4B32-BB94-B95AFE3B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6A147-5DE0-403E-843A-4856BB7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1730-E52A-4B34-AE87-593137CA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40378-B7E7-476D-95E8-AF8319D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2BD40-2863-4E54-AD14-12C1D513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415B-B8C0-4650-B830-F9134E16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EE09-1981-4AA3-BB2F-CF426BDC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C8AE-65D4-42AE-8E32-ACC67BAC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AC4-5B6A-4AD6-92DA-CFC95D7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820B-EA63-4B49-9053-6C0547FA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B40FC-9B5F-47F8-92D4-B4CC1BBB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F16FF-9BD8-4176-9849-42B8096B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A117-61BC-4C0D-AD24-9CCB745D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D5FB1-EC73-4FD3-90A1-C96E9932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4055-1C18-4AD9-913B-1F966789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B64E-0E42-44D1-997D-251B558D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8E3CB-23DF-4308-9F71-2E1A018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23208-5499-419F-905D-CCAB2FF4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E0348-8E8A-473F-BED8-1EAA470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006-D917-4506-AF88-BF646C6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AFA5-EA25-427B-BD09-C9BA1A12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70A05-EDE9-4F1F-822B-CF32A710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7A0C-DF53-4506-86FA-3303FA38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096F2-3CF6-42BD-BF80-7B5F1442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66BA-BC6D-4C4A-9C18-5972455A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1A0CC-BDC5-4916-9D0C-EC57D2D8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312A-D59D-4E96-96E1-91BC806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E8304-EC89-49D3-A4A8-0998864B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07EF3-4192-4A22-8958-DA3EA68D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722B-20B2-4672-A0FE-B0A6155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4AB-2E89-40DC-AAD5-C5EFF24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8D0B-6215-41A5-8BA0-9884B6A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1F949-0BAC-412E-99CA-D581598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C9AE6-0B0F-48ED-854E-09E444F7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BD82-4DF5-40A8-9142-EACE603E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134D-38FA-4D5D-9C48-0F661D76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753F8-1EAF-4609-8AAA-2AAA4C7B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B47D-1F1F-4236-A68D-0329FB6E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36118-0E51-4A25-8EFD-246113CB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CB3F-9941-4C24-AB5A-A1EC3475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0AFD5-F822-4ADA-A619-637BA5B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3D0-7E1E-48E5-AAB2-FE39CCF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08961-2426-4D6D-BDEB-E0C8C4E0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2DB7F-2667-4804-A2F1-E46C4B4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29A79-1DAD-4A53-BE59-883574F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D928A-92DD-487A-8F07-3948993C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31882-7DF2-42EC-A4C8-677F09CF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A217A-6554-43C8-9F33-66CC3167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9EB8B-C59D-44BE-8028-F28A1F49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5DCFC-73A2-4EB1-830C-7279697D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50445-5C0C-428A-BA9B-54FEEB3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DCD9E-1021-43B4-B8B9-6E5AE202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5681-CC4D-46C7-A5EA-8E6D5D32DB1A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8AF-6DC0-4227-BB4A-4890759E84F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D4F8-3C7D-426A-8939-BB307722409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442E-F507-44FB-9AFD-9F097A21FA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4D3D-EF95-4E39-AB48-3172080816B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1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E6E-5643-48E4-A926-0132780B6E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7F79-D72F-40B0-A142-DFDD5E377E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B703-6524-4E9A-975E-D6799C6FF4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357-22ED-4A91-8055-B83DA6B8B28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07B9-14CC-46EA-940D-079A83DC5272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6400-8622-4EA1-8FA2-C826B2A57013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DFC-4E5A-4C63-8B10-75A469688F33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5C81-2319-43C1-A8C9-B65F4D167C60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E8EE-903E-4FDD-8F90-45B6D3EDBB79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A253-BD49-48E8-BCAA-92475F6CBCA1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hl2332ak.wikispaces.com/ASSESSMENT+2" TargetMode="External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.custominsight.com/demo/form_widgets.rt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1209240" y="828000"/>
            <a:ext cx="7487280" cy="857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    </a:t>
            </a: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DATA COLLECTION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066680" y="28191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ilation and interpretation of primary and secondary sources of inform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tegration of different sources will consolidate the write up of the repo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52280" y="228600"/>
            <a:ext cx="403884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b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 ver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verbal commun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rounding atmosp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&amp;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4952880" y="228600"/>
            <a:ext cx="3962520" cy="2133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to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iculous record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1447920" y="4572000"/>
            <a:ext cx="609588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done through discuss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s of habits, ritu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of docu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2ea4"/>
                </a:solidFill>
                <a:latin typeface="Gill Sans MT"/>
              </a:rPr>
              <a:t>Steps To An Effective Observatio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065320" y="1066680"/>
            <a:ext cx="574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Determine what needs to be 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lan, prepare checklist, how to record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3164040" y="2362320"/>
            <a:ext cx="3544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887840" y="3581280"/>
            <a:ext cx="604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enue, duration, recording materials, take photograph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290320" y="601992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7"/>
          <p:cNvSpPr/>
          <p:nvPr/>
        </p:nvSpPr>
        <p:spPr>
          <a:xfrm>
            <a:off x="4857840" y="19810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"/>
          <p:cNvSpPr/>
          <p:nvPr/>
        </p:nvSpPr>
        <p:spPr>
          <a:xfrm>
            <a:off x="485784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3153960" y="487692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mpil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0"/>
          <p:cNvSpPr/>
          <p:nvPr/>
        </p:nvSpPr>
        <p:spPr>
          <a:xfrm>
            <a:off x="485784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11"/>
          <p:cNvSpPr/>
          <p:nvPr/>
        </p:nvSpPr>
        <p:spPr>
          <a:xfrm>
            <a:off x="485784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2" descr=""/>
          <p:cNvPicPr/>
          <p:nvPr/>
        </p:nvPicPr>
        <p:blipFill>
          <a:blip r:embed="rId1"/>
          <a:stretch/>
        </p:blipFill>
        <p:spPr>
          <a:xfrm>
            <a:off x="-311040" y="-360360"/>
            <a:ext cx="9637560" cy="19512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155160" y="1676520"/>
            <a:ext cx="8836200" cy="49528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1000"/>
          </a:bodyPr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Decide what kind of data collection instrument(s )that you want to use – refer to your proposal – any chang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questionnaire – do you have the established/ ready set of questions? If not, you have to find one, or, come up with your own. (this will take some times and should be done with great detail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If you choose to do interview, you need to decide on the details – how many participants, questions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to do observation, detail out your process – how many, how large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Title 2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9468000" cy="8240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55160" y="990360"/>
            <a:ext cx="8836200" cy="56386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9000"/>
          </a:bodyPr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eading 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should consist of  2 forms: Reading Log &amp; Index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You may get the form from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hl2332ak.wikispaces.com/ASSESSMENT+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vey questions – ready set (the ones that you found from other sources) </a:t>
            </a: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c9da92"/>
                </a:solidFill>
                <a:latin typeface="Constantia"/>
              </a:rPr>
              <a:t>Proposed survey questions (the ones that you will come up with your ow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interview, you should submit the details of your interview. (Proposed questions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observation, you should submit the details of your observation. (Proposed venue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609480" y="4572000"/>
            <a:ext cx="8001000" cy="1922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a small scale study, the most common forms of statistical analysis present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609480" y="106668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o analyse data from interviews and observation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0"/>
          <p:cNvSpPr/>
          <p:nvPr/>
        </p:nvSpPr>
        <p:spPr>
          <a:xfrm flipH="1">
            <a:off x="2133360" y="1523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1294560" y="19051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2"/>
          <p:cNvSpPr/>
          <p:nvPr/>
        </p:nvSpPr>
        <p:spPr>
          <a:xfrm>
            <a:off x="5334120" y="1523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5028840" y="1828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609480" y="281952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analyse data from questionnaires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5"/>
          <p:cNvSpPr/>
          <p:nvPr/>
        </p:nvSpPr>
        <p:spPr>
          <a:xfrm flipH="1">
            <a:off x="1905120" y="3276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71600" y="3657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54100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5486400" y="3276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457200" y="1371600"/>
            <a:ext cx="8153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nvolves 2 term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76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Resul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presentation of data/findings (statistic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2. 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interpretation of data/finding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304920" y="762120"/>
            <a:ext cx="86868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to consider when interpreting your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pret findings based on the purpose and objectives of your stu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e the findings to real life con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persuasive language to convince your readers to see the research from your point of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se your interpretation to highlight the most important find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ude limitations to your researc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simple, cle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5"/>
          <p:cNvSpPr/>
          <p:nvPr/>
        </p:nvSpPr>
        <p:spPr>
          <a:xfrm>
            <a:off x="1447920" y="609480"/>
            <a:ext cx="624816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OURCES OF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Line 7"/>
          <p:cNvSpPr/>
          <p:nvPr/>
        </p:nvSpPr>
        <p:spPr>
          <a:xfrm flipH="1">
            <a:off x="2743200" y="190512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5181480" y="1981080"/>
            <a:ext cx="9907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457200" y="2895480"/>
            <a:ext cx="396252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collect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g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questionnai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s et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4876920" y="2895480"/>
            <a:ext cx="396216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d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ten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s eg. book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als,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reference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COLLECT D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Rectangle 9"/>
          <p:cNvSpPr/>
          <p:nvPr/>
        </p:nvSpPr>
        <p:spPr>
          <a:xfrm flipV="1">
            <a:off x="1523880" y="6019920"/>
            <a:ext cx="6324840" cy="4572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0" y="242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5"/>
          <p:cNvSpPr/>
          <p:nvPr/>
        </p:nvSpPr>
        <p:spPr>
          <a:xfrm>
            <a:off x="0" y="26956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0" y="324324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304920" y="38098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>
            <a:off x="228600" y="990720"/>
            <a:ext cx="8763120" cy="1676160"/>
          </a:xfrm>
          <a:prstGeom prst="downArrowCallout">
            <a:avLst>
              <a:gd name="adj1" fmla="val -129306"/>
              <a:gd name="adj2" fmla="val 169138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a261a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VIEW &amp; COMPILE SECONDARY SOUR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red to in the BACKGROUND/ INTRODUCTION section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5"/>
          <p:cNvSpPr/>
          <p:nvPr/>
        </p:nvSpPr>
        <p:spPr>
          <a:xfrm>
            <a:off x="228600" y="2895480"/>
            <a:ext cx="8763120" cy="2057400"/>
          </a:xfrm>
          <a:prstGeom prst="downArrowCallout">
            <a:avLst>
              <a:gd name="adj1" fmla="val -81406"/>
              <a:gd name="adj2" fmla="val 10648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 &amp; DESIGN DATA COLLECTION INSTR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 GATHER PRIMA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(Referred to in the FINDINGS, CONCLUSIONS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COMMENDATIONS sections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26"/>
          <p:cNvSpPr/>
          <p:nvPr/>
        </p:nvSpPr>
        <p:spPr>
          <a:xfrm>
            <a:off x="2362320" y="5105520"/>
            <a:ext cx="4495680" cy="838080"/>
          </a:xfrm>
          <a:prstGeom prst="downArrowCallout">
            <a:avLst>
              <a:gd name="adj1" fmla="val 134119"/>
              <a:gd name="adj2" fmla="val 134107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ETHODS USED TO COLLECT PRIMARY SOURCE DATA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1066680" y="1752480"/>
            <a:ext cx="7696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 a small-scale study, the most commonly used methods are interviews, survey questionnaires and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304920" y="685800"/>
            <a:ext cx="304776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ath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5486400" y="68580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a2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s 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n-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2209680" y="4572000"/>
            <a:ext cx="449604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cond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e to face, by teleph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or  through 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An Effective Inter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2174040" y="1484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interview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945440" y="2743200"/>
            <a:ext cx="53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subjects/ key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2670120" y="419112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066680" y="5562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 from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9"/>
          <p:cNvSpPr/>
          <p:nvPr/>
        </p:nvSpPr>
        <p:spPr>
          <a:xfrm>
            <a:off x="42670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"/>
          <p:cNvSpPr/>
          <p:nvPr/>
        </p:nvSpPr>
        <p:spPr>
          <a:xfrm>
            <a:off x="426708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3"/>
          <p:cNvSpPr/>
          <p:nvPr/>
        </p:nvSpPr>
        <p:spPr>
          <a:xfrm>
            <a:off x="228600" y="685800"/>
            <a:ext cx="3809880" cy="1600200"/>
          </a:xfrm>
          <a:prstGeom prst="ellipse">
            <a:avLst/>
          </a:prstGeom>
          <a:gradFill rotWithShape="0">
            <a:gsLst>
              <a:gs pos="0">
                <a:srgbClr val="000092"/>
              </a:gs>
              <a:gs pos="50000">
                <a:srgbClr val="0000ff"/>
              </a:gs>
              <a:gs pos="100000">
                <a:srgbClr val="0000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st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collection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743200" y="2666880"/>
            <a:ext cx="3429000" cy="1143000"/>
          </a:xfrm>
          <a:prstGeom prst="rect">
            <a:avLst/>
          </a:prstGeom>
          <a:gradFill rotWithShape="0">
            <a:gsLst>
              <a:gs pos="0">
                <a:srgbClr val="d200d2"/>
              </a:gs>
              <a:gs pos="50000">
                <a:srgbClr val="ff00ff"/>
              </a:gs>
              <a:gs pos="100000">
                <a:srgbClr val="d200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"/>
          <p:cNvSpPr/>
          <p:nvPr/>
        </p:nvSpPr>
        <p:spPr>
          <a:xfrm>
            <a:off x="5181480" y="609480"/>
            <a:ext cx="3733920" cy="167652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ful to col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ative and quali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457200" y="4572000"/>
            <a:ext cx="8153280" cy="2133720"/>
          </a:xfrm>
          <a:prstGeom prst="ellipse">
            <a:avLst/>
          </a:prstGeom>
          <a:solidFill>
            <a:srgbClr val="ecc5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hould contain 3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troduction – to explain the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structions – must be clear, simple language &amp;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User-friendly – avoid difficult or ambiguous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9"/>
          <p:cNvSpPr/>
          <p:nvPr/>
        </p:nvSpPr>
        <p:spPr>
          <a:xfrm>
            <a:off x="434340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1604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2 Basic Types of survey questio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990360" y="1143000"/>
            <a:ext cx="373356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88c5"/>
                </a:solidFill>
                <a:latin typeface="Gill Sans MT"/>
              </a:rPr>
              <a:t>Open-ended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e-respon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ext Open En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ll-in relevant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800600" y="1143000"/>
            <a:ext cx="419112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88c5"/>
                </a:solidFill>
                <a:latin typeface="Gill Sans MT"/>
              </a:rPr>
              <a:t>Close-ended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chotomous qu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-cho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990720" y="5715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ecific examples and students’ activities on each question style, please refer to the notes on Data Collection in the e-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6212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s To An Effective Survey Questionnai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990720" y="90324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surve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mulate &amp; choose types of questions, order them, write instructions, make cop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90720" y="25146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respondents/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990720" y="3581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dminister the survey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e, venue, tim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9907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87692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48769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990720" y="4724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Tabulat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tistical analysis-frequency/mean/correlation/%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3"/>
          <p:cNvSpPr/>
          <p:nvPr/>
        </p:nvSpPr>
        <p:spPr>
          <a:xfrm>
            <a:off x="4876920" y="4419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4"/>
          <p:cNvSpPr/>
          <p:nvPr/>
        </p:nvSpPr>
        <p:spPr>
          <a:xfrm>
            <a:off x="487692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 rot="5400000">
            <a:off x="-2817720" y="2648160"/>
            <a:ext cx="62499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  <a:ea typeface="宋体"/>
              </a:rPr>
              <a:t>A sample of complete survey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entury Gothic"/>
                <a:ea typeface="宋体"/>
                <a:hlinkClick r:id="rId5"/>
              </a:rPr>
              <a:t>http://www.custominsight.com/demo/form_widgets.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08:23Z</dcterms:created>
  <dc:creator>CMLHS</dc:creator>
  <dc:description/>
  <dc:language>en-US</dc:language>
  <cp:lastModifiedBy>Lecturer</cp:lastModifiedBy>
  <dcterms:modified xsi:type="dcterms:W3CDTF">2009-08-10T03:33:54Z</dcterms:modified>
  <cp:revision>34</cp:revision>
  <dc:subject/>
  <dc:title>Data Collection</dc:title>
</cp:coreProperties>
</file>