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6386-27B7-4B6E-B88E-44DD54F06E9F}"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FD70-B55A-4E4B-B219-9A3071417615}"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ED59F-EF57-4FCE-8D27-E83588C3C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8F55-3F92-433B-939D-720E3B84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5EC90-C048-4E79-A407-79DB1A926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E3F9A-C093-4417-992A-2E842EE466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8966A-7E12-4E9A-897F-E7A37EA70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A5B31-DF67-47FF-9F95-7A79873AB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E452E-C82F-48E0-BF0C-1AAF2BD6C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75828-863D-43CA-A24E-9C7ADC7DD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CE5DD-2262-4063-B9CA-9D9C3318A9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60ADFD-D4F2-43E9-9752-43F63AF752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0E456A-3853-4B3F-87F4-C597163FE1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68C078-EDE3-4888-9E19-F7C634BD06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59EC7-A4D2-41F8-A56B-40C0166F1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4F3092-04D3-457C-ADC8-D320C53B2B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66002A-4EED-478E-829C-48F6188BD5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18754C-D6D1-4F88-82A7-BC0C4AB0F1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D715CF-F1DD-4750-A860-D71F58C305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840C0D-F1AA-4542-8AE0-5CB44C37D7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473CF4-FC52-488B-AD92-B11C68023F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CFDD07-4E3E-4F3F-AE34-51DAA1BCE9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1B03E-1881-4487-80DD-30A54C2E03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8C1FF3-11FA-4C27-BD99-0AF8A806F0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E559A4-88DF-4761-B8FA-DCE45ABDCB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F4F4F-EC8D-451E-AF86-F60DB9B2D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75FB62-BF5A-4911-916D-1638E0126E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6F470BF-2356-49D3-AF7A-60432177C3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3D99BAF-B41E-4B6A-B0E1-1AAC28A2EE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564C395-EEAD-4C0F-9218-D50FBE849E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BE3D2D8-9FAA-4F82-8603-C4CF4128E1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B4570ED-8D9C-4083-9C62-16B268E280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3FBB8CC-83C3-40AA-9DCB-92AA6ED882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F8ADE0D-8ABB-4362-9C73-0AC90507C2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1A16051-008A-4BC1-8C57-844ACEFD61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F0A9101-A36F-4334-A62E-23A7FB440C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47347-D349-41CC-95AB-C96D109AE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FE485CA-3D7E-46DA-92F4-5F6F15851B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B034584-9E66-43AA-B6A6-C4046D2B8E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93570D6-077B-4419-971E-ECEE7689FE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A2B57F4-363B-47BD-A716-4C371CFD9E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F99C6F8-D1A5-4822-A631-4089156DF4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B35136A-C33D-47EE-9A97-99052C4501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A621229-DE17-49CE-98C9-3DEEBF9449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04BAF7F-3D8F-452E-9EAF-151FAB51E7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1C4E64E-A9B4-4F5C-97A5-670247FB2C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00CBFE8-0CDA-45D5-BCA8-C9B797AEF8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8F549-7E58-4F07-B504-EE2B5329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095D5C6-D8A8-4E78-B530-1748E54018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955A5D0-0B3B-4F40-9890-D2954FC505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EA062DD-960A-4076-89AF-6F03B3909B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830EDA5-0C12-42DD-BE73-8B0DBFBCB9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35FDF1D-F833-4A76-A9A7-E3F4A9BFC5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79EC9218-E9EF-4889-9FC0-FC4FBBD3C3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500CDE1-569C-4431-B3B4-1C238F884A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6C9DB8ED-0489-4281-906D-87B7DCF20C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8A22B32-506E-4F8D-9F51-05D6CA01FF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FD62B94B-059D-4F0C-A58B-791C75D17E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D7167-670B-413D-94D9-ADE78379F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1F0F795-0791-4350-95E7-F433A8C28C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BE1368E5-46DE-482C-A615-E454ED440F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BDD9085-37EA-4679-A20C-20916EA4E6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8F53570-00BE-4C71-B07E-FA4ECF0BB8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C4580CA7-588E-4ABF-889D-6ECC62D28C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4A2BF845-556C-4303-AA2E-8DFB1409D1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045EB578-5FB6-49F6-A537-21A33F7759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EFCDD5-CCF3-4EA4-8E75-DED8C32EA4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1643AA-0039-4E42-82D8-605BAFEF42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1E5A5B-9D37-4571-908A-C0D33B55D2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48872-C376-4D35-829F-7F4DB7E13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8D9DCA-F103-4877-9524-9CC1945EC1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EEB8D7-44DE-4EE9-BFF7-2B8B6A5613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9126E3-F952-4243-A72B-0D0CCBFDFA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88420E-87E4-4657-B640-22CFAD0933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0177DF-C884-40BF-AE08-A939313882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26BD47-7D48-4C0E-AAEB-DF8164E293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03FAA8-2A9E-441F-984C-67F23AFBD0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C50723-29AA-46E8-8BB4-8331A3E814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59E63F-5A1E-4E59-8DAB-26B7510213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4D3E3DC9-3FBC-408B-A6A4-907A5C25B1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7C19-F15D-4217-B5D7-C7F8E48A1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AEACCD3B-1CDE-4FB2-B5E0-A1E9B11BFB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D286150-A826-4368-9974-1F57EECEB5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FC0DA48-6ABA-493D-B4D5-2578D20676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CB3EB711-692A-4176-B816-282339BBC7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F7E316A3-7831-4D8A-BCE9-7D158EE22D0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606D0F9-EAEB-49F9-BA54-96C9CFCAE0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26E5AF0-3787-4E2B-8727-1FC96B82C0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612B72D-F0FC-4AE2-8CE3-88618754BB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12A9135-2DD6-4223-871D-DBE5116CC6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98BE6DF-5593-4EF7-B567-0AF4672D34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CF306-F2FA-4B49-AD76-80FE1290D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C8E9A629-ACA5-4EF2-BB13-47B34E80A4F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D5DFC38-4D67-425B-B5EB-EB2A6E20EAD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35B3A9-1F74-4320-B08F-FDB4E4D72C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3AEF63-46A6-4D2D-92AB-7FF810CF45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3BAC99-898F-4BD2-98D6-45E88EC44A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9D4EBB-2A4C-4F91-AFE0-CA1C86CBC7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5C5B1C-F7FB-41B8-B2FD-0F3CD928FB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B4F579-BCA4-4B35-A55B-5A5AE9C9EB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BDABE3-C170-430F-A513-BD5EC775B2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B03752-AD10-4661-8801-D560C20373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CBD3-816E-4E64-99C4-FAB4108A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0B9D415-47E7-46C6-BF6D-D37EB60EA2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D649D91-395E-4E1C-A62A-94E84B9B87E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1588163-8783-477C-BC89-86E44FD133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F0C0575-E003-4DF6-92BD-874BD0A6D4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63E0D8-6ECE-4780-9F61-9CD4E0064F6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6317AD-2CB6-479A-A262-915E904195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A1A7A9-9D67-422A-8936-861FA44DC8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0E4905-B797-49C3-96A6-07D5EDFAE7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367659-3595-4DC2-800C-58097B4181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463750-1D77-4ABD-A1B4-6E3B5CC9FB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D326-5DCE-4844-9A28-40635B50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9CF2-0DB6-4EDE-AE73-1DBFCBF43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C301B3-3006-4137-91D9-BECD35A52B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102368-90C9-4FCD-A923-7C895F34AD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199FAD-B03F-4524-B0F2-DC2E108805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B45FCC-3E40-442E-9827-16C099B63EE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5A93FE0-1FC7-4FC0-8A5E-CC8CCC26E23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5BA92C6-8F42-41DF-B4C8-71C80059C27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B5B25B-F0CB-4C90-8E87-0763CDFDBF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25E214-88CF-4468-9279-F10D8C2039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9C357D3-BFA6-43FD-853A-7F6AB0DA48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A662F9-0C66-4283-A6AF-BC64FD1704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D6CB9-225F-4B65-8D7F-6F2345D0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EF682E5-CD3D-46A4-B3D3-2AC7622056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B3FD1C-56D1-458C-9814-DBBFD588B7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AE6CDC-E99F-468A-A6BD-9AF3FCDA7C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0BF4CEC-D2EC-410F-B0D9-37F729E7C7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067945-0EFF-45D4-8279-A0E2554AAE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2C0532C-FA6F-4E53-9B38-A789FC1513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ACDA86-FE97-4331-B588-3CCF585FE72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AE332E21-B46E-496A-8E24-7F39AC65B19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9F240A96-57AF-4B19-9779-33612B1547C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B83E0465-6871-435F-9011-145199F2437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2D6F0-B12A-4D55-A4D2-B39DA94A0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033C39CD-D5B7-4791-896C-8E5CFF71C94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1EDAAF8E-EC83-4EAF-A5AC-FF9C83454CC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AE8413D3-64C0-4CF8-B994-CF8596ECA5E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593A54FB-76F0-49A2-8B1C-B785CECC50B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11E1F7D6-C4C2-436B-844D-F3401D69DB0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AE89DEE4-2F4F-418F-81FD-6804C0DBC4E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A74D54B5-2E72-4969-89C5-B9DFEADA14C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0B0BA61B-78E3-4E68-830E-22DB6A89977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D9D2E03E-6B00-4193-807E-F11E8ACD168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13AA5F-C776-486A-8850-C0205CD482E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70976-2464-46CE-ABDB-AE10A7BB6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ED7621-0545-42A3-BADE-A4B839248E5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604F20-4872-4E52-80C5-80F442009D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A8F20B2-783C-4B33-964B-3AB81D3994B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655475-A838-4D25-AFD2-2AAE525A44D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4D4A54-2FDF-4AF8-9B3F-CEB841C92D6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7E072C-2D40-4ED6-8C5A-0DE316817C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FFBA0B-0069-4F54-8B71-18291B2002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17BA7E-605F-4CFC-ABEF-3DE7B1AAB7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6AB08D-E18C-4EA4-B3F7-59742A13AA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955D9E3-A344-4AC6-A453-3B2B1C9ED90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EE1D3-722D-4B94-AA4E-52CA93B56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A162BFC-C9A9-45AD-8F57-9F1467488B0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2724079-E1FD-4A74-9ECF-D6D90B3D6E8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DF1A38-E139-4098-8083-51591896F42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8AFF769-BA39-42E1-901A-B0FA47A25E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C7A2F4-75F9-4E5C-824D-92F7740E19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50E6082-9856-41CA-8189-F5396B39A0A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C1D765A-F7BA-41EC-80B8-30A144B3B6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F4828D-FB6A-4B64-AACD-B5B733A51F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4406F5-A8F6-4709-B46A-1EF8EDBC33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95FE6BA-568A-4135-9E2D-EBB00423F26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B1768D-0E58-4CC5-BBD9-7DE69B33FB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6A21E9-1902-4124-BA86-12B2FC20204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D2EF421-E8A0-4B48-B186-54171823A91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CBA128B-36A9-49A0-863F-23097974068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144DAC8-56E2-4591-9687-C92878DDE20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383D34-B194-4D29-AE17-B1406E3D72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F3BD87-531C-4434-8B2B-5A4C193323D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A69A810-87B4-458B-9485-6CC365C766F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28184B4-D7FD-4D5B-A0C6-B656B6FC1B0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2780D13-6353-4D52-8CDB-27238697FD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B7776A4-952E-4328-BB6E-DF6E6887F2C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5763B-44DC-408F-A90E-53E563508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148278-388B-408E-87B2-AE75BA6C82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A48BB4-3E57-434C-9AE2-945C5C81100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4804D8F-D2A0-4729-A89A-FD512C084B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585255A-E0EB-4E04-9540-FF1DBB5455A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FADF822-8235-4B4C-AF06-3A7955342AE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997F3FE-E245-44A1-9018-61284BA4CB3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225261B-4479-4CC3-AC02-4ED0C97276F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1127593-86FB-4477-A79C-76731BBDA52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5D3865-FF09-4412-8179-34ED1DA287B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E5C356C-8EB4-458C-B66D-D8B003293EF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17897-3A5E-4E44-8A85-C2A4DD361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DAB2903-4D82-4045-91F0-EB0606FE13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32DBD6-DB04-456D-8898-F6629025348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80F64D-8D94-4376-8BED-3468AF4946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E228EA9-2A1E-413B-9937-AAA0807D072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84BC148-0A04-47ED-ADB0-0FDDF5699D1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AEA47A-99AC-474B-8853-B5A704E5851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CC2993B-7A95-4B3F-8D9B-5BB38A427B2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8D7DAEF2-9921-484E-BBF7-D74D756E2AA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515D8D6B-1320-4FAE-98CC-A0D84C829C8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479DD1A-FA08-4B3C-B75C-4B868EC415E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DC1BE-DABC-4580-99DA-B9A66BE7B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5D4C7D2D-F50F-4178-B5A8-90748B1D217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E675595-00F2-40DF-9DE7-E08BFC363F2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272E154-9EB3-4340-A715-201267D3040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93161446-A47C-4709-86F6-39E4BA11CAA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CB5810EF-28E9-453B-886F-847EEFCD84A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92F7C37-089A-40D9-8EE6-9D547A6E1D8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B63F094F-3204-44A0-A5C8-7BF4ED100DB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6D0F0C5E-3102-41D9-981F-C68F71BE422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E5991860-64B5-455C-87CF-8EE2CF66660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0A827BCD-1054-4B92-9A25-F421386ECD1E}"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0B2BB-E26E-4DFD-A25D-F2F9B8C30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26F59D02-E3C5-40DE-8834-E87FD5150213}"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843C1AB6-81A8-40F0-861F-87AB0E208D3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90A10232-3CBC-4BEE-A876-B1CC929051F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081D5CF9-D575-4350-9E17-0F93B2FFE9FB}"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971E219E-000B-4EEC-93AD-25B58E3434E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4A08C4B5-EEF5-4010-94DE-91FEC620CC1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ECE2C6F7-5CB9-4D9D-87B1-6713E891F3C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6738601B-70B9-40B2-B3B3-5493FBF5ABE4}"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C01A5939-4BB4-485F-9DBA-FBB89DD04173}"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0FACA6A7-FBEB-447E-A9DB-C4072908ADAB}"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E9A0-21CC-427F-B4D1-8921CE63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FA96F-E21E-462B-B2D4-5C7A0D3A0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D2955612-8328-401F-AADE-2AEE7D977A71}"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53885C3-4779-4D2A-9CBD-192B992188C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468B896-77BA-4CFB-9FE8-4B0DE0EF6E4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76C2EC9-1286-4F26-8FD5-C7BD66D244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34BAD41-F17F-4496-AF14-0EC3753ACE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9C7C33D-7CAB-43A9-A118-588DF0AA929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BAA459A-DE99-4481-A5D3-E9CA72980EF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FE39EFC-E114-408E-8270-16B9C68464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EE82F65-31FA-4192-92F6-4D48E8514E1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00F240E-751F-400C-B2D8-BCE7F424BEE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98B8F-0952-4AAC-90F2-7F671E4B2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23A4DF-1055-4080-8CE3-0D37A901F3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D04196C-A453-4837-9B2D-4839D6CA974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A207E5D-888D-4D80-83B2-5E5A3D3DB45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F009013B-C3A5-43DA-920C-99981F82C936}"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AF06F861-7379-4F9B-A080-2021C50130C4}"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F4964D24-D8C0-47DB-B29B-1D5EEE1D5CA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5A6F3E3B-2AE3-4122-A2FE-85B0FEA23528}"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B0507143-CB7E-4198-B66F-163B9B9DDE1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10B43586-BEA6-4759-88EC-FDF272E5DBE9}"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6AB2B60D-4F03-4790-AD54-E0DDBCD0E31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CF1DC-29D5-441F-82E5-A9E2DAB3E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305DFA91-6F2B-46F1-87AA-B79AF717C8D3}"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8B3FC5A0-E1CA-4DF1-9F01-082B4CD1A60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5978C5E5-D835-463E-B8DC-F6EAEEDA289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1662FB90-8FD2-4F1B-B002-92E0B0904723}"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B7A56536-E620-4288-ADB0-106E7C7C55E4}"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C8389-8DEB-4FEB-BD74-8DE442B4C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60269-CEA8-46BE-93EB-B7A37C394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E74F0-2E63-4105-AB57-B6F712D8D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DC055-ABD9-435E-BE1D-32BA339D9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85417C-7810-418F-9AEE-DFDB787208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5889F-0FF4-47AA-8EFC-65E1D78D9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61211-51BC-457B-B268-D623AFBD3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7F96-05EC-42D1-BEF4-85118D17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8DC53-1EC8-4D11-B9F8-419AE9596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21D67-1383-4466-ABBA-78ACBF98A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1B57C-DCA1-4047-8495-871237CC0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FAD81-FF41-4531-865B-60C68AD8A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4DAB4-4D60-4F1C-815D-8B686FEB1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7173E-844E-4369-B594-6124C4649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A69BC-8A21-4456-818E-42CF33F98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3A7B0-F49E-468D-BF9E-E454A40A8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DA1824-314C-470C-94ED-12593D8CF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C0C71-47A1-4267-8413-B79650D85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86CF-3513-4A15-A956-D66DCE61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CE90D-9492-43E6-AC03-23FEB5322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E9BD2-CD38-48E5-A057-63A614134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2BA342-E838-4D9A-B59B-A827A00FA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946EE-CEEB-4656-B078-43AA5FD27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48238-F038-4732-87E3-3A1390DCB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DB13A-6F96-46B4-B0F3-914BAA786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99DF5-6115-4AB6-9913-138FA96AD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8DBEE-AE79-4D83-A3A2-07A820E1A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341AC-46F1-4A54-B6A1-520E32AC0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83D153-EE68-4599-A1E9-5B7A4A689E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363E-F904-4124-B262-64CE06E6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3DFA05-DF03-4E7F-B9B2-2744AE210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23513F-6486-4261-9670-375B614962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E94DB-6A4C-4607-A89E-25A913F95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7C905-3CE9-4F3C-BC4D-7773522BF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F5D83A-1CC5-4C0E-BB2C-816D56DFB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12123-4A21-4809-82E0-19DA7696B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105BD-5230-4DAD-99D2-41FAFF28FC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49AB9-5DE5-495C-A30C-E133065FE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E5E46-3461-478E-A552-49885BDE0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D931E-8B71-495C-A6DE-6B193CBF3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67A6-7C3E-4B77-A7BE-4A1D8046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91238-F1C7-47D0-A780-86BAD526A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EEE003-7DE9-4079-AD78-9F6C2E3F4D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4F55BE-118A-4DE3-95B1-DC10E4B1B9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6D9A64-C1E9-4FF6-AEED-4C664146A4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14704-E39E-4119-A085-C7CD47829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67243-F4DB-482F-8EC3-CFD7A4911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4CEA8-3820-4C46-BFED-CA43277B7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2454E2-7A10-4BF3-9CC8-B70D1B599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3C574-B947-4562-9559-B312F3D42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0FEDE-F0FC-4E2C-B741-4C36AB1C3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5D38-83C3-405E-8453-C8BD1707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C8CF1-51DB-4BCC-8DAC-E90A08690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2EC098-00D8-4E91-91E1-A8B1BC9B7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C236E-7FEC-4507-9F27-376AEA08F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3F3D79-276E-40A5-B4A1-FD081EFE84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5C5DB6-EDF5-444D-89AE-6C8029DF4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0924C2-3C26-4F00-BAA2-922B1BEA80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CD6302-CCF7-4826-9BF7-A5D899415C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BD1ED-B95A-4B14-9A08-85421B1C7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0B02A-8804-4253-A103-122F4A547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988589-D66B-4E6B-A855-F7A15E201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A640-68C5-4DF4-BE38-9E1C7618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61109-1C89-40E1-8438-47C350FBD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6FFF4-6CE6-48F6-921C-B7953A5EC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3FF48-0772-40DB-901D-BE4BCE2B64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1FB3D-4E3C-4457-A96E-A9FC662CD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AA509-3B3B-4059-A9E8-0C36C36DF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6C6B28-9103-4F93-8F38-19FFC8499F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ACFC1-D807-40E8-96ED-82369A4F61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62CFD4-BE88-4BB2-BE53-E9F8503975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648B3-4B0D-4973-B28F-BFD22B1420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AFAFE-446F-4A27-9F19-D92090D132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BA79-5291-4449-B217-AEAFB1D911BC}"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2A70-FFA2-4B21-92F8-4D8C138C0B99}"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983D-D148-485E-971A-7F07B88663CD}"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B452-D743-4A25-8B9D-4297294136E2}"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A492-E961-40F0-B9AD-9EB64E5ACF51}"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730D-2C64-4697-B244-0FEA73E9024F}"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AE72-F507-4D95-A8F6-EE54AEFD018D}"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2A81-ACCD-40B8-A85B-63D1EB81E906}"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21D4-9952-4E28-AA72-DD0F3516B80A}"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1800-D827-4FEF-A6F8-02E334B7B2B4}"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18D9-314E-44E4-B477-E975F9953A4F}"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540B-D3C9-4A14-885E-54AE60D62E70}"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856F-1578-482B-B2E5-26122DD11386}"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A248-F094-4F21-9C2E-45EDBC9B14E3}"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C678-65F7-4D6D-9ECF-2D2CB8A0013D}"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8921-5060-4B51-84C6-BDFD77466580}"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A267-DA23-4316-808C-476A566A4C4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B0D0-B75B-435B-AC8D-5A36EAA59CDD}"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5E59-C9D0-4E0B-926E-F21FAE1FE637}"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B4C2-1A06-4143-91AB-0029B04DFBD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C2AD-4878-4B39-951C-DC444CA29936}"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63A4-48B9-4EDF-86F3-888FC0D62C49}"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CF73-1A28-4310-BAA6-57819D57D98B}"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714F-DA20-4E82-8D7C-29DD758F87C1}"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E147-C305-4A3D-A39E-9DF8B75D3C10}"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F555-0D9F-4C41-A404-D59A3C3B2433}"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EFCE-B264-4699-B0D2-6247C9EAF99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42D7-6AA8-4A28-AB9F-938A40960831}"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E833-C707-4413-B160-05A019713FEB}"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27D5-C0F1-4460-9264-E699EE6618AB}"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4C16-FA02-45BC-89C8-42BCD7986DDE}"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6699-7442-4ADE-BD1A-C8214A461822}"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800E-31CF-4437-BE08-31E84B72D66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98B9-EB1B-47D2-81FE-869A69094E80}"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AF34-E479-4510-B3FE-6A7C05178FC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ECEA-35DE-41A4-8B89-BE816F2CC46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2A81-CBF6-4F2B-90E4-0F4F2F501172}"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9653-AD76-439A-8E54-0209016BC02F}"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C884-33AF-4483-814B-C4F802CD640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8B65-3F90-4E95-8091-6AB28659D094}"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893F-BC79-4894-8D9F-A5603FA21655}"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BD10-143D-4040-BAC1-9F25BA984292}"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C5E5-7EFB-4841-BAEF-7A207E37FE5E}"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5579-4CDE-481E-A7DB-FA7D5190C87A}"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52D2-06A8-4202-BDF9-9420E815CDC0}"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0647-E6C5-4E01-8C9B-1577212EFE86}"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51E0-6CDC-4286-BA17-F92C88EA2066}"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7A18-C622-4650-AB71-9DAB738B3332}"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DF20-DACE-456A-B7B0-0648E072C887}"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D6C7-BF8D-459B-A660-6F7CA3BC47D9}"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E566-4307-49D0-A2BB-0EDF2CEEC352}"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7ED9-429E-49A8-9E18-F1FE6810EF92}"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C4B2-9528-445D-9A40-149F7DF4E444}" type="datetime">
              <a:rPr b="0" lang="en-US" sz="1200" spc="-1" strike="noStrike">
                <a:solidFill>
                  <a:srgbClr val="b5a788"/>
                </a:solidFill>
                <a:latin typeface="Book Antiqua"/>
              </a:rPr>
              <a:t>07/31/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128D-36AD-4415-A21D-28F77AC3FB7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