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3.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6" name="PlaceHolder 2"/>
          <p:cNvSpPr>
            <a:spLocks noGrp="1"/>
          </p:cNvSpPr>
          <p:nvPr>
            <p:ph type="dt" idx="8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move the slide</a:t>
            </a:r>
            <a:endParaRPr b="0" lang="en-US" sz="4300" spc="-1" strike="noStrike">
              <a:solidFill>
                <a:srgbClr val="572314"/>
              </a:solidFill>
              <a:latin typeface="Lucida Sans"/>
            </a:endParaRPr>
          </a:p>
        </p:txBody>
      </p:sp>
      <p:sp>
        <p:nvSpPr>
          <p:cNvPr id="12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9" name="PlaceHolder 5"/>
          <p:cNvSpPr>
            <a:spLocks noGrp="1"/>
          </p:cNvSpPr>
          <p:nvPr>
            <p:ph type="ftr" idx="8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0" name="PlaceHolder 6"/>
          <p:cNvSpPr>
            <a:spLocks noGrp="1"/>
          </p:cNvSpPr>
          <p:nvPr>
            <p:ph type="sldNum" idx="8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C4C9-DD07-48F1-9F19-EE1B8246DA4A}" type="slidenum">
              <a:rPr b="0" lang="en-MY"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E91D-CAB5-4EA2-B3F8-C7F27FD02673}"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CB566-7B91-4163-96D0-636F0814C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D6DC-C7DD-4D9F-A9F4-4C4F0F29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076C8-E763-4519-B0CC-D2A0FEB470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A1BE1F-BF5A-4E90-8080-E0AA92CBEE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857E2A-CC72-4011-929E-830A8A76F7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C35BF-A27B-4F21-ADC9-BF16EAC5B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F096BE-B5F9-4143-BD94-9F62DBD61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C4A515-A736-44B4-AF7C-674012ED8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371ACD-1F3D-48CC-80F6-CDDDE7AF27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14743B-8431-462F-8D89-1C06281325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5F0728-F3A0-405E-ABCD-2774EA73A3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20E4CD-E3D0-41C2-98FD-12B5FAB01E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FEFEB-3F4E-41FD-B0BE-0624BA5CB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7820C9-527F-4F05-9FA1-52E3576788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401F32-CACE-43C1-BFCD-0C57C039A2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A7D28F-8166-4E99-82A3-34604B98F0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2F0948-E328-451C-A8B6-9612791478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DA9BAD-0AC0-4E93-AD64-A8DB596AF6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DDB2C7-F138-446E-8A2C-CFFACD7DAC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E06D24-9CCE-40CF-8A3E-03A24E1AB1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A3DFDC-7243-435C-8B2C-F5079909D6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F2C990-6561-472D-B0B9-7A03876B66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CE3E9B-F2B7-4EB5-ADAD-039A39239C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AD687-8347-4BC3-9940-B1B5CD397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13BBBE-5E14-4B39-85C1-07EEA3B6CA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8A6A549-40AA-4822-87B8-1DF98CA7CA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7B1423B-43EA-42F7-93E0-EA14A261CE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8CB0E36-11A8-4AB7-8B0F-D1E8BB4E25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4D450D8-E3A1-4B02-8BDB-25F9B10E23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80C733D-7A25-4293-9C7C-090A0F53EC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51770DD-06D7-4BCA-BB7A-75765F624C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1083FB9-981F-46E8-9465-E9FEB59D39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AFD288A-585C-4C78-BD68-E50D722AAC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5BCD753-7798-472D-949C-E1E3D47014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8DF4F-BCA3-44E2-A05F-304C58EA0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07E3A3D-CCDF-464D-A138-06F8FBDCB3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45F08CAA-0637-4396-818F-2A9FAE01B0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67F76CC4-3F28-4B81-A053-BF17AD7A79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EB6090C9-36E1-469E-AD57-05320F933A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2460C3F-54D8-4CDB-AD73-31346AB33D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82DD650-90DE-4251-8F52-6A61C8AE28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AED53C7-54EA-4386-BA13-77C8603743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726CA6C-CE96-415C-8061-78F41DA336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FDBD148E-8E62-4894-AD91-7B7EF309F9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9861C2A-4D4D-4A23-88A9-C6E23A8005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3477D-1F6E-416A-9858-7F374C6C8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6E59D75-2D71-4D93-9BFD-286E665A27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FA2A327-2FEC-41B0-A59E-2D618EAF67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138F14A-B81B-42F7-8AFF-33190FCCCB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55501844-2770-497B-91CF-F6C49403E0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D187632E-77FC-4218-BF5E-C826203517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FAFF452D-244B-4C5A-A5A2-CA16987829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DD4CCACF-23F2-47C2-9AB2-C42E1F3507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C6E7522-2207-45F2-AE4D-81457288D2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D3B32D65-1BD8-4AA4-8732-49ACBD5BB2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19ED5851-D79B-4735-BC0A-A2AFE31494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C13EA-CA0A-437C-8EF4-4D44BED9A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15144866-114D-4A33-A120-951DD05ED4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83B3417-FC7A-4EDB-8441-38B0B9A4ED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70F0B65-ED18-47A7-90BC-A3E5E92D63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C765260-0515-4210-999B-39C14B68AB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1AE5078-47A8-4BEA-AD9E-DFECD46834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9B2B1731-6FE2-4A7B-B9FE-34B0E82171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72794E62-618A-48D8-8F90-BDB4BC0D9C7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63D0EC-9E4E-4DD3-BF3F-851F739ABD3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6F85B4-A53D-483E-A276-24E3598498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5F3155-9C5C-4F21-8EC6-6A1FD59C35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8DADA-AE2A-4C62-AC53-629523E52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73D310-97A4-42EF-B716-9FBD728C08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E8C1A7-D700-40C8-A764-1B0D7B4296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BAC3A3-C8E5-4020-9A1C-5ACAAE09E1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05C7CC-598D-4140-8569-68215686EE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832C46-F445-4F14-90EC-C362235701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337890-AC1E-4807-BF11-B4E70D9936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85E5C1A-2AAD-447B-9F4D-282F826206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75AB549-55FA-4211-B891-4F7D1F4044D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328BC7B-DF50-44DB-BF7E-DE6B1A95F3C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9F218DFE-4828-49E7-8434-BFE20F476C4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FEBB3-F0D7-4EDD-9A03-FEA3A4215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0645D8A6-3479-4FC3-BFD2-952BE85DCB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D27970F3-C010-493D-A005-5578B38AFB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5084AA9-29C7-4950-92A0-CA0414BB03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ADC8F88D-2542-4B49-BA51-1B8324178D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0E320179-AE74-42A5-8F63-462370F5C2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75407D0-04B8-46E2-ACCE-604313CB10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B2D121D-7CB8-47A5-B2B6-10E24D42A4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A052479-159B-4652-AF10-930B344526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B1D5D335-2D6A-4257-B1B5-A3B760B42A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45C2C7B5-255D-4F2D-9EF5-10DBB1E1AD2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2F0CC-7DF9-46B5-B659-C06BCA6B1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CB3DEC28-8EB7-48BC-B0A0-F0F769CA3DB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2F5434E-E5D4-4734-9C33-C9CC1025D89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180ACF8-92DE-4C87-8CDC-2D3C55D818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DC4A48-7E2E-483B-91CF-5104838F684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9BBAED-D22F-45D4-8B29-93C84F7D52C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34523F8-DE54-481F-9E0B-70B780679AA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8DE3FF-1288-4510-B81A-286252F95E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FA5965-510F-49D0-A7FF-C59B6CF885C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094CEF-E110-457E-9805-D4A1CC7D84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BEF64E-774F-455E-A099-20686D732B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63E94-1494-44D1-BC4C-73FD281B7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27F9D0-7218-45A0-B148-7947148944F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613B6A8-8A90-400E-ABA3-B33D59D345C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FDD756A-051E-4469-A75F-AC3C901CDC2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DA438A-A112-4002-B61E-99F45749143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E9C8C5-9A5A-4DFD-A740-C6B3EA9E7D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B5123A-6814-4157-96F5-36905CC9D84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E9265E-D641-4F9B-ACA9-AE95ECAA060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CC7AE4-F895-43B3-98BE-EFBB3B574E1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7CF1EB8-FFC4-4395-99AB-47511A10FE6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EED816F-00A7-41BB-9F29-A637A7F8F0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7D327-1D4E-4EFC-9A79-047317D1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785AD-3F0B-44DE-9270-1180BDADB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B8CB42-6AAE-4BB3-96C3-529295EF89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D3A479-45B3-4B65-BFDF-9E73DCB4EC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770CD44-2DE9-4124-9EDC-5153501CE6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9FD88F7-DB8B-4E0C-A38C-5EA47986652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D32766E-ACD7-4D59-B390-6385771393F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FF454C9-0EE3-467C-99CF-73614AB6D59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AF4C25D-5585-47D6-B2F9-1FAAAC8EDC7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3337473-B0F1-449A-9440-ECC50F5B2D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E2B3DC4-3B68-493F-A856-31DC8A4BF3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38955B2-FF4F-4C57-A348-06BFDA8ADB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ACDC9-0F96-4672-BF9C-B9D8E3A97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C964E39-5D3A-49C8-BB40-77AB595845A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C412BC-49D5-4E5E-98C3-C223E022E5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E87549-3738-4328-9867-A41B93B16A6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FAD6207-3413-4AE3-A14A-B8B73F0453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2B5888-31BB-4549-BF09-2E3061802E6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1131731-3C84-4B8B-B39A-263966333AD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81E4656-1622-4C3C-BDCC-044A8331D28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7"/>
          </p:nvPr>
        </p:nvSpPr>
        <p:spPr/>
        <p:txBody>
          <a:bodyPr/>
          <a:p>
            <a:fld id="{73514E17-9DF1-4F7E-B2DE-2429608A568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4ADC2329-CAD6-4607-9696-89A9AA91E9D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8D0ED738-B9D0-440A-82D8-080E27FCF8C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135BD-35C0-40CF-9DE3-8F3F48190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36067C81-8236-42AD-8319-85A336A6BB0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8318CBA9-FD2E-4E7A-B337-888824F6BAF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11DB4B7C-9E90-4882-B13F-0E6F965A7C7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3C2BBF23-BA71-4A8F-9AF0-12523AB92B3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CB0374B2-FBA5-446E-B8E3-05BE8FB794B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BD840C5C-62E1-4610-8174-DED2DC3B21A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033C8D55-79C4-4B01-8CAB-6E076E579DD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7"/>
          </p:nvPr>
        </p:nvSpPr>
        <p:spPr/>
        <p:txBody>
          <a:bodyPr/>
          <a:p>
            <a:fld id="{85A6F61C-16BC-484D-8620-B9E52BB2D8FE}"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7"/>
          </p:nvPr>
        </p:nvSpPr>
        <p:spPr/>
        <p:txBody>
          <a:bodyPr/>
          <a:p>
            <a:fld id="{296DE4C3-75A1-443D-B025-F65C5FD95A55}"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97103AE-BB0D-48FE-B067-2A615D67778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7AF48-4454-44D2-9E1D-F6C0E2FD2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8E59403-E6DF-4196-9F72-CE6677E1F93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7FE469D-B95D-441C-9187-F7ADEF4F488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BB5F7BA-E67C-445A-BDE1-77B3ACE740A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ED790F2-F3BC-44DF-BC91-58BBD2DDC1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C5DF154-40C8-43F4-A77B-ED1CEAAB66D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3B26D5-EFBF-4A05-BD85-B86C0041583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D7A34ED-ACA0-4441-A340-922C8D8A4A2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3688B8-DC02-4C2F-B82D-7C831030185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A7AAAD6-7E2C-434D-ADE7-1C10BC8D1FA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2652BEC-FB09-40DF-80BA-7FFA74EB6CF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D3D2C-2EAC-4828-8E90-68DDEA98E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7FA17FF-3295-4678-8602-30B43C3BDD2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11FF07F-DB72-4EE8-82D7-FA782BCC953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AB5CF6F-98D4-470C-B15C-C458A832BF2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2D76750-F45C-4411-BB4B-D78155D09AE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0CCF6DC-8F44-45DD-A75B-A509494D6CB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C82AC1A-B697-4035-A559-69ADF077A0B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54038D1-CEC1-41AA-8795-5E6392AEAC5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9F30D0-0F2E-4F1C-BC82-FE4336982B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A09F65-2E7C-40BB-96FC-B314C69931E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8684681-4A41-4FE1-AFB4-268766EF32F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494F42-1581-4A34-99AD-85154EB528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B65DC86-3CCC-40AA-ADC3-25290C5BA29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59B5AC7-EF3C-4D17-98B3-B86FCB21E94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A692555-DBDE-456E-A5DD-4042C39482B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1FE41D1-3D1F-4AAB-9686-B06F5C44CFB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2138D51-5E73-4D75-BC71-EF5D7436ADB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F98047-FC47-40B3-B5D6-F8F1BF56151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5D7C4F8-AEB7-40D1-8001-AFEEC5AAB12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5DEF784-ABB8-4F00-8A39-007677BD4C8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2963817-7311-4BB5-A4C1-4997633F46C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8DC1A84-16B5-40A8-9B38-4D2E41A02B6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80362C-39AE-4E59-9960-A21132E947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7D4D4A-6A5D-43ED-BAF9-9CD7EAAA95C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8A4946F-7F53-47B9-8AB0-EC211600FD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984C53D-4568-4CC3-939B-158621334AD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0A9A23E-D0E8-4EFD-8983-376975107E7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F229840-9380-4EC3-BF19-291399A0247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6C3F1C8-C816-4E9B-B717-1254E5E9081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2E94D87-90C6-48F8-844D-6A371446DEE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FAE625E-6494-434C-AC8B-3DB4409DF44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B70D939-2F7B-4F7C-BA25-FEF207A1539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75B2F9A-7EE9-4B7E-80DC-67C7F9DD2AA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56C2A2-DB2B-427F-AFF8-9479434CB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9A046FE-6AA3-41A6-9512-4F0B8B2BA7D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0B32D96-B0F3-472A-B570-740AF078E8B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203950C-6155-4735-8D80-A1D8740132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010C279-8B92-490A-A1CD-F2EA5D627A0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7752C9A-A85E-4574-88BD-BB07CCF9E94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47285FB-E96B-48E3-B84B-0B50D022EDD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AFAFE27-FC77-4E49-98D7-B7CEFB0CB45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5E1F3C63-48C4-4CFD-A728-7F45D96149A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C44B3C08-A783-47F6-AF01-7AFF65CFB4D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5455BBDA-F742-4FB8-8411-5B9A1DE586A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CA6A1-017C-46AD-9DC1-04DD90B9D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946EA4D9-107B-4733-8BE9-A7B041B08C3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57BB9AF8-C1D7-4307-8B7E-BB9DFC50EA0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CF7A3429-0D25-468C-AB04-6311AC5FDBB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639954D-362E-4450-8309-493C9A65DEA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9B0CB2DB-5CD1-4C22-AEBE-D809C1D7350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F5BC8CAF-3A27-4881-AFF5-5077CF67FF0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30118665-5258-406D-9D9C-5CC79114090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829339AD-0ED3-41DC-8649-860095A8C73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317C2E8E-C8D6-488F-8A3B-D451642C50E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7F357BB1-1DA3-4858-BAE3-2DAB27908BEA}"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809215-AAC9-47BC-A6B5-039521590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5C253FCD-B6A9-4EBF-ABB9-EA8589311316}"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8B42E6B4-7518-4373-9950-BB163C3F825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E42FFFA3-2EDE-4E5E-BCDA-5D0D20CCD25D}"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635B1D48-882E-490E-BB96-E7A444690573}"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D7D3A4D9-A105-4A09-9760-F0C45E48D665}"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94358BA5-5DF9-460A-8993-B8B104FDAD53}"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DA3314FF-2930-47CB-B06A-DE8C62EFD1F1}"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2B979405-1AC7-41D0-AE57-70AE803E6439}"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EDE56F95-AF19-437D-AD02-84FAC8BB0D74}"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E55CECC9-6AE9-4115-8411-089297A3A7AA}"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06E1B-6928-4435-A850-C5BCCCAC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9C4C76-41C8-4F7C-99BE-4DD786A14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E5427F26-1631-42A9-AFD3-27F13DF92977}"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8863FAC-0ABD-42F7-BB9C-E149032B439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D37BCF3-B841-4281-AE87-9FBBC682EA5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4A8BFCF-5374-4E2F-B1EB-80239A368BC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3B5C098-7EC8-4023-84C3-2C61E717F7B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2A32056-EB3F-4267-B87E-9705F468E8D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C9F257C-41F6-4417-8B08-7BD1C044A45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720F752-52DC-4865-A2AD-3B748165036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6019681-8F46-49A0-8FF8-4D995B7BA9D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1840457-3070-4CFF-A304-CC276E4B03B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F4CA3-51C4-4A69-846E-E91B01BA6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2DF66B4-FFF3-48B8-BC56-32EE50DAF4A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686FAE5-6600-414F-8F6C-932D757472A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BB466E9-FEBA-4A37-A2C1-1E174622729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CC4DB31F-A84F-49B5-9A03-465721637B43}"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8EF73F63-973E-43A9-B0D4-B35C9743556D}"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3E1B71C6-63FA-4462-BE35-3B08888F3A26}"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1B01F37A-EB4F-4EEF-8B45-861904685631}"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DDBE7AD4-6EA4-406B-A072-3D3B0F3712F2}"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3C2167DF-8763-480E-ADEB-D928D1406B82}"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71F18BD8-ACD2-4CDA-B0CA-2F9CB1FE1B77}"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368D5-63C1-4CD8-96A0-E9121B960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E0D58F90-A675-40DD-ADEA-0514CC00B2A6}"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5C920332-CFFE-4562-8F54-56897CEE346C}"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DBFBCCB3-42FA-4D39-98B4-24DA099D4437}"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575E5D34-C101-4798-B33A-301E049BA30B}"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77E85E7A-6D40-40DC-833E-40CCFD959817}"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C51E4C-02CF-4128-A357-40B10F26D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DEA1E-1178-45A4-B4BC-71AA462A1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EC5A90-192D-419E-BD24-A358F5BDFB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C76EE5-B467-4E14-A457-67C725AF10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052FD2-5920-40DB-B406-85E6723D4C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339FC-6E93-4DA3-AC44-C37CA4EED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8FB49-1415-48B4-97F5-77E769817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9D89F-5733-4E8D-A7E3-B25C16616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8A5673-2DD7-45FE-AD58-2B5D439BD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19635D-A2E0-48C9-8556-F6679F2E6C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06CB1-CFA9-49ED-BF36-F0AAC3CEF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DCE59-0F40-410F-B03C-2A9978797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C85FD-2257-4390-933B-71B6542A3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48863-B94F-453F-9B98-E475BD0E5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A096F-B8A5-4833-A36F-E76C0A73C8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9049C0-BE5D-40ED-83F1-F3A57EF083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E4FD6F-EE98-47B7-BE91-12050223B0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61167C-A97C-417F-B0AF-5850323C24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D9124-4D24-4644-BB5F-55181C661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98543-A447-4EFB-B828-3882ADB1F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C3CC5-116F-4B33-91BB-A0B280D7D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77E24-FFDB-4856-A691-1166E2C3E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2D8367-16A9-4F22-898E-EF7C584E8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CAFE4-4FFB-4389-8B16-A628148ED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46375-EF49-4569-84AD-08EFE9A41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5C5D4-EDAF-40DD-9F37-8EB57BB76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98D67-DBE8-47D5-9039-8B39175F5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FCB65-6977-415A-9942-411F6D89C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14AA67-82A5-4132-8C40-7736B9E4E9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76651-64EB-451C-87D5-A333F4361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86BD0B-1BE1-403F-BBD8-3DE5932D8A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524947-8406-4F20-B681-F0C3C09BBF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684F31-6D40-4FFE-AFA6-2F7F2AF768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FAB13B-F2F3-4E86-9EB6-BBA42D508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05DC4-80C9-45F9-85B9-72979F2930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279DA-706E-42F3-A6A2-8D2677FCE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34E00-C6F2-4A7F-B282-2A48581749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EC3DF-6C5E-42B2-BE3E-CDD68F047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7FA9A-641E-49B7-BDAB-C7B3BCFDE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36AF8-0B10-4D5B-8CD0-6C438308D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DE71-33FF-4654-9ABD-B83788F9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85D6DC-2CCF-4464-9AD3-2D219BE6A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5B571B-98CE-429C-A3D4-E84BD47E62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50A316-05D8-4BBF-B5F2-CA64E22DF5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082F23-2036-4342-B678-A89DA9BFE7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3C706-B800-4EB5-8F82-229321FFF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48E18F-4199-408F-9190-395B123C9D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D1DBB1-DE4C-4993-8817-BA493865DC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D59D9-BE4C-4FDB-83F3-0E32178A8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2995F1-C067-4878-B6C3-1099F7517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9A653-1FE2-4772-98CD-D46C396D1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3FE0-CDBB-4EF3-8AC4-68B02C73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F440E4-D9E5-4B9D-8192-6B9FCA0F6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B8E69-CAD6-44C9-B6A8-0BAE650E3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6D8826-FE92-4072-895A-1E7B71D19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79461A-D603-44C7-A694-247F00BDA1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87BCC8-B4C6-4FA0-8EB2-9DF7F41208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046E42-94EA-420A-8E54-174937F968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8B8D46-7A04-4A38-A0B2-1FD08C67BB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6C5FF-FAC8-4482-A45F-70E8549FB5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B4BC27-A52B-4087-9077-EC77C57E17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968E1F-2C11-4488-BA52-FA64C4E89F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D5C65-3902-44F5-A542-CF256B625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E7FEE5-7C09-4152-BF9C-2027240E6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E0F5DE-D22F-4ABA-ACFA-107A1CC45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9CAB06-C001-42E7-AFA1-1C290BFC04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A14CA9-E8F2-41D8-9FC2-AE2671331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4132E0-6CA3-4CB6-8B62-5D3D00B43F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F39605-329B-4C3F-A8B1-3AD1119059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0C2028-E784-45BB-B099-0FC7BC7194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7CD245-D916-4FA2-B092-4E0A18C867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5AE3EA-F8AE-4AEF-B025-F5F3272A45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5B3A9F-5064-4859-BD18-294FF14969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2FD3-1B5B-40AF-BA90-67DF39BE3AF9}"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DC8A-9ED5-42EF-B7AA-4B5CC62512C9}"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12"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17"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D3AA-0503-49FC-A207-4463543999FC}" type="datetime">
              <a:rPr b="0" lang="en-US" sz="2000" spc="-1" strike="noStrike">
                <a:solidFill>
                  <a:srgbClr val="ffffff"/>
                </a:solidFill>
                <a:latin typeface="Times New Roman"/>
              </a:rPr>
              <a:t>07/31/26</a:t>
            </a:fld>
            <a:endParaRPr b="0" lang="en-US" sz="2000" spc="-1" strike="noStrike">
              <a:solidFill>
                <a:srgbClr val="000000"/>
              </a:solidFill>
              <a:latin typeface="Times New Roman"/>
            </a:endParaRPr>
          </a:p>
        </p:txBody>
      </p:sp>
      <p:sp>
        <p:nvSpPr>
          <p:cNvPr id="418"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ebddc3"/>
                </a:solidFill>
                <a:latin typeface="Times New Roman"/>
              </a:rPr>
              <a:t>NAR CMLHS 2009</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C99B-C9A7-4C92-9986-E70011568799}" type="slidenum">
              <a:rPr b="1" lang="en-MY"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1"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0D01-1D4B-4B80-8BCA-F4F17E8D71AF}"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462"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7E64-3DBB-453F-974D-2EC60E91C9DA}" type="slidenum">
              <a:rPr b="1" lang="en-MY"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63"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0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5"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9B61-BC9F-436D-8576-45844BDDABF6}"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06"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19D6-13C7-4655-BAC3-C77490E6A47F}"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7"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49"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86A4-6A84-4B53-B0FF-79417E0CD53C}"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50"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C7A9-CF74-4890-9E92-AF562DC9C51B}"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1"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8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90"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6341-5A58-4706-B4B2-F5D153A9FE96}"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91"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92"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070E-EA66-4E26-813B-4EA589CA7DD2}" type="slidenum">
              <a:rPr b="1" lang="en-MY"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35"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85D9-2F1F-4751-94AB-E5E2B07A1E10}"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636"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3C1F-BF98-44E8-B482-3C8BEC8AE56F}" type="slidenum">
              <a:rPr b="1" lang="en-MY"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637"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79"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54BC-8DF8-46D1-AF3C-B8FEC6A5B31B}"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680"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681"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0F5C-2940-4501-B59F-41A3E8C87F9B}"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2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29"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9484-603D-47E1-8B89-B9959896F398}"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730"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31" name="PlaceHolder 5"/>
          <p:cNvSpPr>
            <a:spLocks noGrp="1"/>
          </p:cNvSpPr>
          <p:nvPr>
            <p:ph type="sldNum" idx="5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647D-E1B9-4FBD-96E0-FCE841B37D68}"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7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79"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BFD8-FBD2-451B-AAE8-58FE5308B7D6}"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780" name="PlaceHolder 4"/>
          <p:cNvSpPr>
            <a:spLocks noGrp="1"/>
          </p:cNvSpPr>
          <p:nvPr>
            <p:ph type="ftr" idx="5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81" name="PlaceHolder 5"/>
          <p:cNvSpPr>
            <a:spLocks noGrp="1"/>
          </p:cNvSpPr>
          <p:nvPr>
            <p:ph type="sldNum" idx="54"/>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148F-9E55-4C67-B5D2-62472864C060}"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31" name="PlaceHolder 3"/>
          <p:cNvSpPr>
            <a:spLocks noGrp="1"/>
          </p:cNvSpPr>
          <p:nvPr>
            <p:ph type="ftr" idx="5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32" name="PlaceHolder 4"/>
          <p:cNvSpPr>
            <a:spLocks noGrp="1"/>
          </p:cNvSpPr>
          <p:nvPr>
            <p:ph type="dt" idx="5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CD3C-D83D-47F8-BD9D-F5C9972213C1}"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833" name="PlaceHolder 5"/>
          <p:cNvSpPr>
            <a:spLocks noGrp="1"/>
          </p:cNvSpPr>
          <p:nvPr>
            <p:ph type="sldNum" idx="57"/>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0027-2030-49FE-971A-E7B284DE3066}"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555F-4257-4EB3-808B-2F6B14CE8DB2}"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3622-545F-4B00-8299-85296889A49D}"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8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82" name="PlaceHolder 3"/>
          <p:cNvSpPr>
            <a:spLocks noGrp="1"/>
          </p:cNvSpPr>
          <p:nvPr>
            <p:ph type="dt" idx="58"/>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FFC8-0E92-4D48-9F16-337C9C9B8B63}"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883"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84" name="PlaceHolder 5"/>
          <p:cNvSpPr>
            <a:spLocks noGrp="1"/>
          </p:cNvSpPr>
          <p:nvPr>
            <p:ph type="sldNum" idx="60"/>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75CA-CF63-4557-B285-18C593944CD0}"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21"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3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34" name="PlaceHolder 3"/>
          <p:cNvSpPr>
            <a:spLocks noGrp="1"/>
          </p:cNvSpPr>
          <p:nvPr>
            <p:ph type="dt" idx="6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822D-F0B8-4EF6-857F-79EAA01DA416}"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35" name="PlaceHolder 4"/>
          <p:cNvSpPr>
            <a:spLocks noGrp="1"/>
          </p:cNvSpPr>
          <p:nvPr>
            <p:ph type="ftr" idx="62"/>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36" name="PlaceHolder 5"/>
          <p:cNvSpPr>
            <a:spLocks noGrp="1"/>
          </p:cNvSpPr>
          <p:nvPr>
            <p:ph type="sldNum" idx="63"/>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5A59-C6B9-40C9-B7CE-06CCB3F0FDCD}"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8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84" name="PlaceHolder 3"/>
          <p:cNvSpPr>
            <a:spLocks noGrp="1"/>
          </p:cNvSpPr>
          <p:nvPr>
            <p:ph type="dt" idx="6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6B45-0D00-4441-B149-39BA6A9CF0D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85" name="PlaceHolder 4"/>
          <p:cNvSpPr>
            <a:spLocks noGrp="1"/>
          </p:cNvSpPr>
          <p:nvPr>
            <p:ph type="ftr" idx="6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86" name="PlaceHolder 5"/>
          <p:cNvSpPr>
            <a:spLocks noGrp="1"/>
          </p:cNvSpPr>
          <p:nvPr>
            <p:ph type="sldNum" idx="66"/>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952E-DA11-46D2-84E4-B77D5A441E3E}"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31"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122A-786C-48CD-8A84-BE41A584BE88}"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032"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033" name="PlaceHolder 5"/>
          <p:cNvSpPr>
            <a:spLocks noGrp="1"/>
          </p:cNvSpPr>
          <p:nvPr>
            <p:ph type="sldNum" idx="69"/>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7A1D-7468-4C25-AACC-89A6704BCEA8}"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8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83" name="PlaceHolder 3"/>
          <p:cNvSpPr>
            <a:spLocks noGrp="1"/>
          </p:cNvSpPr>
          <p:nvPr>
            <p:ph type="sldNum" idx="70"/>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3710-00DB-4AFA-8A5D-9F0D2433DC30}"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84"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878F-D475-43FF-9B8D-1DFA314F1E3F}"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085" name="PlaceHolder 5"/>
          <p:cNvSpPr>
            <a:spLocks noGrp="1"/>
          </p:cNvSpPr>
          <p:nvPr>
            <p:ph type="ftr" idx="72"/>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5" name="PlaceHolder 3"/>
          <p:cNvSpPr>
            <a:spLocks noGrp="1"/>
          </p:cNvSpPr>
          <p:nvPr>
            <p:ph type="sldNum" idx="73"/>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3181-D32F-4347-986D-BCEE498DB13C}"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136" name="PlaceHolder 4"/>
          <p:cNvSpPr>
            <a:spLocks noGrp="1"/>
          </p:cNvSpPr>
          <p:nvPr>
            <p:ph type="dt" idx="74"/>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89BC-8DAA-44F4-B721-AD81C025D4F9}"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37" name="PlaceHolder 5"/>
          <p:cNvSpPr>
            <a:spLocks noGrp="1"/>
          </p:cNvSpPr>
          <p:nvPr>
            <p:ph type="ftr" idx="75"/>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7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8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85" name="PlaceHolder 3"/>
          <p:cNvSpPr>
            <a:spLocks noGrp="1"/>
          </p:cNvSpPr>
          <p:nvPr>
            <p:ph type="dt" idx="7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B996-3AFF-4677-8879-32CEF6987F7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86" name="PlaceHolder 4"/>
          <p:cNvSpPr>
            <a:spLocks noGrp="1"/>
          </p:cNvSpPr>
          <p:nvPr>
            <p:ph type="ftr" idx="77"/>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187" name="PlaceHolder 5"/>
          <p:cNvSpPr>
            <a:spLocks noGrp="1"/>
          </p:cNvSpPr>
          <p:nvPr>
            <p:ph type="sldNum" idx="7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92F5-9148-4405-9C7D-DFAE45E2EA15}"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2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35" name="PlaceHolder 3"/>
          <p:cNvSpPr>
            <a:spLocks noGrp="1"/>
          </p:cNvSpPr>
          <p:nvPr>
            <p:ph type="sldNum" idx="79"/>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A850-99C1-4B26-8D99-66C0E9C997F3}"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36" name="PlaceHolder 4"/>
          <p:cNvSpPr>
            <a:spLocks noGrp="1"/>
          </p:cNvSpPr>
          <p:nvPr>
            <p:ph type="dt" idx="8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76F1-EE51-4035-92D4-756BC86E6AFF}"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237" name="PlaceHolder 5"/>
          <p:cNvSpPr>
            <a:spLocks noGrp="1"/>
          </p:cNvSpPr>
          <p:nvPr>
            <p:ph type="ftr" idx="81"/>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BF87-CBA4-4467-83A2-AD9337BCC31A}"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8"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7A80-5C47-4923-8F27-EB849ED2C386}"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4"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5"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Donut 10"/>
          <p:cNvGrpSpPr/>
          <p:nvPr/>
        </p:nvGrpSpPr>
        <p:grpSpPr>
          <a:xfrm>
            <a:off x="165240" y="1036800"/>
            <a:ext cx="1170000" cy="1170000"/>
            <a:chOff x="165240" y="1036800"/>
            <a:chExt cx="1170000" cy="1170000"/>
          </a:xfrm>
        </p:grpSpPr>
        <p:pic>
          <p:nvPicPr>
            <p:cNvPr id="145" name="Donut 10" descr=""/>
            <p:cNvPicPr/>
            <p:nvPr/>
          </p:nvPicPr>
          <p:blipFill>
            <a:blip r:embed="rId3"/>
            <a:stretch/>
          </p:blipFill>
          <p:spPr>
            <a:xfrm>
              <a:off x="165240" y="1036800"/>
              <a:ext cx="1170000" cy="1170000"/>
            </a:xfrm>
            <a:prstGeom prst="rect">
              <a:avLst/>
            </a:prstGeom>
            <a:ln w="0">
              <a:noFill/>
            </a:ln>
          </p:spPr>
        </p:pic>
        <p:sp>
          <p:nvSpPr>
            <p:cNvPr id="1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Oval 12"/>
          <p:cNvGrpSpPr/>
          <p:nvPr/>
        </p:nvGrpSpPr>
        <p:grpSpPr>
          <a:xfrm>
            <a:off x="914400" y="1407960"/>
            <a:ext cx="231840" cy="225720"/>
            <a:chOff x="914400" y="1407960"/>
            <a:chExt cx="231840" cy="225720"/>
          </a:xfrm>
        </p:grpSpPr>
        <p:pic>
          <p:nvPicPr>
            <p:cNvPr id="150" name="Oval 12" descr=""/>
            <p:cNvPicPr/>
            <p:nvPr/>
          </p:nvPicPr>
          <p:blipFill>
            <a:blip r:embed="rId4"/>
            <a:stretch/>
          </p:blipFill>
          <p:spPr>
            <a:xfrm>
              <a:off x="914400" y="1407960"/>
              <a:ext cx="231840" cy="225720"/>
            </a:xfrm>
            <a:prstGeom prst="rect">
              <a:avLst/>
            </a:prstGeom>
            <a:ln w="0">
              <a:noFill/>
            </a:ln>
          </p:spPr>
        </p:pic>
        <p:sp>
          <p:nvSpPr>
            <p:cNvPr id="1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1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5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B33B-FC5F-40FD-A23A-B5207CCB95ED}"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15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5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AAE8-EAD5-46B4-BCFA-15429192DFC3}"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Oval 15"/>
          <p:cNvGrpSpPr/>
          <p:nvPr/>
        </p:nvGrpSpPr>
        <p:grpSpPr>
          <a:xfrm>
            <a:off x="2163600" y="2809800"/>
            <a:ext cx="231840" cy="225360"/>
            <a:chOff x="2163600" y="2809800"/>
            <a:chExt cx="231840" cy="225360"/>
          </a:xfrm>
        </p:grpSpPr>
        <p:pic>
          <p:nvPicPr>
            <p:cNvPr id="197" name="Oval 15" descr=""/>
            <p:cNvPicPr/>
            <p:nvPr/>
          </p:nvPicPr>
          <p:blipFill>
            <a:blip r:embed="rId3"/>
            <a:stretch/>
          </p:blipFill>
          <p:spPr>
            <a:xfrm>
              <a:off x="2163600" y="2809800"/>
              <a:ext cx="231840" cy="225360"/>
            </a:xfrm>
            <a:prstGeom prst="rect">
              <a:avLst/>
            </a:prstGeom>
            <a:ln w="0">
              <a:noFill/>
            </a:ln>
          </p:spPr>
        </p:pic>
        <p:sp>
          <p:nvSpPr>
            <p:cNvPr id="19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0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7EBD-7CE5-47E8-B237-111D987B0832}"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0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0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F08B-E55D-4D56-A80E-35786CFAAD1D}"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4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A67F-705E-4666-BFD2-0E4C3A451CE8}"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4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4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9D9E-4883-426B-B370-C9172D98BCF4}"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346B-80BD-4565-85C1-EAD8640AE567}"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BCF8-1EEF-4016-814C-7B3F81946D03}"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EA4F-7426-4DF8-B4E2-ADCAAC65EE2B}"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A3DC-F924-4DFF-9073-49F1EBE204F1}"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6" name="Rectangle 12"/>
          <p:cNvGrpSpPr/>
          <p:nvPr/>
        </p:nvGrpSpPr>
        <p:grpSpPr>
          <a:xfrm>
            <a:off x="646200" y="969840"/>
            <a:ext cx="4803840" cy="4802400"/>
            <a:chOff x="646200" y="969840"/>
            <a:chExt cx="4803840" cy="4802400"/>
          </a:xfrm>
        </p:grpSpPr>
        <p:pic>
          <p:nvPicPr>
            <p:cNvPr id="367" name="Rectangle 12" descr=""/>
            <p:cNvPicPr/>
            <p:nvPr/>
          </p:nvPicPr>
          <p:blipFill>
            <a:blip r:embed="rId3"/>
            <a:stretch/>
          </p:blipFill>
          <p:spPr>
            <a:xfrm>
              <a:off x="646200" y="969840"/>
              <a:ext cx="4803840" cy="4802400"/>
            </a:xfrm>
            <a:prstGeom prst="rect">
              <a:avLst/>
            </a:prstGeom>
            <a:ln w="0">
              <a:noFill/>
            </a:ln>
          </p:spPr>
        </p:pic>
        <p:sp>
          <p:nvSpPr>
            <p:cNvPr id="36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73"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FF3F-E948-4DE5-9080-44B3CC479568}"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374"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75"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47FC-EEFF-44CA-8F8A-F64A5217A598}"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431720" y="360000"/>
            <a:ext cx="7407000" cy="19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hapter 4</a:t>
            </a:r>
            <a:br>
              <a:rPr sz="4300"/>
            </a:br>
            <a:r>
              <a:rPr b="0" lang="en-US" sz="4300" spc="-1" strike="noStrike">
                <a:solidFill>
                  <a:srgbClr val="572314"/>
                </a:solidFill>
                <a:latin typeface="Lucida Sans"/>
              </a:rPr>
              <a:t>Findings and Discussion</a:t>
            </a:r>
            <a:endParaRPr b="0" lang="en-US" sz="4300" spc="-1" strike="noStrike">
              <a:solidFill>
                <a:srgbClr val="572314"/>
              </a:solidFill>
              <a:latin typeface="Lucida Sans"/>
            </a:endParaRPr>
          </a:p>
        </p:txBody>
      </p:sp>
      <p:sp>
        <p:nvSpPr>
          <p:cNvPr id="1282" name="PlaceHolder 2"/>
          <p:cNvSpPr>
            <a:spLocks noGrp="1"/>
          </p:cNvSpPr>
          <p:nvPr>
            <p:ph type="subTitle"/>
          </p:nvPr>
        </p:nvSpPr>
        <p:spPr>
          <a:xfrm>
            <a:off x="1428840" y="3143160"/>
            <a:ext cx="7407360" cy="2643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Book Antiqua"/>
              </a:rPr>
              <a:t>By the end of this unit, students will be able to:</a:t>
            </a:r>
            <a:endParaRPr b="0" lang="en-US" sz="26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alyse data to be reported in finding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Formulate results based on data analysi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Support results and findings with evidence from secondary sources.</a:t>
            </a:r>
            <a:endParaRPr b="0" lang="en-US" sz="2800" spc="-1" strike="noStrike">
              <a:solidFill>
                <a:srgbClr val="000000"/>
              </a:solidFill>
              <a:latin typeface="Book Antiqu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283" name="Picture 2" descr="C:\Users\Lenny\Pictures\magnif.glass.jpg"/>
          <p:cNvPicPr/>
          <p:nvPr/>
        </p:nvPicPr>
        <p:blipFill>
          <a:blip r:embed="rId1"/>
          <a:stretch/>
        </p:blipFill>
        <p:spPr>
          <a:xfrm>
            <a:off x="2143080" y="428760"/>
            <a:ext cx="809640" cy="1199880"/>
          </a:xfrm>
          <a:prstGeom prst="rect">
            <a:avLst/>
          </a:prstGeom>
          <a:ln w="0">
            <a:noFill/>
          </a:ln>
        </p:spPr>
      </p:pic>
      <p:pic>
        <p:nvPicPr>
          <p:cNvPr id="1284" name="Picture 3" descr="C:\Users\Lenny\Pictures\ppl disc..jpg"/>
          <p:cNvPicPr/>
          <p:nvPr/>
        </p:nvPicPr>
        <p:blipFill>
          <a:blip r:embed="rId2"/>
          <a:stretch/>
        </p:blipFill>
        <p:spPr>
          <a:xfrm>
            <a:off x="7143840" y="357120"/>
            <a:ext cx="981000" cy="1238400"/>
          </a:xfrm>
          <a:prstGeom prst="rect">
            <a:avLst/>
          </a:prstGeom>
          <a:ln w="0">
            <a:noFill/>
          </a:ln>
        </p:spPr>
      </p:pic>
      <p:sp>
        <p:nvSpPr>
          <p:cNvPr id="12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Some specific register for data analysis</a:t>
            </a:r>
            <a:endParaRPr b="0" lang="en-US" sz="3200" spc="-1" strike="noStrike">
              <a:solidFill>
                <a:srgbClr val="572314"/>
              </a:solidFill>
              <a:latin typeface="Lucida Sans"/>
            </a:endParaRPr>
          </a:p>
        </p:txBody>
      </p:sp>
      <p:pic>
        <p:nvPicPr>
          <p:cNvPr id="1319" name="Content Placeholder 5" descr=""/>
          <p:cNvPicPr/>
          <p:nvPr/>
        </p:nvPicPr>
        <p:blipFill>
          <a:blip r:embed="rId1"/>
          <a:stretch/>
        </p:blipFill>
        <p:spPr>
          <a:xfrm>
            <a:off x="1414440" y="1627200"/>
            <a:ext cx="7467480" cy="2408400"/>
          </a:xfrm>
          <a:prstGeom prst="rect">
            <a:avLst/>
          </a:prstGeom>
          <a:ln w="0">
            <a:noFill/>
          </a:ln>
        </p:spPr>
      </p:pic>
      <p:pic>
        <p:nvPicPr>
          <p:cNvPr id="1320" name="Content Placeholder 5" descr=""/>
          <p:cNvPicPr/>
          <p:nvPr/>
        </p:nvPicPr>
        <p:blipFill>
          <a:blip r:embed="rId2"/>
          <a:stretch/>
        </p:blipFill>
        <p:spPr>
          <a:xfrm>
            <a:off x="1481040" y="4035600"/>
            <a:ext cx="7467840" cy="1719000"/>
          </a:xfrm>
          <a:prstGeom prst="rect">
            <a:avLst/>
          </a:prstGeom>
          <a:ln w="0">
            <a:noFill/>
          </a:ln>
        </p:spPr>
      </p:pic>
      <p:sp>
        <p:nvSpPr>
          <p:cNvPr id="13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22" name="Picture 4" descr="C:\Users\Lenny\Pictures\magnif.glass.jpg"/>
          <p:cNvPicPr/>
          <p:nvPr/>
        </p:nvPicPr>
        <p:blipFill>
          <a:blip r:embed="rId3"/>
          <a:stretch/>
        </p:blipFill>
        <p:spPr>
          <a:xfrm>
            <a:off x="35712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142640" y="214200"/>
            <a:ext cx="7715160" cy="1857600"/>
          </a:xfrm>
          <a:prstGeom prst="rect">
            <a:avLst/>
          </a:prstGeom>
          <a:noFill/>
          <a:ln w="9360">
            <a:solidFill>
              <a:srgbClr val="3891a7"/>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Lucida Sans"/>
              </a:rPr>
              <a:t>Do you have all the information required in your data interpretation &amp; analysis? Do all the paragraphs have the 3 elements?</a:t>
            </a:r>
            <a:endParaRPr b="0" lang="en-US" sz="2800" spc="-1" strike="noStrike">
              <a:solidFill>
                <a:srgbClr val="572314"/>
              </a:solidFill>
              <a:latin typeface="Lucida Sans"/>
            </a:endParaRPr>
          </a:p>
        </p:txBody>
      </p:sp>
      <p:sp>
        <p:nvSpPr>
          <p:cNvPr id="132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pic>
        <p:nvPicPr>
          <p:cNvPr id="1325" name="Title 1" descr=""/>
          <p:cNvPicPr/>
          <p:nvPr/>
        </p:nvPicPr>
        <p:blipFill>
          <a:blip r:embed="rId1"/>
          <a:stretch/>
        </p:blipFill>
        <p:spPr>
          <a:xfrm>
            <a:off x="950760" y="2316240"/>
            <a:ext cx="8083800" cy="1987560"/>
          </a:xfrm>
          <a:prstGeom prst="rect">
            <a:avLst/>
          </a:prstGeom>
          <a:ln w="0">
            <a:noFill/>
          </a:ln>
        </p:spPr>
      </p:pic>
      <p:pic>
        <p:nvPicPr>
          <p:cNvPr id="1326" name="Title 1" descr=""/>
          <p:cNvPicPr/>
          <p:nvPr/>
        </p:nvPicPr>
        <p:blipFill>
          <a:blip r:embed="rId2"/>
          <a:stretch/>
        </p:blipFill>
        <p:spPr>
          <a:xfrm>
            <a:off x="927000" y="4591080"/>
            <a:ext cx="802188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c3d4"/>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2286000" y="2142720"/>
            <a:ext cx="6400800" cy="78588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Lucida Sans"/>
              </a:rPr>
              <a:t>CHAPTER 5</a:t>
            </a:r>
            <a:endParaRPr b="0" lang="en-US" sz="4400" spc="-1" strike="noStrike">
              <a:solidFill>
                <a:srgbClr val="572314"/>
              </a:solidFill>
              <a:latin typeface="Lucida Sans"/>
            </a:endParaRPr>
          </a:p>
        </p:txBody>
      </p:sp>
      <p:sp>
        <p:nvSpPr>
          <p:cNvPr id="1328" name="PlaceHolder 2"/>
          <p:cNvSpPr>
            <a:spLocks noGrp="1"/>
          </p:cNvSpPr>
          <p:nvPr>
            <p:ph/>
          </p:nvPr>
        </p:nvSpPr>
        <p:spPr>
          <a:xfrm>
            <a:off x="2286000" y="2928960"/>
            <a:ext cx="6858000" cy="100008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e04"/>
                </a:solidFill>
                <a:latin typeface="Book Antiqua"/>
              </a:rPr>
              <a:t>Conclusion &amp; Recommendation</a:t>
            </a:r>
            <a:endParaRPr b="0" lang="en-US" sz="3600" spc="-1" strike="noStrike">
              <a:solidFill>
                <a:srgbClr val="000000"/>
              </a:solidFill>
              <a:latin typeface="Book Antiqua"/>
            </a:endParaRPr>
          </a:p>
        </p:txBody>
      </p:sp>
      <p:sp>
        <p:nvSpPr>
          <p:cNvPr id="1329"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Content Placeholder 4" descr=""/>
          <p:cNvPicPr/>
          <p:nvPr/>
        </p:nvPicPr>
        <p:blipFill>
          <a:blip r:embed="rId1"/>
          <a:stretch/>
        </p:blipFill>
        <p:spPr>
          <a:xfrm>
            <a:off x="1420920" y="853920"/>
            <a:ext cx="7576920" cy="5113440"/>
          </a:xfrm>
          <a:prstGeom prst="rect">
            <a:avLst/>
          </a:prstGeom>
          <a:ln w="0">
            <a:noFill/>
          </a:ln>
        </p:spPr>
      </p:pic>
      <p:sp>
        <p:nvSpPr>
          <p:cNvPr id="13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 </a:t>
            </a: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2" name="Picture 4" descr="C:\Users\Lenny\Pictures\magnif.glass.jpg"/>
          <p:cNvPicPr/>
          <p:nvPr/>
        </p:nvPicPr>
        <p:blipFill>
          <a:blip r:embed="rId2"/>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285560" y="-3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95a74"/>
                </a:solidFill>
                <a:latin typeface="Lucida Sans"/>
              </a:rPr>
              <a:t>  </a:t>
            </a:r>
            <a:r>
              <a:rPr b="0" lang="en-US" sz="4300" spc="-1" strike="noStrike">
                <a:solidFill>
                  <a:srgbClr val="495a74"/>
                </a:solidFill>
                <a:latin typeface="Lucida Sans"/>
              </a:rPr>
              <a:t>Conclusion indicates:</a:t>
            </a:r>
            <a:endParaRPr b="0" lang="en-US" sz="4300" spc="-1" strike="noStrike">
              <a:solidFill>
                <a:srgbClr val="572314"/>
              </a:solidFill>
              <a:latin typeface="Lucida Sans"/>
            </a:endParaRPr>
          </a:p>
        </p:txBody>
      </p:sp>
      <p:sp>
        <p:nvSpPr>
          <p:cNvPr id="1334" name=""/>
          <p:cNvSpPr txBox="1"/>
          <p:nvPr/>
        </p:nvSpPr>
        <p:spPr>
          <a:xfrm>
            <a:off x="1000080" y="1447560"/>
            <a:ext cx="793440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8d01"/>
                </a:solidFill>
                <a:latin typeface="Book Antiqua"/>
              </a:rPr>
              <a:t>A summary of findings</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bb9de"/>
                </a:solidFill>
                <a:latin typeface="Book Antiqua"/>
              </a:rPr>
              <a:t>Logical deductions (reasoning) or opinion</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g.</a:t>
            </a:r>
            <a:endParaRPr b="0" lang="en-US" sz="30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Based on the findings, the following conclusions can be made:</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 </a:t>
            </a:r>
            <a:r>
              <a:rPr b="0" lang="en-US" sz="2600" spc="-1" strike="noStrike">
                <a:solidFill>
                  <a:srgbClr val="138677"/>
                </a:solidFill>
                <a:latin typeface="Book Antiqua"/>
              </a:rPr>
              <a:t>Most UMP students </a:t>
            </a:r>
            <a:r>
              <a:rPr b="0" lang="en-US" sz="2600" spc="-1" strike="noStrike">
                <a:solidFill>
                  <a:srgbClr val="c58d01"/>
                </a:solidFill>
                <a:latin typeface="Book Antiqua"/>
              </a:rPr>
              <a:t>prefer to work in small group discussion.</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i. </a:t>
            </a:r>
            <a:r>
              <a:rPr b="0" lang="en-US" sz="2600" spc="-1" strike="noStrike">
                <a:solidFill>
                  <a:srgbClr val="138677"/>
                </a:solidFill>
                <a:latin typeface="Book Antiqua"/>
              </a:rPr>
              <a:t>These students </a:t>
            </a:r>
            <a:r>
              <a:rPr b="0" lang="en-US" sz="2600" spc="-1" strike="noStrike">
                <a:solidFill>
                  <a:srgbClr val="abb9de"/>
                </a:solidFill>
                <a:latin typeface="Book Antiqua"/>
              </a:rPr>
              <a:t>feel that they are able to express their opinions freely in small group discussion.</a:t>
            </a:r>
            <a:endParaRPr b="0" lang="en-US" sz="2600" spc="-1" strike="noStrike">
              <a:solidFill>
                <a:srgbClr val="000000"/>
              </a:solidFill>
              <a:latin typeface="Book Antiqua"/>
            </a:endParaRPr>
          </a:p>
        </p:txBody>
      </p:sp>
      <p:sp>
        <p:nvSpPr>
          <p:cNvPr id="13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6" name="Picture 4" descr="C:\Users\Lenny\Pictures\magnif.glass.jpg"/>
          <p:cNvPicPr/>
          <p:nvPr/>
        </p:nvPicPr>
        <p:blipFill>
          <a:blip r:embed="rId1"/>
          <a:stretch/>
        </p:blipFill>
        <p:spPr>
          <a:xfrm>
            <a:off x="285840" y="21420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000080" y="-360"/>
            <a:ext cx="814392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5a74"/>
                </a:solidFill>
                <a:latin typeface="Lucida Sans"/>
              </a:rPr>
              <a:t>Writing style for recommendations</a:t>
            </a:r>
            <a:endParaRPr b="0" lang="en-US" sz="3600" spc="-1" strike="noStrike">
              <a:solidFill>
                <a:srgbClr val="572314"/>
              </a:solidFill>
              <a:latin typeface="Lucida Sans"/>
            </a:endParaRPr>
          </a:p>
        </p:txBody>
      </p:sp>
      <p:sp>
        <p:nvSpPr>
          <p:cNvPr id="1338" name=""/>
          <p:cNvSpPr txBox="1"/>
          <p:nvPr/>
        </p:nvSpPr>
        <p:spPr>
          <a:xfrm>
            <a:off x="1000080" y="1071360"/>
            <a:ext cx="8143920" cy="2143080"/>
          </a:xfrm>
          <a:prstGeom prst="rect">
            <a:avLst/>
          </a:prstGeom>
          <a:solidFill>
            <a:srgbClr val="e5f6d8"/>
          </a:solidFill>
          <a:ln w="38160">
            <a:solidFill>
              <a:srgbClr val="5fa326"/>
            </a:solidFill>
            <a:miter/>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ample:</a:t>
            </a:r>
            <a:endParaRPr b="0" lang="en-US" sz="3200" spc="-1" strike="noStrike">
              <a:solidFill>
                <a:srgbClr val="000000"/>
              </a:solidFill>
              <a:latin typeface="Book Antiqua"/>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rPr>
              <a:t>In order to reduce the number of accidents</a:t>
            </a:r>
            <a:r>
              <a:rPr b="0" lang="en-US" sz="2800" spc="-1" strike="noStrike">
                <a:solidFill>
                  <a:srgbClr val="000000"/>
                </a:solidFill>
                <a:latin typeface="Book Antiqua"/>
              </a:rPr>
              <a:t>, it is essential that </a:t>
            </a:r>
            <a:r>
              <a:rPr b="0" lang="en-US" sz="2800" spc="-1" strike="noStrike">
                <a:solidFill>
                  <a:srgbClr val="c58d01"/>
                </a:solidFill>
                <a:latin typeface="Book Antiqua"/>
              </a:rPr>
              <a:t>a more stringent law should be drawn to punish reckless road users</a:t>
            </a:r>
            <a:r>
              <a:rPr b="0" lang="en-US" sz="2800" spc="-1" strike="noStrike">
                <a:solidFill>
                  <a:srgbClr val="000000"/>
                </a:solidFill>
                <a:latin typeface="Book Antiqua"/>
              </a:rPr>
              <a:t>.</a:t>
            </a:r>
            <a:endParaRPr b="0" lang="en-US" sz="2800" spc="-1" strike="noStrike">
              <a:solidFill>
                <a:srgbClr val="000000"/>
              </a:solidFill>
              <a:latin typeface="Book Antiqua"/>
            </a:endParaRPr>
          </a:p>
        </p:txBody>
      </p:sp>
      <p:pic>
        <p:nvPicPr>
          <p:cNvPr id="1339" name="Picture 4" descr="C:\Users\Lenny\Pictures\magnif.glass.jpg"/>
          <p:cNvPicPr/>
          <p:nvPr/>
        </p:nvPicPr>
        <p:blipFill>
          <a:blip r:embed="rId1"/>
          <a:stretch/>
        </p:blipFill>
        <p:spPr>
          <a:xfrm>
            <a:off x="285840" y="214200"/>
            <a:ext cx="571320" cy="847800"/>
          </a:xfrm>
          <a:prstGeom prst="rect">
            <a:avLst/>
          </a:prstGeom>
          <a:ln w="0">
            <a:noFill/>
          </a:ln>
        </p:spPr>
      </p:pic>
      <p:sp>
        <p:nvSpPr>
          <p:cNvPr id="1340" name="Rectangle 5"/>
          <p:cNvSpPr/>
          <p:nvPr/>
        </p:nvSpPr>
        <p:spPr>
          <a:xfrm>
            <a:off x="1000080" y="3576600"/>
            <a:ext cx="8143920" cy="1443600"/>
          </a:xfrm>
          <a:prstGeom prst="rect">
            <a:avLst/>
          </a:prstGeom>
          <a:solidFill>
            <a:srgbClr val="fbd0e4"/>
          </a:solidFill>
          <a:ln w="25560">
            <a:solidFill>
              <a:srgbClr val="ea157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first part</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objective, that is the reason or purpose behind an action:</a:t>
            </a:r>
            <a:endParaRPr b="0" lang="en-US" sz="2800" spc="-1" strike="noStrike">
              <a:solidFill>
                <a:srgbClr val="000000"/>
              </a:solidFill>
              <a:latin typeface="Aria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ea typeface="Arial"/>
              </a:rPr>
              <a:t>In order to reduce the number of accidents,</a:t>
            </a:r>
            <a:endParaRPr b="0" lang="en-US" sz="2800" spc="-1" strike="noStrike">
              <a:solidFill>
                <a:srgbClr val="000000"/>
              </a:solidFill>
              <a:latin typeface="Arial"/>
            </a:endParaRPr>
          </a:p>
        </p:txBody>
      </p:sp>
      <p:sp>
        <p:nvSpPr>
          <p:cNvPr id="1341" name="Rectangle 6"/>
          <p:cNvSpPr/>
          <p:nvPr/>
        </p:nvSpPr>
        <p:spPr>
          <a:xfrm>
            <a:off x="1000080" y="5189400"/>
            <a:ext cx="8143920" cy="1800360"/>
          </a:xfrm>
          <a:prstGeom prst="rect">
            <a:avLst/>
          </a:prstGeom>
          <a:solidFill>
            <a:srgbClr val="fff1ce"/>
          </a:solidFill>
          <a:ln w="25560">
            <a:solidFill>
              <a:srgbClr val="feb80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second part- </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recommendation: </a:t>
            </a:r>
            <a:r>
              <a:rPr b="0" lang="en-US" sz="2800" spc="-1" strike="noStrike">
                <a:solidFill>
                  <a:srgbClr val="c58d01"/>
                </a:solidFill>
                <a:latin typeface="Book Antiqua"/>
                <a:ea typeface="Arial"/>
              </a:rPr>
              <a:t>a more stringent law should be drawn to punish reckless road u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071360" y="70920"/>
            <a:ext cx="80722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Lucida Sans"/>
              </a:rPr>
              <a:t>Turn to page 46 of your textbook</a:t>
            </a:r>
            <a:endParaRPr b="0" lang="en-US" sz="3600" spc="-1" strike="noStrike">
              <a:solidFill>
                <a:srgbClr val="572314"/>
              </a:solidFill>
              <a:latin typeface="Lucida Sans"/>
            </a:endParaRPr>
          </a:p>
        </p:txBody>
      </p:sp>
      <p:sp>
        <p:nvSpPr>
          <p:cNvPr id="1343" name=""/>
          <p:cNvSpPr txBox="1"/>
          <p:nvPr/>
        </p:nvSpPr>
        <p:spPr>
          <a:xfrm>
            <a:off x="1000080" y="1142640"/>
            <a:ext cx="8143920" cy="1428840"/>
          </a:xfrm>
          <a:prstGeom prst="rect">
            <a:avLst/>
          </a:prstGeom>
          <a:solidFill>
            <a:srgbClr val="94f0e4"/>
          </a:solidFill>
          <a:ln w="0">
            <a:noFill/>
          </a:ln>
        </p:spPr>
        <p:txBody>
          <a:bodyPr anchor="ctr">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o Exercise 14</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You have 15 minutes</a:t>
            </a:r>
            <a:endParaRPr b="0" lang="en-US" sz="3200" spc="-1" strike="noStrike">
              <a:solidFill>
                <a:srgbClr val="000000"/>
              </a:solidFill>
              <a:latin typeface="Book Antiqua"/>
            </a:endParaRPr>
          </a:p>
        </p:txBody>
      </p:sp>
      <p:sp>
        <p:nvSpPr>
          <p:cNvPr id="134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CMLHS 2009</a:t>
            </a:r>
            <a:endParaRPr b="0" lang="en-US" sz="1200" spc="-1" strike="noStrike">
              <a:solidFill>
                <a:srgbClr val="000000"/>
              </a:solidFill>
              <a:latin typeface="Arial"/>
            </a:endParaRPr>
          </a:p>
        </p:txBody>
      </p:sp>
      <p:pic>
        <p:nvPicPr>
          <p:cNvPr id="1345" name="Content Placeholder 2" descr=""/>
          <p:cNvPicPr/>
          <p:nvPr/>
        </p:nvPicPr>
        <p:blipFill>
          <a:blip r:embed="rId1"/>
          <a:stretch/>
        </p:blipFill>
        <p:spPr>
          <a:xfrm>
            <a:off x="974880" y="2835360"/>
            <a:ext cx="81756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214200" y="1571400"/>
            <a:ext cx="8786880" cy="478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5f688b"/>
                </a:solidFill>
                <a:latin typeface="Georgia"/>
              </a:rPr>
              <a:t>1. </a:t>
            </a:r>
            <a:r>
              <a:rPr b="0" lang="en-MY" sz="3600" spc="-1" strike="noStrike">
                <a:solidFill>
                  <a:srgbClr val="5f688b"/>
                </a:solidFill>
                <a:latin typeface="Georgia"/>
              </a:rPr>
              <a:t>Complete all chapters (1 – 5)</a:t>
            </a:r>
            <a:br>
              <a:rPr sz="3600"/>
            </a:br>
            <a:br>
              <a:rPr sz="3600"/>
            </a:br>
            <a:r>
              <a:rPr b="0" lang="en-MY" sz="3600" spc="-1" strike="noStrike">
                <a:solidFill>
                  <a:srgbClr val="5f688b"/>
                </a:solidFill>
                <a:latin typeface="Georgia"/>
              </a:rPr>
              <a:t>2. Prepare for Presentation (20%)</a:t>
            </a:r>
            <a:br>
              <a:rPr sz="3600"/>
            </a:br>
            <a:br>
              <a:rPr sz="3600"/>
            </a:br>
            <a:r>
              <a:rPr b="0" lang="en-MY" sz="3600" spc="-1" strike="noStrike">
                <a:solidFill>
                  <a:srgbClr val="5f688b"/>
                </a:solidFill>
                <a:latin typeface="Georgia"/>
              </a:rPr>
              <a:t>3. Finalise report based on feedback during the presentation</a:t>
            </a:r>
            <a:br>
              <a:rPr sz="3600"/>
            </a:br>
            <a:br>
              <a:rPr sz="3600"/>
            </a:br>
            <a:r>
              <a:rPr b="0" lang="en-MY" sz="3600" spc="-1" strike="noStrike">
                <a:solidFill>
                  <a:srgbClr val="5f688b"/>
                </a:solidFill>
                <a:latin typeface="Georgia"/>
              </a:rPr>
              <a:t>4. Submit final report (30%)</a:t>
            </a:r>
            <a:br>
              <a:rPr sz="3600"/>
            </a:br>
            <a:endParaRPr b="0" lang="en-US" sz="3600" spc="-1" strike="noStrike">
              <a:solidFill>
                <a:srgbClr val="7b9899"/>
              </a:solidFill>
              <a:latin typeface="Georgia"/>
            </a:endParaRPr>
          </a:p>
        </p:txBody>
      </p:sp>
      <p:pic>
        <p:nvPicPr>
          <p:cNvPr id="1347" name="TextBox 3" descr=""/>
          <p:cNvPicPr/>
          <p:nvPr/>
        </p:nvPicPr>
        <p:blipFill>
          <a:blip r:embed="rId1"/>
          <a:stretch/>
        </p:blipFill>
        <p:spPr>
          <a:xfrm>
            <a:off x="-79200" y="115920"/>
            <a:ext cx="909000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chedule for Presentation</a:t>
            </a:r>
            <a:endParaRPr b="0" lang="en-US" sz="3300" spc="-1" strike="noStrike">
              <a:solidFill>
                <a:srgbClr val="7b9899"/>
              </a:solidFill>
              <a:latin typeface="Georgia"/>
            </a:endParaRPr>
          </a:p>
        </p:txBody>
      </p:sp>
      <p:sp>
        <p:nvSpPr>
          <p:cNvPr id="1349"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Arial"/>
              </a:rPr>
              <a:t>NAR CMLHS 2009</a:t>
            </a:r>
            <a:endParaRPr b="0" lang="en-US" sz="1200" spc="-1" strike="noStrike">
              <a:solidFill>
                <a:srgbClr val="000000"/>
              </a:solidFill>
              <a:latin typeface="Arial"/>
            </a:endParaRPr>
          </a:p>
        </p:txBody>
      </p:sp>
      <p:sp>
        <p:nvSpPr>
          <p:cNvPr id="13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d0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285560" y="2499840"/>
            <a:ext cx="749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66"/>
                </a:solidFill>
                <a:latin typeface="Tw Cen MT"/>
              </a:rPr>
              <a:t>The End</a:t>
            </a:r>
            <a:endParaRPr b="0" lang="en-US" sz="4400" spc="-1" strike="noStrike">
              <a:solidFill>
                <a:srgbClr val="775f55"/>
              </a:solidFill>
              <a:latin typeface="Tw Cen MT"/>
            </a:endParaRPr>
          </a:p>
        </p:txBody>
      </p:sp>
      <p:pic>
        <p:nvPicPr>
          <p:cNvPr id="1352" name="Picture 4" descr="C:\Users\Lenny\Pictures\magnif.glass.jpg"/>
          <p:cNvPicPr/>
          <p:nvPr/>
        </p:nvPicPr>
        <p:blipFill>
          <a:blip r:embed="rId1"/>
          <a:stretch/>
        </p:blipFill>
        <p:spPr>
          <a:xfrm>
            <a:off x="2571840" y="2357280"/>
            <a:ext cx="857160" cy="12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Analysis and Discussion</a:t>
            </a:r>
            <a:endParaRPr b="0" lang="en-US" sz="4300" spc="-1" strike="noStrike">
              <a:solidFill>
                <a:srgbClr val="572314"/>
              </a:solidFill>
              <a:latin typeface="Lucida Sans"/>
            </a:endParaRPr>
          </a:p>
        </p:txBody>
      </p:sp>
      <p:sp>
        <p:nvSpPr>
          <p:cNvPr id="1287" name=""/>
          <p:cNvSpPr txBox="1"/>
          <p:nvPr/>
        </p:nvSpPr>
        <p:spPr>
          <a:xfrm>
            <a:off x="1071360" y="2000160"/>
            <a:ext cx="8072280" cy="4052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iscussed in two separate categories:</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Results: presentation of data/findings</a:t>
            </a:r>
            <a:endParaRPr b="0" lang="en-US" sz="36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Discussion: interpretation of data/findings</a:t>
            </a:r>
            <a:endParaRPr b="0" lang="en-US" sz="3600" spc="-1" strike="noStrike">
              <a:solidFill>
                <a:srgbClr val="000000"/>
              </a:solidFill>
              <a:latin typeface="Book Antiqua"/>
            </a:endParaRPr>
          </a:p>
        </p:txBody>
      </p:sp>
      <p:pic>
        <p:nvPicPr>
          <p:cNvPr id="1288" name="Picture 2" descr="C:\Users\Lenny\Pictures\magnif.glass.jpg"/>
          <p:cNvPicPr/>
          <p:nvPr/>
        </p:nvPicPr>
        <p:blipFill>
          <a:blip r:embed="rId1"/>
          <a:stretch/>
        </p:blipFill>
        <p:spPr>
          <a:xfrm>
            <a:off x="785880" y="214200"/>
            <a:ext cx="809640" cy="1200240"/>
          </a:xfrm>
          <a:prstGeom prst="rect">
            <a:avLst/>
          </a:prstGeom>
          <a:ln w="0">
            <a:noFill/>
          </a:ln>
        </p:spPr>
      </p:pic>
      <p:sp>
        <p:nvSpPr>
          <p:cNvPr id="12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	</a:t>
            </a:r>
            <a:r>
              <a:rPr b="0" lang="en-US" sz="3200" spc="-1" strike="noStrike">
                <a:solidFill>
                  <a:srgbClr val="572314"/>
                </a:solidFill>
                <a:latin typeface="Lucida Sans"/>
              </a:rPr>
              <a:t>Writing style for data analysis</a:t>
            </a:r>
            <a:endParaRPr b="0" lang="en-US" sz="3200" spc="-1" strike="noStrike">
              <a:solidFill>
                <a:srgbClr val="572314"/>
              </a:solidFill>
              <a:latin typeface="Lucida Sans"/>
            </a:endParaRPr>
          </a:p>
        </p:txBody>
      </p:sp>
      <p:pic>
        <p:nvPicPr>
          <p:cNvPr id="1291" name="Content Placeholder 3" descr=""/>
          <p:cNvPicPr/>
          <p:nvPr/>
        </p:nvPicPr>
        <p:blipFill>
          <a:blip r:embed="rId1"/>
          <a:stretch/>
        </p:blipFill>
        <p:spPr>
          <a:xfrm>
            <a:off x="1420920" y="1695600"/>
            <a:ext cx="7527960" cy="4572000"/>
          </a:xfrm>
          <a:prstGeom prst="rect">
            <a:avLst/>
          </a:prstGeom>
          <a:ln w="0">
            <a:noFill/>
          </a:ln>
        </p:spPr>
      </p:pic>
      <p:pic>
        <p:nvPicPr>
          <p:cNvPr id="1292" name="Picture 4" descr="C:\Users\Lenny\Pictures\magnif.glass.jpg"/>
          <p:cNvPicPr/>
          <p:nvPr/>
        </p:nvPicPr>
        <p:blipFill>
          <a:blip r:embed="rId2"/>
          <a:stretch/>
        </p:blipFill>
        <p:spPr>
          <a:xfrm>
            <a:off x="1214280" y="142920"/>
            <a:ext cx="571680" cy="847800"/>
          </a:xfrm>
          <a:prstGeom prst="rect">
            <a:avLst/>
          </a:prstGeom>
          <a:ln w="0">
            <a:noFill/>
          </a:ln>
        </p:spPr>
      </p:pic>
      <p:sp>
        <p:nvSpPr>
          <p:cNvPr id="129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1071360" y="214200"/>
            <a:ext cx="80722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Lucida Sans"/>
              </a:rPr>
              <a:t>Sample illustrations for presenting data collected</a:t>
            </a:r>
            <a:endParaRPr b="0" lang="en-US" sz="2400" spc="-1" strike="noStrike">
              <a:solidFill>
                <a:srgbClr val="572314"/>
              </a:solidFill>
              <a:latin typeface="Lucida Sans"/>
            </a:endParaRPr>
          </a:p>
        </p:txBody>
      </p:sp>
      <p:pic>
        <p:nvPicPr>
          <p:cNvPr id="1295" name="Content Placeholder 7" descr=""/>
          <p:cNvPicPr/>
          <p:nvPr/>
        </p:nvPicPr>
        <p:blipFill>
          <a:blip r:embed="rId1"/>
          <a:stretch/>
        </p:blipFill>
        <p:spPr>
          <a:xfrm>
            <a:off x="1434960" y="1447920"/>
            <a:ext cx="3780000" cy="2195280"/>
          </a:xfrm>
          <a:prstGeom prst="rect">
            <a:avLst/>
          </a:prstGeom>
          <a:ln w="0">
            <a:noFill/>
          </a:ln>
        </p:spPr>
      </p:pic>
      <p:pic>
        <p:nvPicPr>
          <p:cNvPr id="1296" name="Chart 8" descr=""/>
          <p:cNvPicPr/>
          <p:nvPr/>
        </p:nvPicPr>
        <p:blipFill>
          <a:blip r:embed="rId2"/>
          <a:stretch/>
        </p:blipFill>
        <p:spPr>
          <a:xfrm>
            <a:off x="4143240" y="3643200"/>
            <a:ext cx="4191120" cy="2246400"/>
          </a:xfrm>
          <a:prstGeom prst="rect">
            <a:avLst/>
          </a:prstGeom>
          <a:ln w="0">
            <a:noFill/>
          </a:ln>
        </p:spPr>
      </p:pic>
      <p:sp>
        <p:nvSpPr>
          <p:cNvPr id="12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298" name="Picture 4" descr="C:\Users\Lenny\Pictures\magnif.glass.jpg"/>
          <p:cNvPicPr/>
          <p:nvPr/>
        </p:nvPicPr>
        <p:blipFill>
          <a:blip r:embed="rId3"/>
          <a:stretch/>
        </p:blipFill>
        <p:spPr>
          <a:xfrm>
            <a:off x="21420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Content Placeholder 3" descr=""/>
          <p:cNvPicPr/>
          <p:nvPr/>
        </p:nvPicPr>
        <p:blipFill>
          <a:blip r:embed="rId1"/>
          <a:stretch/>
        </p:blipFill>
        <p:spPr>
          <a:xfrm>
            <a:off x="1434960" y="571680"/>
            <a:ext cx="3994200" cy="2786040"/>
          </a:xfrm>
          <a:prstGeom prst="rect">
            <a:avLst/>
          </a:prstGeom>
          <a:ln w="0">
            <a:noFill/>
          </a:ln>
        </p:spPr>
      </p:pic>
      <p:pic>
        <p:nvPicPr>
          <p:cNvPr id="1300" name="Chart 4" descr=""/>
          <p:cNvPicPr/>
          <p:nvPr/>
        </p:nvPicPr>
        <p:blipFill>
          <a:blip r:embed="rId2"/>
          <a:stretch/>
        </p:blipFill>
        <p:spPr>
          <a:xfrm>
            <a:off x="4429080" y="3214800"/>
            <a:ext cx="4334040" cy="2889000"/>
          </a:xfrm>
          <a:prstGeom prst="rect">
            <a:avLst/>
          </a:prstGeom>
          <a:ln w="0">
            <a:noFill/>
          </a:ln>
        </p:spPr>
      </p:pic>
      <p:sp>
        <p:nvSpPr>
          <p:cNvPr id="130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2" name="Picture 4" descr="C:\Users\Lenny\Pictures\magnif.glass.jpg"/>
          <p:cNvPicPr/>
          <p:nvPr/>
        </p:nvPicPr>
        <p:blipFill>
          <a:blip r:embed="rId3"/>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1434960" y="1213920"/>
            <a:ext cx="7499520" cy="453420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 writing a report, ensure that th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nalysis of findings are reported and</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terpreted accurately. Us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rrect language</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pecific vocabulary and register</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30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5" name="Picture 4" descr="C:\Users\Lenny\Pictures\magnif.glass.jpg"/>
          <p:cNvPicPr/>
          <p:nvPr/>
        </p:nvPicPr>
        <p:blipFill>
          <a:blip r:embed="rId1"/>
          <a:stretch/>
        </p:blipFill>
        <p:spPr>
          <a:xfrm>
            <a:off x="1214280" y="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pic>
        <p:nvPicPr>
          <p:cNvPr id="1307" name="Picture 5" descr=""/>
          <p:cNvPicPr/>
          <p:nvPr/>
        </p:nvPicPr>
        <p:blipFill>
          <a:blip r:embed="rId1"/>
          <a:stretch/>
        </p:blipFill>
        <p:spPr>
          <a:xfrm>
            <a:off x="1122480" y="974880"/>
            <a:ext cx="7899120" cy="5333760"/>
          </a:xfrm>
          <a:prstGeom prst="rect">
            <a:avLst/>
          </a:prstGeom>
          <a:ln w="0">
            <a:noFill/>
          </a:ln>
        </p:spPr>
      </p:pic>
      <p:sp>
        <p:nvSpPr>
          <p:cNvPr id="13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9" name="Picture 4" descr="C:\Users\Lenny\Pictures\magnif.glass.jpg"/>
          <p:cNvPicPr/>
          <p:nvPr/>
        </p:nvPicPr>
        <p:blipFill>
          <a:blip r:embed="rId2"/>
          <a:stretch/>
        </p:blipFill>
        <p:spPr>
          <a:xfrm>
            <a:off x="142920" y="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sp>
        <p:nvSpPr>
          <p:cNvPr id="13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2" name="Picture 4" descr="C:\Users\Lenny\Pictures\magnif.glass.jpg"/>
          <p:cNvPicPr/>
          <p:nvPr/>
        </p:nvPicPr>
        <p:blipFill>
          <a:blip r:embed="rId1"/>
          <a:stretch/>
        </p:blipFill>
        <p:spPr>
          <a:xfrm>
            <a:off x="142920" y="0"/>
            <a:ext cx="571320" cy="847800"/>
          </a:xfrm>
          <a:prstGeom prst="rect">
            <a:avLst/>
          </a:prstGeom>
          <a:ln w="0">
            <a:noFill/>
          </a:ln>
        </p:spPr>
      </p:pic>
      <p:sp>
        <p:nvSpPr>
          <p:cNvPr id="1313" name="Rectangle 6"/>
          <p:cNvSpPr/>
          <p:nvPr/>
        </p:nvSpPr>
        <p:spPr>
          <a:xfrm>
            <a:off x="1000080" y="1000080"/>
            <a:ext cx="7858080" cy="5580360"/>
          </a:xfrm>
          <a:prstGeom prst="rect">
            <a:avLst/>
          </a:prstGeom>
          <a:noFill/>
          <a:ln w="0">
            <a:noFill/>
          </a:ln>
        </p:spPr>
        <p:style>
          <a:lnRef idx="0"/>
          <a:fillRef idx="0"/>
          <a:effectRef idx="0"/>
          <a:fontRef idx="minor"/>
        </p:style>
        <p:txBody>
          <a:bodyPr lIns="90000" rIns="90000" tIns="46800" bIns="46800" anchor="t">
            <a:sp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Book Antiqua"/>
              </a:rPr>
              <a:t>The graph illustrates the size of urban population in six cities in the United Kingdom. </a:t>
            </a:r>
            <a:r>
              <a:rPr b="0" lang="en-US" sz="2400" spc="-1" strike="noStrike">
                <a:solidFill>
                  <a:srgbClr val="ff0000"/>
                </a:solidFill>
                <a:latin typeface="Book Antiqua"/>
              </a:rPr>
              <a:t>According to the graph, London has the highest population whereas Liverpool has the lowest population. London embodies 6.8 millions people while Birmingham and Manchester embodies about 2.1 millions people each. 1.7 millions people reside in Leeds, and in Newcastle and Liverpool, there are about 1.5 million people. </a:t>
            </a:r>
            <a:r>
              <a:rPr b="0" lang="en-US" sz="2400" spc="-1" strike="noStrike">
                <a:solidFill>
                  <a:srgbClr val="00b050"/>
                </a:solidFill>
                <a:latin typeface="Book Antiqua"/>
              </a:rPr>
              <a:t>The graph shows that in London alone the population is similar to the total population of the other five cities. It can be concluded that its strategic location in Europe, standard of living and job opportunities are among the factors that have driven many people around the world to reside in Lond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1285560" y="1500120"/>
            <a:ext cx="7499160" cy="4748400"/>
          </a:xfrm>
          <a:prstGeom prst="rect">
            <a:avLst/>
          </a:prstGeom>
          <a:noFill/>
          <a:ln w="0">
            <a:noFill/>
          </a:ln>
        </p:spPr>
        <p:txBody>
          <a:bodyPr anchor="t">
            <a:normAutofit fontScale="97000"/>
          </a:bodyPr>
          <a:p>
            <a:pPr marL="353880" indent="-273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Book Antiqua"/>
              </a:rPr>
              <a:t>In the analysis, the first sentence explains </a:t>
            </a:r>
            <a:r>
              <a:rPr b="0" i="1" lang="en-US" sz="3200" spc="-1" strike="noStrike">
                <a:solidFill>
                  <a:srgbClr val="00b0f0"/>
                </a:solidFill>
                <a:latin typeface="Book Antiqua"/>
              </a:rPr>
              <a:t>what the graph shows or illustrates. </a:t>
            </a:r>
            <a:r>
              <a:rPr b="0" lang="en-US" sz="3200" spc="-1" strike="noStrike">
                <a:solidFill>
                  <a:srgbClr val="ff0000"/>
                </a:solidFill>
                <a:latin typeface="Book Antiqua"/>
              </a:rPr>
              <a:t>This is followed by </a:t>
            </a:r>
            <a:r>
              <a:rPr b="0" i="1" lang="en-US" sz="3200" spc="-1" strike="noStrike">
                <a:solidFill>
                  <a:srgbClr val="ff0000"/>
                </a:solidFill>
                <a:latin typeface="Book Antiqua"/>
              </a:rPr>
              <a:t>a general statement of the trend</a:t>
            </a:r>
            <a:r>
              <a:rPr b="0" lang="en-US" sz="3200" spc="-1" strike="noStrike">
                <a:solidFill>
                  <a:srgbClr val="ff0000"/>
                </a:solidFill>
                <a:latin typeface="Book Antiqua"/>
              </a:rPr>
              <a:t> observed regarding the population. This point is supported by the next few sentences which </a:t>
            </a:r>
            <a:r>
              <a:rPr b="0" i="1" lang="en-US" sz="3200" spc="-1" strike="noStrike">
                <a:solidFill>
                  <a:srgbClr val="ff0000"/>
                </a:solidFill>
                <a:latin typeface="Book Antiqua"/>
              </a:rPr>
              <a:t>provide the statistical support. </a:t>
            </a:r>
            <a:r>
              <a:rPr b="0" lang="en-US" sz="3200" spc="-1" strike="noStrike">
                <a:solidFill>
                  <a:srgbClr val="00b050"/>
                </a:solidFill>
                <a:latin typeface="Book Antiqua"/>
              </a:rPr>
              <a:t>The last part draws </a:t>
            </a:r>
            <a:r>
              <a:rPr b="0" i="1" lang="en-US" sz="3200" spc="-1" strike="noStrike">
                <a:solidFill>
                  <a:srgbClr val="00b050"/>
                </a:solidFill>
                <a:latin typeface="Book Antiqua"/>
              </a:rPr>
              <a:t>a conclusion based on the analysis.</a:t>
            </a:r>
            <a:endParaRPr b="0" lang="en-US" sz="3200" spc="-1" strike="noStrike">
              <a:solidFill>
                <a:srgbClr val="000000"/>
              </a:solidFill>
              <a:latin typeface="Book Antiqua"/>
            </a:endParaRPr>
          </a:p>
        </p:txBody>
      </p:sp>
      <p:sp>
        <p:nvSpPr>
          <p:cNvPr id="131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6" name="Picture 4" descr="C:\Users\Lenny\Pictures\magnif.glass.jpg"/>
          <p:cNvPicPr/>
          <p:nvPr/>
        </p:nvPicPr>
        <p:blipFill>
          <a:blip r:embed="rId1"/>
          <a:stretch/>
        </p:blipFill>
        <p:spPr>
          <a:xfrm>
            <a:off x="214200" y="214200"/>
            <a:ext cx="571680" cy="847800"/>
          </a:xfrm>
          <a:prstGeom prst="rect">
            <a:avLst/>
          </a:prstGeom>
          <a:ln w="0">
            <a:noFill/>
          </a:ln>
        </p:spPr>
      </p:pic>
      <p:sp>
        <p:nvSpPr>
          <p:cNvPr id="1317"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The 3 elements you must have:</a:t>
            </a:r>
            <a:endParaRPr b="0" lang="en-US" sz="3200" spc="-1" strike="noStrike">
              <a:solidFill>
                <a:srgbClr val="57231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06:56:11Z</dcterms:created>
  <dc:creator>Lenny</dc:creator>
  <dc:description/>
  <dc:language>en-US</dc:language>
  <cp:lastModifiedBy>242ump</cp:lastModifiedBy>
  <dcterms:modified xsi:type="dcterms:W3CDTF">2010-03-24T03:53:23Z</dcterms:modified>
  <cp:revision>41</cp:revision>
  <dc:subject/>
  <dc:title>Unit 3 Findings and Discussion</dc:title>
</cp:coreProperties>
</file>