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3.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6" name="PlaceHolder 2"/>
          <p:cNvSpPr>
            <a:spLocks noGrp="1"/>
          </p:cNvSpPr>
          <p:nvPr>
            <p:ph type="dt" idx="8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move the slide</a:t>
            </a:r>
            <a:endParaRPr b="0" lang="en-US" sz="4300" spc="-1" strike="noStrike">
              <a:solidFill>
                <a:srgbClr val="572314"/>
              </a:solidFill>
              <a:latin typeface="Lucida Sans"/>
            </a:endParaRPr>
          </a:p>
        </p:txBody>
      </p:sp>
      <p:sp>
        <p:nvSpPr>
          <p:cNvPr id="12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9" name="PlaceHolder 5"/>
          <p:cNvSpPr>
            <a:spLocks noGrp="1"/>
          </p:cNvSpPr>
          <p:nvPr>
            <p:ph type="ftr" idx="8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0" name="PlaceHolder 6"/>
          <p:cNvSpPr>
            <a:spLocks noGrp="1"/>
          </p:cNvSpPr>
          <p:nvPr>
            <p:ph type="sldNum" idx="8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D489-6C4F-4115-8BE6-494A6FED6962}" type="slidenum">
              <a:rPr b="0" lang="en-MY"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AFC9-159C-4CBB-A98F-630938821D82}"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80491-DCFE-4361-82E9-78F984EC8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1C8C-30B4-4590-B5CF-C6FE331D7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287928-4BC0-4645-94FD-57E6B2B176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3B9DF2-D93F-4232-AFF9-5995FB387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E76F4D-84F7-4BF3-B045-35FEBA4366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E5D1AF-477C-4A33-890A-37F05585D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1E637-8607-46D6-A5FE-9E0267F28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F8396-67C5-4684-9A5E-3C8CA7232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73A86B-0F7E-4CFA-ADF1-BC3D997487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CA2F0A-5142-4D45-BA29-4333F5BAA2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395F98-695C-4C6F-9B00-2B77916E8B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4D54D9-C2BF-49EB-9DCF-854751293E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5DFB7-FF54-477B-BB6C-CA6AC3798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EB6247-D465-492B-A77D-D5F7635139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314DBE-DF37-4626-BF1A-E7B429B72B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570974-3769-4555-80E1-B2F15EA09D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8FE485-C95C-45BF-935B-5FB9CBCB8A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F97636-65C4-41F6-96C6-FCD8C04F1F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A16F10-70ED-4260-88EF-53743B1E6D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275F4D-5502-4646-AB18-EE4E55C0CF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7DE8A0-B848-4C72-B1D9-00DF303C50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5089A1-5670-4964-A2BE-CCF72321D6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D84FA7-C5F4-47D8-8010-2223030A22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64B3C-133F-452D-863E-051851C7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063685-C128-42BE-87B2-98A75104C1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9ED542C-512F-4E6A-B6A8-29CD183353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E36669A-6F04-4D34-BE08-186D3D907C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1445E26-EB79-4450-BFE7-C020C10488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136F80A-54E0-4127-BF69-D5C40E3610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8A44573-4F55-4542-850F-30B8098738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F6127A87-596E-4D80-811D-91B4D5DA64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6E9B947-F373-461B-9DC5-BB582388E6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C10A80E-E149-406C-B770-D65DC5E24A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19F92AE-9154-4AA6-BE2A-1F1C8103BF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12EF1-732E-43DC-9F42-45004D8BA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C643966-1297-4C15-AD6E-1D2CD579E0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84E6B91A-29F1-47AF-AA9E-D2E4336102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139B39B-E0AF-4CB5-81C7-D6D5C11C65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236583BA-6919-4196-B364-1A1D51F204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EDEAA53-247D-4904-A155-0693EF091F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0EF1317-9E3B-4DF1-8294-453FAF5C68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7EE75A6-C2BD-4FBF-B686-DD8D77F4E7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4DB92C56-2030-4A3B-A195-EDCF20C627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425BC7FB-6AAF-4673-AEDD-599AC8C03C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1DB162B-CBC3-4C59-8486-56E574A4BC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9CE67-5F6E-4F78-AE41-BD87DFB9E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57694CD-578B-47AB-B45A-D48EAB9B15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09BEA01-6973-4AD8-AE96-0B8DC37803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B1E40FC-AD76-47DF-B24F-09A67A63DA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A577B42-76D6-4D49-9E8F-238B696971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95F39DB4-A0B0-46D1-B1E3-0B2DE9E080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F507CC7D-7B0A-438E-90B7-82CD9D016C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6DD98E8D-CAB1-44EF-8563-4F92480835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4DD6BFE6-AEE0-4030-90E6-71615ACE2D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6FAB35D-A7F3-4908-B748-C9C90C9B65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E4921D6-8FCF-4CA6-9945-00070B763B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DBA5C-964F-46A0-ABA9-543B2A2D0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9C344AD-4697-4FC4-9D6C-D3966DC63A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74875C9-F6EC-46D7-9F29-C0359ED6BB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0D1FA48-855E-40EB-AD96-35AFD397C9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23EF0BC-41C5-4E1A-BE27-C57CE61FD3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3457D6B4-66E2-4CD8-BD6B-CF4E874AFA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8B1C32A9-8ADA-4622-9A6E-6AAEF40329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C9844D26-E7BE-4370-9651-032EBB26323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4EDAB5-6300-4F23-A1E8-A5380BCFC6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D679B9-2C7E-4DC7-86EF-EC3F039348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2C1C1D-BA7F-4DE9-8A0C-34A57C3543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A41D3-B853-4180-AC2C-0B3A3F058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0FF240-0114-42A7-B660-31DB31C782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239E6A-DB97-4618-98B3-99701C2A14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BA3875-8665-4440-A5B7-B9B551D95B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CC23A8-80CF-4CA1-A6ED-34D20D9018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FB8C44-D2A6-4A0C-B49D-0EAAA93ACF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2005F5-D66A-46E1-A224-C8EBF34EF5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6FB948-E84E-4425-8248-106468D364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1E2CCF9-BD7F-4EE1-BAF9-521FADA161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5323DF8-60B1-4549-A8D2-C964CD232E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0B614B4-84BF-4B07-8313-117430F4486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04FF3-2B78-4F07-B8DE-3C5659AC4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3EE96DEC-9963-40B9-81F7-C1CBD7F856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CB9B4A1D-1A9A-409B-BFE2-0ED291FD91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E74BD02-37AE-4847-9BA5-C6F8F3E65F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CD7DC575-04BD-4FC1-BFCF-BB4A00426EC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3661F89-1719-45F6-BD62-AD74FC5790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37E82B90-01F4-4C7F-BC8A-B337D1C0F2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D345C6A-65B0-4652-B0BA-3FF01B2083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51E2FBA-0BB6-4BED-BBD8-D5FD643E3A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CDD7447A-1974-4BBA-AAC7-9EC686591A9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92E2C513-75A7-40CB-9986-1536394CD39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DDA30-24BC-4287-B69F-A8405E26F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77115834-8F0A-4183-9009-4F6C5D953C7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A49557B-730B-479D-8DE1-A210E66CD47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CA3163-C0DC-4B80-A1DE-55A506C15D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1017B8-3005-4924-9FFB-4D87BA6FE3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4AEEDF-3BC7-43AA-BAEF-4B72E27DF3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B4AAB5-1C66-466B-9D18-0A86034DF78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EBF23E-8710-4487-8C06-BCF9F29442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BAD4E0-C8F8-419C-AE60-7A06CEC5E7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68A210-F5FB-4C4A-A187-36BFA8669E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81A47B-B78A-48FA-A8B6-B99AD5DB00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77A88-BDF9-4A92-8CD5-A6FD14098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95DAA0-6655-42FD-9DF6-72D69A7A64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103ABEE-C65F-4714-A0B2-F40D2ED5977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80591B-EC6E-418C-8871-1CCC7E0444E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17E0FE-DA5B-4DEB-8BA8-A6518BF110A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77491D-25EC-4227-9743-0A820E7E63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D3064D-A7EC-4E41-B53B-B107B85BDD6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78F99B8-03A9-40CD-AA77-F0292F8D09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5C3E1C-3CAE-41B3-B15D-C33D20A28F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C739F7C-79AB-4E49-900E-74CC8A397CF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6CFCA2-6836-4123-A953-1FBA85F1A1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358D8-2FC7-4DCC-82CC-A49585581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D7A2D-46C4-481B-A7CA-92DE3C612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269B16-F4BF-4885-BEFD-73438373EA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519A59-9C4D-41DD-ADE6-874340EFAB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FA62D83-6672-4117-839B-B53E3FF0D8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AE5B7B6-5253-4315-8D4E-68F4632E989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066A11E-49C7-40A0-95AE-AD2F9684B5C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6B83AA3-22D9-4404-8C0B-C349486880C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5C694BC-7F24-4BAE-AE3C-41A27A3A41E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7520B4D-C4EE-4570-949A-27862F14D9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4A42737-97E2-4005-ABB7-A512E41E1A9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A3DEC1-39A9-4707-8223-806B6D140A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1FBFD-0580-4687-BEF1-B736637AA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3994D3-99D7-40EE-BFF3-9F7A30DDEE0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EBB6E0-9CFC-45D6-AA72-0174CC88F5C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C8DCEC-17A7-4CCB-A10A-B46EC263208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07AB0A-0E6C-4BCB-9D2E-E268F1FC447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0892E10-742D-48B3-B337-CEA4036F1D8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1BEA309-14E4-4FA6-A42C-71C08A193D0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6440805-695C-4C38-A307-BDA32AC38AC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7"/>
          </p:nvPr>
        </p:nvSpPr>
        <p:spPr/>
        <p:txBody>
          <a:bodyPr/>
          <a:p>
            <a:fld id="{199AFE09-5586-431B-90BF-C40EDE993A7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A43F075C-D734-445E-986C-4BCAF2A5D0E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FAAA6DBD-561B-4046-88BF-FC8D9D10813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55FF9-54D2-4C2E-A9BE-C186503B7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CBEAE4BC-3EDA-4E1A-99E3-C42E1F7BA3A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0040B058-CE69-4FA5-B729-E35AB4F95F9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70B05A8A-0E4C-4ED8-88AC-29500C4CFFC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D98CABCA-341D-466A-979C-687C99EE077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7A43524B-2F80-4C73-9F9F-3B836E127DF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518F9EED-84A0-4944-9E38-6DE621C8A58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927CEAB3-E456-4CB3-AAC1-E3A16CE03E9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7"/>
          </p:nvPr>
        </p:nvSpPr>
        <p:spPr/>
        <p:txBody>
          <a:bodyPr/>
          <a:p>
            <a:fld id="{C466B52C-3F99-4AA0-82D4-BA1A1D2FB67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7"/>
          </p:nvPr>
        </p:nvSpPr>
        <p:spPr/>
        <p:txBody>
          <a:bodyPr/>
          <a:p>
            <a:fld id="{E56E720A-ADD7-4FC2-A958-10E49991E56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39416BD-EC27-44E4-A38F-8C91A9850B8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BD755-B15D-4342-B942-1F9552939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9F43870-C118-4DA1-B524-AB4E7A836F8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B62171-7EAB-4DBB-A6C1-C222ED4CD1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3D45BD7-D9B4-48BF-8283-5DF1340457C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C5DABBD-88FF-420E-8CFB-AC34C89C983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7302B9A-6634-478C-B82E-D6E99A8F069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3B6A8D-BF6C-4C25-A689-521DDD64A96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C026330-9998-43AA-8660-A929674D830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6AF3BC-A9F2-4A89-966E-E88F6D841F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6C9311B-4920-46A5-8BB5-1A1452B6C86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953BA68-32A8-45F0-9596-DA8F61E832C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EA7B2-05C6-4BDA-BF07-44A9EA8C4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52F5567-23EE-4590-9649-ECA514D5B1D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A9A8575-F773-4986-9810-49AB2354005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6EDDA93-47FB-4570-A65E-C266BA9E6D6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63FDF88-F974-4BD6-9EC4-DBD27F99DB4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2C32946-A94A-4384-9BA9-DA04014727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BBAF908-8407-4D50-811E-8D53B22B7B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30E38EA-DB2B-4A3E-8E21-E72F417BFE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CF97CD8-4B4C-492D-B84B-86B8A22636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12D9201-B118-4D61-B991-29947AF777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F17F1E7-97F8-4FE1-8DE9-86A5E84F7DA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CCAD26-6B52-411F-8187-0D092B047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A83ED3D-3B29-4467-B467-E2753CF753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7224808-0B20-4BE5-ADC5-4B41D2AAAE3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9D675B2-66C8-430E-BC68-5A12B30BAB2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AC4284B-3B9F-4005-A69E-E1709474496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56607A3-56C0-4660-9FC1-B68C9FB063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043FE5F-7B7D-4074-A530-11836AAA8D8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6E7BB01-C361-4BF0-BB2F-CD254095A3A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60548D-0F18-44D2-AF4C-C46BFADABFC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4385FD-1442-4366-80DD-AF5BDBE7655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42E37FA-3516-4EB5-904A-775F93FE0D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D07FE-DA31-4282-87F1-5A94A072D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15F5709-E7F2-4A8D-AC2B-7089CF046E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A83FACB-B4EE-499C-B419-569C3167992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F7AC8C5-9620-4660-8645-737902F934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1B6AB3D-89CD-45D8-B81A-3B8C44B49F9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58F4656-F7BE-49DE-9C32-14B8AF6DEE1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A46D3AF-A537-4B9E-9F43-72885A834DF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FECCF5-3238-4F45-9634-20BD22E7FB5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50D09AE-0E46-4981-8D6D-1C9BDD2DC7B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5E1DDEB-0739-4E6B-A815-54741AD5A3F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D8E0335-BA49-47E8-94E7-E3987A883D7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81BA0-79FA-434F-A74B-E10C8A04F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EFBCC89-3D38-4828-AF29-55290A78E03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EB2ED3-D12F-42BC-A472-13E9E518BC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1D982F4-83F4-43FC-8330-A5D8802EA1D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9D4111-5E5B-4F09-9E51-8A384F6842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2B5632C-5DF0-428E-A342-76D831B85E9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D72AF0C-3E91-44D4-8E95-B0A8C392816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AD35381-05E5-48E9-9C18-E711828E1DE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FBFECB6D-732A-4ADD-9DCE-A20D25E950C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EC8ED9CE-3965-4E27-99F6-9D5B1E88895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EE3AA094-2C67-4EAD-9171-54E979CFC3E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0C97B-B0CA-4FDC-9D3A-EC41C7E87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6315B6FD-3B72-4B83-8F61-8E8AE1E9ACC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89E88957-8E75-4341-8BAB-FD1713AFA49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5332DEBB-542B-4081-B506-3B68AC85944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A436EFB-00E1-4A59-BF34-8E83DBD286E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5B164C24-B093-440E-8ED4-A4A91845740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E9FB9240-F073-4456-B7E1-A0FF4431F4F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907C3048-1146-45D2-B72C-38109C74A8B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7A29E19D-7747-442B-8A9A-22BD6E9510BD}"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AA57D73C-9A53-4BCD-BF59-6439DD0CE4E7}"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C6094A9B-3079-4E30-9436-A830D64001E1}"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7FF263-4AB9-480B-B032-2CD8871B9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8E723DDA-7D25-4CBD-B97E-C01E64B18884}"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42F00DC6-ECD0-40BE-9C77-968A692C8D3C}"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86E6875D-0731-4EF3-ABFB-AA81AB97418A}"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93F554CC-8269-4037-80C6-FDBF028F463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8D555551-6CB1-4316-92D6-50BEC365FD6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85F6BB3A-F4BA-4F19-B3DB-3D5524128526}"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E43832C0-FF55-4E34-8BF4-8EDF8E5E286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8445E301-98B1-4CE7-B41B-8791B92E5C2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A7AC07F1-8BFF-4691-8FFA-F6807EF42BC3}"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B8643641-0BE8-47EA-92B5-231DF966A93E}"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BA23-1F0A-4E0B-9D23-6335FB9EC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4CFA1-FD63-44DC-8421-A75632C2C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8E5A503E-FD41-4925-BAC1-A4C1518C5059}"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2C9E574-1FA0-4675-866A-61D70C1BCFF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A9E6E83-D02D-4B5A-9163-AF6BDAC508D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2D3419C-17C4-4583-A6E8-352495F397F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1B6DB9A-E25E-4229-9D69-B2D215287ED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4041595-C7D3-4DF6-9F33-B2B3BD47AEB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F4256C2-21F3-4DFD-BAEE-13D1916D1FB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9D8A8EF-1172-4730-A210-996F7EF375B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39FDBA4-2C4A-4A59-A1D9-B43FA65F09F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40EE5E0-3F66-48BA-BFF1-2E069A26C8E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2A295-4CD1-4848-8EA5-D09DFD3A5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6CE223E-16C5-4421-AEDB-67955035856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F43E2E9-7B2A-4DD0-995A-3EB737C08F8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F7F3B1A-97A0-4A41-972E-24AAF8FE242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BCFC48B8-129E-449A-A16E-2B4791D9F3C8}"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B10607CE-E076-4498-AF6D-F0DD1F2A9FD3}"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D2334767-18F4-42F2-AAAD-A8906FAD0BEA}"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F017C975-D5FD-40A8-894D-1086B7B72D8A}"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3BF6534D-9E03-4AC9-8090-448C80E66049}"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47281923-C001-4114-8F22-48535891CA63}"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C73E0358-014B-402E-892A-1FAE3E73C4A7}"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DB461-30A1-498C-BE12-070BECADD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4EC97E88-0D1F-4A5C-BF3A-B6DF52A8BFF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14EB2E73-AC93-4750-B1D6-BD1B324F0CBB}"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BAA17483-ACE3-47C7-9E3C-FCAE9A62A4E9}"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02E8B46D-2E59-43E4-864A-BE254EAB126F}"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53731ABE-163A-4320-8A3C-7F3D9D8C8103}"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C97F7-AF85-4DD5-915F-8CF386F5E5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85E4F-EB76-4E81-A3EB-2CC4B77B1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4DC329-B572-44D6-A573-CAC7D78AA1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527BC-2282-4D9A-B017-87FA0FB064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8F33B-A976-4664-8C71-84AC9BCF86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7E744-D4B3-4396-B76C-BDFDC9E3F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785C2-EC85-4EFF-9708-4D1D73053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6C6F7-B997-4381-B45F-5D723EF89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C80AE-435E-465D-A958-E87220E75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7AC1D3-263F-4D3F-AA9F-D6E36C154B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E4684-3AC6-4366-A2F5-C231738B2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711E8-02B7-4B34-B882-CEBB90390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CA1EA-CF2D-4640-9E9A-A3B5D660F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E70BA-8C54-4018-994F-33CF0D5C1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3F2F7-E333-4698-AE3F-DBFC254F73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032E6-49CD-4E3D-9230-944297C707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4E278-43EA-4542-B84C-0550CAB727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E6703A-D57C-41B6-A6A1-4007B7B1F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7469-D9C1-41EA-8E82-36416E787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3AC6A-39B3-42C6-9B09-59B5BF82D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979001-6113-4812-B5B9-8826A0C44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82B8B-300A-4CF6-B2B1-C5DF997A5C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CAA2D-0DCE-4D9C-851A-1F9E7D265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34951-A1D4-4713-B5E1-5EB3FA627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25A9B-69B4-4424-9352-E0EE8907E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0BBEE-C4B2-4EAF-A2BD-80F46D942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97E0D-9C95-4A80-8D43-95B8A8AFB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580A39-8851-4644-A9DE-B9969C9B0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B7E889-1856-4476-B793-CEC6E57FFD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48808-3BCB-46BA-8470-02EC4DEA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29F5A3-1143-4C26-B443-F82A5B486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6C1631-3138-4318-8C49-9A044AD2D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A2B56F-45A3-4B18-8DBC-9813C384E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9F8F0-6155-4640-AB27-1B073A927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EF1C0-6EFE-4501-BA02-3DBD20842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C12207-9197-4172-B308-F7414832F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C16A59-56C0-423F-ABC7-187ACCB251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6FF447-C13A-4D16-9F71-584991FAA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AA95C-8A79-4326-9591-EDF90BCD1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35681-472D-4B2E-B542-AF001CF20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CBDD5-A97D-491B-81BC-BE8BF2D5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B9ECFE-C3B2-4C92-B745-5B8746AC2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60F444-DCB0-4C6D-92E9-EDC18A9DE4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ACA0C5-FAFA-424D-AA5F-BB0E55DC64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29280C-EF3A-4377-AC49-08129513C9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9AAD5-0AC3-4C96-ACC2-A3F4D0FA4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49E3B4-E334-4204-88E0-41F59C12E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BDA3D-43FF-4160-82BC-006FCB2EA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C72F8-D060-49A9-BB8D-FE7CD059B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F3123-AEFF-423A-A39F-73A6CCEEA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2D07EF-AB69-4B0D-B6EA-1CE796C99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4BD5-BC22-48C3-8778-EBA129CF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5902D-0300-4C28-A4B6-CCBCC2DA7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749110-B3BD-45A6-A341-1645BAB35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0E7DC7-6F52-4BA5-A645-D6697F2E1F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15DFC3-6321-418A-9A54-4804A33CEC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D957C2-3083-4E38-9987-A67A48618A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33B3B6-3012-4D8D-A3D0-618DA2E4A8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39C985-FBBB-421C-B1E6-DA55979885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B5904-B63E-4DB8-B8A8-57CDEDA426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B41DD-3F74-48F2-B8F7-52C94A459B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38116-C4D7-4CED-9A72-8C35EE5F5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0AEC-4C8F-4B2E-B72C-99D8E77C6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C66F8-48CC-4E91-99CF-D3E9FF096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18F16-62A5-44B9-B9BA-D53BBEFCC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B8F8FB-7AEE-4B96-AC3F-DB8422118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F5E40-72FA-4A68-A5C2-DFBFC478C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DB23E-2F5C-490C-BCDC-0F0015BFE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9A32CA-A9AD-4F30-9385-29CA54EABA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976D78-F794-46DE-A729-627DD52CB9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4669B0-2A6D-468D-9ED8-5CF4A53680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2AD73E-734B-4F3A-B3A8-D5271EFB9E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AF888B-014E-411C-A6B6-8BB8C12E1F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E0B7-F562-44C6-9B4D-E6B64CD4A69D}"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BAB1-79AA-4625-9F5D-9EA0219D0890}"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12"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17"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B97B-8803-4938-8C69-BC39ED95A70A}" type="datetime">
              <a:rPr b="0" lang="en-US" sz="2000" spc="-1" strike="noStrike">
                <a:solidFill>
                  <a:srgbClr val="ffffff"/>
                </a:solidFill>
                <a:latin typeface="Times New Roman"/>
              </a:rPr>
              <a:t>07/29/26</a:t>
            </a:fld>
            <a:endParaRPr b="0" lang="en-US" sz="2000" spc="-1" strike="noStrike">
              <a:solidFill>
                <a:srgbClr val="000000"/>
              </a:solidFill>
              <a:latin typeface="Times New Roman"/>
            </a:endParaRPr>
          </a:p>
        </p:txBody>
      </p:sp>
      <p:sp>
        <p:nvSpPr>
          <p:cNvPr id="418"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ebddc3"/>
                </a:solidFill>
                <a:latin typeface="Times New Roman"/>
              </a:rPr>
              <a:t>NAR CMLHS 2009</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B0B0-6285-492F-A908-D89C822C4C9B}" type="slidenum">
              <a:rPr b="1" lang="en-MY"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1"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9837-AEAB-4A4E-9E7F-EECA5F3FA82D}"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462"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FB9D-C0BD-4AD4-A1AC-9433BECDE3A4}" type="slidenum">
              <a:rPr b="1"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63"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5"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2280-8111-4B8A-B5B7-E2BC005A66EA}"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06"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3D9B-97BB-48DE-85A0-359D141C8054}"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49"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A744-6E25-442A-852B-3C136265FDDB}"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50"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91ED-FCBC-4A7B-B42F-4C69031E910D}"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8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90"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B5B0-19EA-4C44-B2A8-525AC3204C69}"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91"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92"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270B-BA69-4904-87F6-FA66C791A682}" type="slidenum">
              <a:rPr b="1" lang="en-MY"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35"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6CA7-A74A-47A3-B67A-286A25574A43}"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636"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05CA-07FF-4666-BCE7-77C1389DF8CC}" type="slidenum">
              <a:rPr b="1" lang="en-MY"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637"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79"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D629-F037-48FE-8CC1-D18A68341D82}"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680"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681"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9B65-2EA1-4A49-A0C5-ABD071BA6C7C}"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2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29"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3950-A222-40B9-B588-87BFD5233A43}"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730"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31"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058E-DEAA-4D19-AF04-098503D422CA}"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7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79"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BD76-C76C-43B2-8CB4-C50D0D6F4F57}"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81" name="PlaceHolder 5"/>
          <p:cNvSpPr>
            <a:spLocks noGrp="1"/>
          </p:cNvSpPr>
          <p:nvPr>
            <p:ph type="sldNum" idx="54"/>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B2C9-323D-440F-A213-3B895B695F6B}"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31" name="PlaceHolder 3"/>
          <p:cNvSpPr>
            <a:spLocks noGrp="1"/>
          </p:cNvSpPr>
          <p:nvPr>
            <p:ph type="ftr" idx="5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32" name="PlaceHolder 4"/>
          <p:cNvSpPr>
            <a:spLocks noGrp="1"/>
          </p:cNvSpPr>
          <p:nvPr>
            <p:ph type="dt" idx="5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4171-3B5E-41A4-9242-D50C9E7B28C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33"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30E5-CA9A-4DAA-8A67-2B6BE34F0D64}"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A2E5-E28B-4FAB-BCFE-0EA28DB7AF25}"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981C-D47C-423D-9CCE-CA01A50AB8EB}"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8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82" name="PlaceHolder 3"/>
          <p:cNvSpPr>
            <a:spLocks noGrp="1"/>
          </p:cNvSpPr>
          <p:nvPr>
            <p:ph type="dt" idx="58"/>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F635-4C3A-450B-861E-408B31C276F1}"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8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84" name="PlaceHolder 5"/>
          <p:cNvSpPr>
            <a:spLocks noGrp="1"/>
          </p:cNvSpPr>
          <p:nvPr>
            <p:ph type="sldNum" idx="60"/>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F3E8-7672-45B8-BFF6-A624297C5632}"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21"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3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4"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A6E5-7B41-46CC-A9A8-3AEA76CAE476}"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35" name="PlaceHolder 4"/>
          <p:cNvSpPr>
            <a:spLocks noGrp="1"/>
          </p:cNvSpPr>
          <p:nvPr>
            <p:ph type="ftr" idx="62"/>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36" name="PlaceHolder 5"/>
          <p:cNvSpPr>
            <a:spLocks noGrp="1"/>
          </p:cNvSpPr>
          <p:nvPr>
            <p:ph type="sldNum" idx="63"/>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25C7-9678-4951-B1E1-2DE35ACCFE51}"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84" name="PlaceHolder 3"/>
          <p:cNvSpPr>
            <a:spLocks noGrp="1"/>
          </p:cNvSpPr>
          <p:nvPr>
            <p:ph type="dt" idx="6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7E04-9702-4539-B60D-F44E22275640}"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85"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86" name="PlaceHolder 5"/>
          <p:cNvSpPr>
            <a:spLocks noGrp="1"/>
          </p:cNvSpPr>
          <p:nvPr>
            <p:ph type="sldNum" idx="66"/>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C1BE-059D-47F3-ACB3-A1B7CFE38A0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31"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DADA-C273-40E1-995B-0D8D9BE871B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032"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033" name="PlaceHolder 5"/>
          <p:cNvSpPr>
            <a:spLocks noGrp="1"/>
          </p:cNvSpPr>
          <p:nvPr>
            <p:ph type="sldNum" idx="69"/>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495E-09D1-47C6-8EF2-1D08743DC055}"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8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3" name="PlaceHolder 3"/>
          <p:cNvSpPr>
            <a:spLocks noGrp="1"/>
          </p:cNvSpPr>
          <p:nvPr>
            <p:ph type="sldNum" idx="70"/>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F780-31E8-4C40-9F37-706E85B48CC1}"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84"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9854-556D-44B5-8A15-6ADCE0435F9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085" name="PlaceHolder 5"/>
          <p:cNvSpPr>
            <a:spLocks noGrp="1"/>
          </p:cNvSpPr>
          <p:nvPr>
            <p:ph type="ftr" idx="72"/>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5" name="PlaceHolder 3"/>
          <p:cNvSpPr>
            <a:spLocks noGrp="1"/>
          </p:cNvSpPr>
          <p:nvPr>
            <p:ph type="sldNum" idx="73"/>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4181-22A5-49BF-84C1-BF2D21F6B322}"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136" name="PlaceHolder 4"/>
          <p:cNvSpPr>
            <a:spLocks noGrp="1"/>
          </p:cNvSpPr>
          <p:nvPr>
            <p:ph type="dt" idx="74"/>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9CFD-41EE-4772-B31B-065F0750DD01}"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37" name="PlaceHolder 5"/>
          <p:cNvSpPr>
            <a:spLocks noGrp="1"/>
          </p:cNvSpPr>
          <p:nvPr>
            <p:ph type="ftr" idx="75"/>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7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8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85" name="PlaceHolder 3"/>
          <p:cNvSpPr>
            <a:spLocks noGrp="1"/>
          </p:cNvSpPr>
          <p:nvPr>
            <p:ph type="dt" idx="7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0CEB-7404-4543-903A-F06831E1108D}"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86" name="PlaceHolder 4"/>
          <p:cNvSpPr>
            <a:spLocks noGrp="1"/>
          </p:cNvSpPr>
          <p:nvPr>
            <p:ph type="ftr" idx="77"/>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187" name="PlaceHolder 5"/>
          <p:cNvSpPr>
            <a:spLocks noGrp="1"/>
          </p:cNvSpPr>
          <p:nvPr>
            <p:ph type="sldNum" idx="7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EC2C-5D6F-46FF-8D6E-862A363EA33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2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35" name="PlaceHolder 3"/>
          <p:cNvSpPr>
            <a:spLocks noGrp="1"/>
          </p:cNvSpPr>
          <p:nvPr>
            <p:ph type="sldNum" idx="79"/>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D2EC-08E6-4CF8-9832-53AF023802F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36" name="PlaceHolder 4"/>
          <p:cNvSpPr>
            <a:spLocks noGrp="1"/>
          </p:cNvSpPr>
          <p:nvPr>
            <p:ph type="dt" idx="8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7C8C-807D-41BE-8D48-50D0DF78D51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237" name="PlaceHolder 5"/>
          <p:cNvSpPr>
            <a:spLocks noGrp="1"/>
          </p:cNvSpPr>
          <p:nvPr>
            <p:ph type="ftr" idx="81"/>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C4FE-788D-4461-BBEF-766751C67566}"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8"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3CC4-2B5F-465A-810E-9D40A8281B82}"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4"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5"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Donut 10"/>
          <p:cNvGrpSpPr/>
          <p:nvPr/>
        </p:nvGrpSpPr>
        <p:grpSpPr>
          <a:xfrm>
            <a:off x="165240" y="1036800"/>
            <a:ext cx="1170000" cy="1170000"/>
            <a:chOff x="165240" y="1036800"/>
            <a:chExt cx="1170000" cy="1170000"/>
          </a:xfrm>
        </p:grpSpPr>
        <p:pic>
          <p:nvPicPr>
            <p:cNvPr id="145" name="Donut 10" descr=""/>
            <p:cNvPicPr/>
            <p:nvPr/>
          </p:nvPicPr>
          <p:blipFill>
            <a:blip r:embed="rId3"/>
            <a:stretch/>
          </p:blipFill>
          <p:spPr>
            <a:xfrm>
              <a:off x="165240" y="1036800"/>
              <a:ext cx="1170000" cy="1170000"/>
            </a:xfrm>
            <a:prstGeom prst="rect">
              <a:avLst/>
            </a:prstGeom>
            <a:ln w="0">
              <a:noFill/>
            </a:ln>
          </p:spPr>
        </p:pic>
        <p:sp>
          <p:nvSpPr>
            <p:cNvPr id="1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Oval 12"/>
          <p:cNvGrpSpPr/>
          <p:nvPr/>
        </p:nvGrpSpPr>
        <p:grpSpPr>
          <a:xfrm>
            <a:off x="914400" y="1407960"/>
            <a:ext cx="231840" cy="225720"/>
            <a:chOff x="914400" y="1407960"/>
            <a:chExt cx="231840" cy="225720"/>
          </a:xfrm>
        </p:grpSpPr>
        <p:pic>
          <p:nvPicPr>
            <p:cNvPr id="150" name="Oval 12" descr=""/>
            <p:cNvPicPr/>
            <p:nvPr/>
          </p:nvPicPr>
          <p:blipFill>
            <a:blip r:embed="rId4"/>
            <a:stretch/>
          </p:blipFill>
          <p:spPr>
            <a:xfrm>
              <a:off x="914400" y="1407960"/>
              <a:ext cx="231840" cy="225720"/>
            </a:xfrm>
            <a:prstGeom prst="rect">
              <a:avLst/>
            </a:prstGeom>
            <a:ln w="0">
              <a:noFill/>
            </a:ln>
          </p:spPr>
        </p:pic>
        <p:sp>
          <p:nvSpPr>
            <p:cNvPr id="1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1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5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53A9-45FD-4050-8F4A-E788CEDF2809}"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5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95E2-EA6E-4599-85AE-AD8F4AB3F4B7}"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Oval 15"/>
          <p:cNvGrpSpPr/>
          <p:nvPr/>
        </p:nvGrpSpPr>
        <p:grpSpPr>
          <a:xfrm>
            <a:off x="2163600" y="2809800"/>
            <a:ext cx="231840" cy="225360"/>
            <a:chOff x="2163600" y="2809800"/>
            <a:chExt cx="231840" cy="225360"/>
          </a:xfrm>
        </p:grpSpPr>
        <p:pic>
          <p:nvPicPr>
            <p:cNvPr id="197" name="Oval 15" descr=""/>
            <p:cNvPicPr/>
            <p:nvPr/>
          </p:nvPicPr>
          <p:blipFill>
            <a:blip r:embed="rId3"/>
            <a:stretch/>
          </p:blipFill>
          <p:spPr>
            <a:xfrm>
              <a:off x="2163600" y="2809800"/>
              <a:ext cx="231840" cy="225360"/>
            </a:xfrm>
            <a:prstGeom prst="rect">
              <a:avLst/>
            </a:prstGeom>
            <a:ln w="0">
              <a:noFill/>
            </a:ln>
          </p:spPr>
        </p:pic>
        <p:sp>
          <p:nvSpPr>
            <p:cNvPr id="19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0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8339-0FD6-4402-8F26-A3AA39DCB0C3}"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0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6D6E-4654-4CCE-A77F-1784432E2443}"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4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9060-2061-46C1-A5DE-6D2CB74AD59A}"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4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4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C9B9-3759-4038-BC6F-AEA13066517B}"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DAC1-A126-403D-B091-AFBB826D3EE3}"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4725-C618-4425-87DB-F21A932098A9}"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5FD2-1B94-4352-B870-F7C41B0B3B90}"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3C1D-E10E-423C-9472-77F7FC5EA127}"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6" name="Rectangle 12"/>
          <p:cNvGrpSpPr/>
          <p:nvPr/>
        </p:nvGrpSpPr>
        <p:grpSpPr>
          <a:xfrm>
            <a:off x="646200" y="969840"/>
            <a:ext cx="4803840" cy="4802400"/>
            <a:chOff x="646200" y="969840"/>
            <a:chExt cx="4803840" cy="4802400"/>
          </a:xfrm>
        </p:grpSpPr>
        <p:pic>
          <p:nvPicPr>
            <p:cNvPr id="367" name="Rectangle 12" descr=""/>
            <p:cNvPicPr/>
            <p:nvPr/>
          </p:nvPicPr>
          <p:blipFill>
            <a:blip r:embed="rId3"/>
            <a:stretch/>
          </p:blipFill>
          <p:spPr>
            <a:xfrm>
              <a:off x="646200" y="969840"/>
              <a:ext cx="4803840" cy="4802400"/>
            </a:xfrm>
            <a:prstGeom prst="rect">
              <a:avLst/>
            </a:prstGeom>
            <a:ln w="0">
              <a:noFill/>
            </a:ln>
          </p:spPr>
        </p:pic>
        <p:sp>
          <p:nvSpPr>
            <p:cNvPr id="36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73"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0008-D1E0-45F8-8EDD-77FAF33F4522}"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374"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75"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DEF4-D29C-47D0-93E8-DAED57DE4CB3}"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431720" y="360000"/>
            <a:ext cx="7407000" cy="19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hapter 4</a:t>
            </a:r>
            <a:br>
              <a:rPr sz="4300"/>
            </a:br>
            <a:r>
              <a:rPr b="0" lang="en-US" sz="4300" spc="-1" strike="noStrike">
                <a:solidFill>
                  <a:srgbClr val="572314"/>
                </a:solidFill>
                <a:latin typeface="Lucida Sans"/>
              </a:rPr>
              <a:t>Findings and Discussion</a:t>
            </a:r>
            <a:endParaRPr b="0" lang="en-US" sz="4300" spc="-1" strike="noStrike">
              <a:solidFill>
                <a:srgbClr val="572314"/>
              </a:solidFill>
              <a:latin typeface="Lucida Sans"/>
            </a:endParaRPr>
          </a:p>
        </p:txBody>
      </p:sp>
      <p:sp>
        <p:nvSpPr>
          <p:cNvPr id="1282" name="PlaceHolder 2"/>
          <p:cNvSpPr>
            <a:spLocks noGrp="1"/>
          </p:cNvSpPr>
          <p:nvPr>
            <p:ph type="subTitle"/>
          </p:nvPr>
        </p:nvSpPr>
        <p:spPr>
          <a:xfrm>
            <a:off x="1428840" y="3143160"/>
            <a:ext cx="7407360" cy="2643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Book Antiqua"/>
              </a:rPr>
              <a:t>By the end of this unit, students will be able to:</a:t>
            </a:r>
            <a:endParaRPr b="0" lang="en-US" sz="26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alyse data to be reported in finding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Formulate results based on data analysi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Support results and findings with evidence from secondary sources.</a:t>
            </a:r>
            <a:endParaRPr b="0" lang="en-US" sz="2800" spc="-1" strike="noStrike">
              <a:solidFill>
                <a:srgbClr val="000000"/>
              </a:solidFill>
              <a:latin typeface="Book Antiqu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283" name="Picture 2" descr="C:\Users\Lenny\Pictures\magnif.glass.jpg"/>
          <p:cNvPicPr/>
          <p:nvPr/>
        </p:nvPicPr>
        <p:blipFill>
          <a:blip r:embed="rId1"/>
          <a:stretch/>
        </p:blipFill>
        <p:spPr>
          <a:xfrm>
            <a:off x="2143080" y="428760"/>
            <a:ext cx="809640" cy="1199880"/>
          </a:xfrm>
          <a:prstGeom prst="rect">
            <a:avLst/>
          </a:prstGeom>
          <a:ln w="0">
            <a:noFill/>
          </a:ln>
        </p:spPr>
      </p:pic>
      <p:pic>
        <p:nvPicPr>
          <p:cNvPr id="1284" name="Picture 3" descr="C:\Users\Lenny\Pictures\ppl disc..jpg"/>
          <p:cNvPicPr/>
          <p:nvPr/>
        </p:nvPicPr>
        <p:blipFill>
          <a:blip r:embed="rId2"/>
          <a:stretch/>
        </p:blipFill>
        <p:spPr>
          <a:xfrm>
            <a:off x="7143840" y="357120"/>
            <a:ext cx="981000" cy="1238400"/>
          </a:xfrm>
          <a:prstGeom prst="rect">
            <a:avLst/>
          </a:prstGeom>
          <a:ln w="0">
            <a:noFill/>
          </a:ln>
        </p:spPr>
      </p:pic>
      <p:sp>
        <p:nvSpPr>
          <p:cNvPr id="12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Some specific register for data analysis</a:t>
            </a:r>
            <a:endParaRPr b="0" lang="en-US" sz="3200" spc="-1" strike="noStrike">
              <a:solidFill>
                <a:srgbClr val="572314"/>
              </a:solidFill>
              <a:latin typeface="Lucida Sans"/>
            </a:endParaRPr>
          </a:p>
        </p:txBody>
      </p:sp>
      <p:pic>
        <p:nvPicPr>
          <p:cNvPr id="1319" name="Content Placeholder 5" descr=""/>
          <p:cNvPicPr/>
          <p:nvPr/>
        </p:nvPicPr>
        <p:blipFill>
          <a:blip r:embed="rId1"/>
          <a:stretch/>
        </p:blipFill>
        <p:spPr>
          <a:xfrm>
            <a:off x="1414440" y="1627200"/>
            <a:ext cx="7467480" cy="2408400"/>
          </a:xfrm>
          <a:prstGeom prst="rect">
            <a:avLst/>
          </a:prstGeom>
          <a:ln w="0">
            <a:noFill/>
          </a:ln>
        </p:spPr>
      </p:pic>
      <p:pic>
        <p:nvPicPr>
          <p:cNvPr id="1320" name="Content Placeholder 5" descr=""/>
          <p:cNvPicPr/>
          <p:nvPr/>
        </p:nvPicPr>
        <p:blipFill>
          <a:blip r:embed="rId2"/>
          <a:stretch/>
        </p:blipFill>
        <p:spPr>
          <a:xfrm>
            <a:off x="1481040" y="4035600"/>
            <a:ext cx="7467840" cy="1719000"/>
          </a:xfrm>
          <a:prstGeom prst="rect">
            <a:avLst/>
          </a:prstGeom>
          <a:ln w="0">
            <a:noFill/>
          </a:ln>
        </p:spPr>
      </p:pic>
      <p:sp>
        <p:nvSpPr>
          <p:cNvPr id="13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22" name="Picture 4" descr="C:\Users\Lenny\Pictures\magnif.glass.jpg"/>
          <p:cNvPicPr/>
          <p:nvPr/>
        </p:nvPicPr>
        <p:blipFill>
          <a:blip r:embed="rId3"/>
          <a:stretch/>
        </p:blipFill>
        <p:spPr>
          <a:xfrm>
            <a:off x="35712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142640" y="214200"/>
            <a:ext cx="7715160" cy="1857600"/>
          </a:xfrm>
          <a:prstGeom prst="rect">
            <a:avLst/>
          </a:prstGeom>
          <a:noFill/>
          <a:ln w="9360">
            <a:solidFill>
              <a:srgbClr val="3891a7"/>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Lucida Sans"/>
              </a:rPr>
              <a:t>Do you have all the information required in your data interpretation &amp; analysis? Do all the paragraphs have the 3 elements?</a:t>
            </a:r>
            <a:endParaRPr b="0" lang="en-US" sz="2800" spc="-1" strike="noStrike">
              <a:solidFill>
                <a:srgbClr val="572314"/>
              </a:solidFill>
              <a:latin typeface="Lucida Sans"/>
            </a:endParaRPr>
          </a:p>
        </p:txBody>
      </p:sp>
      <p:sp>
        <p:nvSpPr>
          <p:cNvPr id="132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pic>
        <p:nvPicPr>
          <p:cNvPr id="1325" name="Title 1" descr=""/>
          <p:cNvPicPr/>
          <p:nvPr/>
        </p:nvPicPr>
        <p:blipFill>
          <a:blip r:embed="rId1"/>
          <a:stretch/>
        </p:blipFill>
        <p:spPr>
          <a:xfrm>
            <a:off x="950760" y="2316240"/>
            <a:ext cx="8083800" cy="1987560"/>
          </a:xfrm>
          <a:prstGeom prst="rect">
            <a:avLst/>
          </a:prstGeom>
          <a:ln w="0">
            <a:noFill/>
          </a:ln>
        </p:spPr>
      </p:pic>
      <p:pic>
        <p:nvPicPr>
          <p:cNvPr id="1326" name="Title 1" descr=""/>
          <p:cNvPicPr/>
          <p:nvPr/>
        </p:nvPicPr>
        <p:blipFill>
          <a:blip r:embed="rId2"/>
          <a:stretch/>
        </p:blipFill>
        <p:spPr>
          <a:xfrm>
            <a:off x="927000" y="4591080"/>
            <a:ext cx="802188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c3d4"/>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0" y="2142720"/>
            <a:ext cx="6400800" cy="78588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Lucida Sans"/>
              </a:rPr>
              <a:t>CHAPTER 5</a:t>
            </a:r>
            <a:endParaRPr b="0" lang="en-US" sz="4400" spc="-1" strike="noStrike">
              <a:solidFill>
                <a:srgbClr val="572314"/>
              </a:solidFill>
              <a:latin typeface="Lucida Sans"/>
            </a:endParaRPr>
          </a:p>
        </p:txBody>
      </p:sp>
      <p:sp>
        <p:nvSpPr>
          <p:cNvPr id="1328" name="PlaceHolder 2"/>
          <p:cNvSpPr>
            <a:spLocks noGrp="1"/>
          </p:cNvSpPr>
          <p:nvPr>
            <p:ph/>
          </p:nvPr>
        </p:nvSpPr>
        <p:spPr>
          <a:xfrm>
            <a:off x="2286000" y="2928960"/>
            <a:ext cx="6858000" cy="100008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e04"/>
                </a:solidFill>
                <a:latin typeface="Book Antiqua"/>
              </a:rPr>
              <a:t>Conclusion &amp; Recommendation</a:t>
            </a:r>
            <a:endParaRPr b="0" lang="en-US" sz="3600" spc="-1" strike="noStrike">
              <a:solidFill>
                <a:srgbClr val="000000"/>
              </a:solidFill>
              <a:latin typeface="Book Antiqua"/>
            </a:endParaRPr>
          </a:p>
        </p:txBody>
      </p:sp>
      <p:sp>
        <p:nvSpPr>
          <p:cNvPr id="132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Content Placeholder 4" descr=""/>
          <p:cNvPicPr/>
          <p:nvPr/>
        </p:nvPicPr>
        <p:blipFill>
          <a:blip r:embed="rId1"/>
          <a:stretch/>
        </p:blipFill>
        <p:spPr>
          <a:xfrm>
            <a:off x="1420920" y="853920"/>
            <a:ext cx="7576920" cy="5113440"/>
          </a:xfrm>
          <a:prstGeom prst="rect">
            <a:avLst/>
          </a:prstGeom>
          <a:ln w="0">
            <a:noFill/>
          </a:ln>
        </p:spPr>
      </p:pic>
      <p:sp>
        <p:nvSpPr>
          <p:cNvPr id="13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 </a:t>
            </a: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2" name="Picture 4" descr="C:\Users\Lenny\Pictures\magnif.glass.jpg"/>
          <p:cNvPicPr/>
          <p:nvPr/>
        </p:nvPicPr>
        <p:blipFill>
          <a:blip r:embed="rId2"/>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285560" y="-3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95a74"/>
                </a:solidFill>
                <a:latin typeface="Lucida Sans"/>
              </a:rPr>
              <a:t>  </a:t>
            </a:r>
            <a:r>
              <a:rPr b="0" lang="en-US" sz="4300" spc="-1" strike="noStrike">
                <a:solidFill>
                  <a:srgbClr val="495a74"/>
                </a:solidFill>
                <a:latin typeface="Lucida Sans"/>
              </a:rPr>
              <a:t>Conclusion indicates:</a:t>
            </a:r>
            <a:endParaRPr b="0" lang="en-US" sz="4300" spc="-1" strike="noStrike">
              <a:solidFill>
                <a:srgbClr val="572314"/>
              </a:solidFill>
              <a:latin typeface="Lucida Sans"/>
            </a:endParaRPr>
          </a:p>
        </p:txBody>
      </p:sp>
      <p:sp>
        <p:nvSpPr>
          <p:cNvPr id="1334" name=""/>
          <p:cNvSpPr txBox="1"/>
          <p:nvPr/>
        </p:nvSpPr>
        <p:spPr>
          <a:xfrm>
            <a:off x="1000080" y="1447560"/>
            <a:ext cx="793440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8d01"/>
                </a:solidFill>
                <a:latin typeface="Book Antiqua"/>
              </a:rPr>
              <a:t>A summary of findings</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bb9de"/>
                </a:solidFill>
                <a:latin typeface="Book Antiqua"/>
              </a:rPr>
              <a:t>Logical deductions (reasoning) or opinion</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g.</a:t>
            </a:r>
            <a:endParaRPr b="0" lang="en-US" sz="30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Based on the findings, the following conclusions can be made:</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 </a:t>
            </a:r>
            <a:r>
              <a:rPr b="0" lang="en-US" sz="2600" spc="-1" strike="noStrike">
                <a:solidFill>
                  <a:srgbClr val="138677"/>
                </a:solidFill>
                <a:latin typeface="Book Antiqua"/>
              </a:rPr>
              <a:t>Most UMP students </a:t>
            </a:r>
            <a:r>
              <a:rPr b="0" lang="en-US" sz="2600" spc="-1" strike="noStrike">
                <a:solidFill>
                  <a:srgbClr val="c58d01"/>
                </a:solidFill>
                <a:latin typeface="Book Antiqua"/>
              </a:rPr>
              <a:t>prefer to work in small group discussion.</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i. </a:t>
            </a:r>
            <a:r>
              <a:rPr b="0" lang="en-US" sz="2600" spc="-1" strike="noStrike">
                <a:solidFill>
                  <a:srgbClr val="138677"/>
                </a:solidFill>
                <a:latin typeface="Book Antiqua"/>
              </a:rPr>
              <a:t>These students </a:t>
            </a:r>
            <a:r>
              <a:rPr b="0" lang="en-US" sz="2600" spc="-1" strike="noStrike">
                <a:solidFill>
                  <a:srgbClr val="abb9de"/>
                </a:solidFill>
                <a:latin typeface="Book Antiqua"/>
              </a:rPr>
              <a:t>feel that they are able to express their opinions freely in small group discussion.</a:t>
            </a:r>
            <a:endParaRPr b="0" lang="en-US" sz="2600" spc="-1" strike="noStrike">
              <a:solidFill>
                <a:srgbClr val="000000"/>
              </a:solidFill>
              <a:latin typeface="Book Antiqua"/>
            </a:endParaRPr>
          </a:p>
        </p:txBody>
      </p:sp>
      <p:sp>
        <p:nvSpPr>
          <p:cNvPr id="13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6" name="Picture 4" descr="C:\Users\Lenny\Pictures\magnif.glass.jpg"/>
          <p:cNvPicPr/>
          <p:nvPr/>
        </p:nvPicPr>
        <p:blipFill>
          <a:blip r:embed="rId1"/>
          <a:stretch/>
        </p:blipFill>
        <p:spPr>
          <a:xfrm>
            <a:off x="285840" y="21420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000080" y="-360"/>
            <a:ext cx="814392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5a74"/>
                </a:solidFill>
                <a:latin typeface="Lucida Sans"/>
              </a:rPr>
              <a:t>Writing style for recommendations</a:t>
            </a:r>
            <a:endParaRPr b="0" lang="en-US" sz="3600" spc="-1" strike="noStrike">
              <a:solidFill>
                <a:srgbClr val="572314"/>
              </a:solidFill>
              <a:latin typeface="Lucida Sans"/>
            </a:endParaRPr>
          </a:p>
        </p:txBody>
      </p:sp>
      <p:sp>
        <p:nvSpPr>
          <p:cNvPr id="1338" name=""/>
          <p:cNvSpPr txBox="1"/>
          <p:nvPr/>
        </p:nvSpPr>
        <p:spPr>
          <a:xfrm>
            <a:off x="1000080" y="1071360"/>
            <a:ext cx="8143920" cy="2143080"/>
          </a:xfrm>
          <a:prstGeom prst="rect">
            <a:avLst/>
          </a:prstGeom>
          <a:solidFill>
            <a:srgbClr val="e5f6d8"/>
          </a:solidFill>
          <a:ln w="38160">
            <a:solidFill>
              <a:srgbClr val="5fa326"/>
            </a:solidFill>
            <a:miter/>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ample:</a:t>
            </a:r>
            <a:endParaRPr b="0" lang="en-US" sz="3200" spc="-1" strike="noStrike">
              <a:solidFill>
                <a:srgbClr val="000000"/>
              </a:solidFill>
              <a:latin typeface="Book Antiqua"/>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rPr>
              <a:t>In order to reduce the number of accidents</a:t>
            </a:r>
            <a:r>
              <a:rPr b="0" lang="en-US" sz="2800" spc="-1" strike="noStrike">
                <a:solidFill>
                  <a:srgbClr val="000000"/>
                </a:solidFill>
                <a:latin typeface="Book Antiqua"/>
              </a:rPr>
              <a:t>, it is essential that </a:t>
            </a:r>
            <a:r>
              <a:rPr b="0" lang="en-US" sz="2800" spc="-1" strike="noStrike">
                <a:solidFill>
                  <a:srgbClr val="c58d01"/>
                </a:solidFill>
                <a:latin typeface="Book Antiqua"/>
              </a:rPr>
              <a:t>a more stringent law should be drawn to punish reckless road users</a:t>
            </a:r>
            <a:r>
              <a:rPr b="0" lang="en-US" sz="2800" spc="-1" strike="noStrike">
                <a:solidFill>
                  <a:srgbClr val="000000"/>
                </a:solidFill>
                <a:latin typeface="Book Antiqua"/>
              </a:rPr>
              <a:t>.</a:t>
            </a:r>
            <a:endParaRPr b="0" lang="en-US" sz="2800" spc="-1" strike="noStrike">
              <a:solidFill>
                <a:srgbClr val="000000"/>
              </a:solidFill>
              <a:latin typeface="Book Antiqua"/>
            </a:endParaRPr>
          </a:p>
        </p:txBody>
      </p:sp>
      <p:pic>
        <p:nvPicPr>
          <p:cNvPr id="1339" name="Picture 4" descr="C:\Users\Lenny\Pictures\magnif.glass.jpg"/>
          <p:cNvPicPr/>
          <p:nvPr/>
        </p:nvPicPr>
        <p:blipFill>
          <a:blip r:embed="rId1"/>
          <a:stretch/>
        </p:blipFill>
        <p:spPr>
          <a:xfrm>
            <a:off x="285840" y="214200"/>
            <a:ext cx="571320" cy="847800"/>
          </a:xfrm>
          <a:prstGeom prst="rect">
            <a:avLst/>
          </a:prstGeom>
          <a:ln w="0">
            <a:noFill/>
          </a:ln>
        </p:spPr>
      </p:pic>
      <p:sp>
        <p:nvSpPr>
          <p:cNvPr id="1340" name="Rectangle 5"/>
          <p:cNvSpPr/>
          <p:nvPr/>
        </p:nvSpPr>
        <p:spPr>
          <a:xfrm>
            <a:off x="1000080" y="3576600"/>
            <a:ext cx="8143920" cy="1443600"/>
          </a:xfrm>
          <a:prstGeom prst="rect">
            <a:avLst/>
          </a:prstGeom>
          <a:solidFill>
            <a:srgbClr val="fbd0e4"/>
          </a:solidFill>
          <a:ln w="25560">
            <a:solidFill>
              <a:srgbClr val="ea157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first part</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objective, that is the reason or purpose behind an action:</a:t>
            </a:r>
            <a:endParaRPr b="0" lang="en-US" sz="2800" spc="-1" strike="noStrike">
              <a:solidFill>
                <a:srgbClr val="000000"/>
              </a:solidFill>
              <a:latin typeface="Aria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ea typeface="Arial"/>
              </a:rPr>
              <a:t>In order to reduce the number of accidents,</a:t>
            </a:r>
            <a:endParaRPr b="0" lang="en-US" sz="2800" spc="-1" strike="noStrike">
              <a:solidFill>
                <a:srgbClr val="000000"/>
              </a:solidFill>
              <a:latin typeface="Arial"/>
            </a:endParaRPr>
          </a:p>
        </p:txBody>
      </p:sp>
      <p:sp>
        <p:nvSpPr>
          <p:cNvPr id="1341" name="Rectangle 6"/>
          <p:cNvSpPr/>
          <p:nvPr/>
        </p:nvSpPr>
        <p:spPr>
          <a:xfrm>
            <a:off x="1000080" y="5189400"/>
            <a:ext cx="8143920" cy="1800360"/>
          </a:xfrm>
          <a:prstGeom prst="rect">
            <a:avLst/>
          </a:prstGeom>
          <a:solidFill>
            <a:srgbClr val="fff1ce"/>
          </a:solidFill>
          <a:ln w="25560">
            <a:solidFill>
              <a:srgbClr val="feb80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second part- </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recommendation: </a:t>
            </a:r>
            <a:r>
              <a:rPr b="0" lang="en-US" sz="2800" spc="-1" strike="noStrike">
                <a:solidFill>
                  <a:srgbClr val="c58d01"/>
                </a:solidFill>
                <a:latin typeface="Book Antiqua"/>
                <a:ea typeface="Arial"/>
              </a:rPr>
              <a:t>a more stringent law should be drawn to punish reckless road 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071360" y="70920"/>
            <a:ext cx="80722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Lucida Sans"/>
              </a:rPr>
              <a:t>Turn to page 46 of your textbook</a:t>
            </a:r>
            <a:endParaRPr b="0" lang="en-US" sz="3600" spc="-1" strike="noStrike">
              <a:solidFill>
                <a:srgbClr val="572314"/>
              </a:solidFill>
              <a:latin typeface="Lucida Sans"/>
            </a:endParaRPr>
          </a:p>
        </p:txBody>
      </p:sp>
      <p:sp>
        <p:nvSpPr>
          <p:cNvPr id="1343" name=""/>
          <p:cNvSpPr txBox="1"/>
          <p:nvPr/>
        </p:nvSpPr>
        <p:spPr>
          <a:xfrm>
            <a:off x="1000080" y="1142640"/>
            <a:ext cx="8143920" cy="1428840"/>
          </a:xfrm>
          <a:prstGeom prst="rect">
            <a:avLst/>
          </a:prstGeom>
          <a:solidFill>
            <a:srgbClr val="94f0e4"/>
          </a:solidFill>
          <a:ln w="0">
            <a:noFill/>
          </a:ln>
        </p:spPr>
        <p:txBody>
          <a:bodyPr anchor="ctr">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 Exercise 14</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You have 15 minutes</a:t>
            </a:r>
            <a:endParaRPr b="0" lang="en-US" sz="3200" spc="-1" strike="noStrike">
              <a:solidFill>
                <a:srgbClr val="000000"/>
              </a:solidFill>
              <a:latin typeface="Book Antiqua"/>
            </a:endParaRPr>
          </a:p>
        </p:txBody>
      </p:sp>
      <p:sp>
        <p:nvSpPr>
          <p:cNvPr id="134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CMLHS 2009</a:t>
            </a:r>
            <a:endParaRPr b="0" lang="en-US" sz="1200" spc="-1" strike="noStrike">
              <a:solidFill>
                <a:srgbClr val="000000"/>
              </a:solidFill>
              <a:latin typeface="Arial"/>
            </a:endParaRPr>
          </a:p>
        </p:txBody>
      </p:sp>
      <p:pic>
        <p:nvPicPr>
          <p:cNvPr id="1345" name="Content Placeholder 2" descr=""/>
          <p:cNvPicPr/>
          <p:nvPr/>
        </p:nvPicPr>
        <p:blipFill>
          <a:blip r:embed="rId1"/>
          <a:stretch/>
        </p:blipFill>
        <p:spPr>
          <a:xfrm>
            <a:off x="974880" y="2835360"/>
            <a:ext cx="81756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214200" y="1571400"/>
            <a:ext cx="8786880" cy="47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5f688b"/>
                </a:solidFill>
                <a:latin typeface="Georgia"/>
              </a:rPr>
              <a:t>1. </a:t>
            </a:r>
            <a:r>
              <a:rPr b="0" lang="en-MY" sz="3600" spc="-1" strike="noStrike">
                <a:solidFill>
                  <a:srgbClr val="5f688b"/>
                </a:solidFill>
                <a:latin typeface="Georgia"/>
              </a:rPr>
              <a:t>Complete all chapters (1 – 5)</a:t>
            </a:r>
            <a:br>
              <a:rPr sz="3600"/>
            </a:br>
            <a:br>
              <a:rPr sz="3600"/>
            </a:br>
            <a:r>
              <a:rPr b="0" lang="en-MY" sz="3600" spc="-1" strike="noStrike">
                <a:solidFill>
                  <a:srgbClr val="5f688b"/>
                </a:solidFill>
                <a:latin typeface="Georgia"/>
              </a:rPr>
              <a:t>2. Prepare for Presentation (20%)</a:t>
            </a:r>
            <a:br>
              <a:rPr sz="3600"/>
            </a:br>
            <a:br>
              <a:rPr sz="3600"/>
            </a:br>
            <a:r>
              <a:rPr b="0" lang="en-MY" sz="3600" spc="-1" strike="noStrike">
                <a:solidFill>
                  <a:srgbClr val="5f688b"/>
                </a:solidFill>
                <a:latin typeface="Georgia"/>
              </a:rPr>
              <a:t>3. Finalise report based on feedback during the presentation</a:t>
            </a:r>
            <a:br>
              <a:rPr sz="3600"/>
            </a:br>
            <a:br>
              <a:rPr sz="3600"/>
            </a:br>
            <a:r>
              <a:rPr b="0" lang="en-MY" sz="3600" spc="-1" strike="noStrike">
                <a:solidFill>
                  <a:srgbClr val="5f688b"/>
                </a:solidFill>
                <a:latin typeface="Georgia"/>
              </a:rPr>
              <a:t>4. Submit final report (30%)</a:t>
            </a:r>
            <a:br>
              <a:rPr sz="3600"/>
            </a:br>
            <a:endParaRPr b="0" lang="en-US" sz="3600" spc="-1" strike="noStrike">
              <a:solidFill>
                <a:srgbClr val="7b9899"/>
              </a:solidFill>
              <a:latin typeface="Georgia"/>
            </a:endParaRPr>
          </a:p>
        </p:txBody>
      </p:sp>
      <p:pic>
        <p:nvPicPr>
          <p:cNvPr id="1347" name="TextBox 3" descr=""/>
          <p:cNvPicPr/>
          <p:nvPr/>
        </p:nvPicPr>
        <p:blipFill>
          <a:blip r:embed="rId1"/>
          <a:stretch/>
        </p:blipFill>
        <p:spPr>
          <a:xfrm>
            <a:off x="-79200" y="115920"/>
            <a:ext cx="909000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hedule for Presentation</a:t>
            </a:r>
            <a:endParaRPr b="0" lang="en-US" sz="3300" spc="-1" strike="noStrike">
              <a:solidFill>
                <a:srgbClr val="7b9899"/>
              </a:solidFill>
              <a:latin typeface="Georgia"/>
            </a:endParaRPr>
          </a:p>
        </p:txBody>
      </p:sp>
      <p:sp>
        <p:nvSpPr>
          <p:cNvPr id="1349"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Arial"/>
              </a:rPr>
              <a:t>NAR CMLHS 2009</a:t>
            </a:r>
            <a:endParaRPr b="0" lang="en-US" sz="1200" spc="-1" strike="noStrike">
              <a:solidFill>
                <a:srgbClr val="000000"/>
              </a:solidFill>
              <a:latin typeface="Arial"/>
            </a:endParaRPr>
          </a:p>
        </p:txBody>
      </p:sp>
      <p:sp>
        <p:nvSpPr>
          <p:cNvPr id="13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d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285560" y="249984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66"/>
                </a:solidFill>
                <a:latin typeface="Tw Cen MT"/>
              </a:rPr>
              <a:t>The End</a:t>
            </a:r>
            <a:endParaRPr b="0" lang="en-US" sz="4400" spc="-1" strike="noStrike">
              <a:solidFill>
                <a:srgbClr val="775f55"/>
              </a:solidFill>
              <a:latin typeface="Tw Cen MT"/>
            </a:endParaRPr>
          </a:p>
        </p:txBody>
      </p:sp>
      <p:pic>
        <p:nvPicPr>
          <p:cNvPr id="1352" name="Picture 4" descr="C:\Users\Lenny\Pictures\magnif.glass.jpg"/>
          <p:cNvPicPr/>
          <p:nvPr/>
        </p:nvPicPr>
        <p:blipFill>
          <a:blip r:embed="rId1"/>
          <a:stretch/>
        </p:blipFill>
        <p:spPr>
          <a:xfrm>
            <a:off x="2571840" y="2357280"/>
            <a:ext cx="857160" cy="12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Analysis and Discussion</a:t>
            </a:r>
            <a:endParaRPr b="0" lang="en-US" sz="4300" spc="-1" strike="noStrike">
              <a:solidFill>
                <a:srgbClr val="572314"/>
              </a:solidFill>
              <a:latin typeface="Lucida Sans"/>
            </a:endParaRPr>
          </a:p>
        </p:txBody>
      </p:sp>
      <p:sp>
        <p:nvSpPr>
          <p:cNvPr id="1287" name=""/>
          <p:cNvSpPr txBox="1"/>
          <p:nvPr/>
        </p:nvSpPr>
        <p:spPr>
          <a:xfrm>
            <a:off x="1071360" y="2000160"/>
            <a:ext cx="8072280" cy="4052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iscussed in two separate categories:</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Results: presentation of data/findings</a:t>
            </a:r>
            <a:endParaRPr b="0" lang="en-US" sz="36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Discussion: interpretation of data/findings</a:t>
            </a:r>
            <a:endParaRPr b="0" lang="en-US" sz="3600" spc="-1" strike="noStrike">
              <a:solidFill>
                <a:srgbClr val="000000"/>
              </a:solidFill>
              <a:latin typeface="Book Antiqua"/>
            </a:endParaRPr>
          </a:p>
        </p:txBody>
      </p:sp>
      <p:pic>
        <p:nvPicPr>
          <p:cNvPr id="1288" name="Picture 2" descr="C:\Users\Lenny\Pictures\magnif.glass.jpg"/>
          <p:cNvPicPr/>
          <p:nvPr/>
        </p:nvPicPr>
        <p:blipFill>
          <a:blip r:embed="rId1"/>
          <a:stretch/>
        </p:blipFill>
        <p:spPr>
          <a:xfrm>
            <a:off x="785880" y="214200"/>
            <a:ext cx="809640" cy="1200240"/>
          </a:xfrm>
          <a:prstGeom prst="rect">
            <a:avLst/>
          </a:prstGeom>
          <a:ln w="0">
            <a:noFill/>
          </a:ln>
        </p:spPr>
      </p:pic>
      <p:sp>
        <p:nvSpPr>
          <p:cNvPr id="12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	</a:t>
            </a:r>
            <a:r>
              <a:rPr b="0" lang="en-US" sz="3200" spc="-1" strike="noStrike">
                <a:solidFill>
                  <a:srgbClr val="572314"/>
                </a:solidFill>
                <a:latin typeface="Lucida Sans"/>
              </a:rPr>
              <a:t>Writing style for data analysis</a:t>
            </a:r>
            <a:endParaRPr b="0" lang="en-US" sz="3200" spc="-1" strike="noStrike">
              <a:solidFill>
                <a:srgbClr val="572314"/>
              </a:solidFill>
              <a:latin typeface="Lucida Sans"/>
            </a:endParaRPr>
          </a:p>
        </p:txBody>
      </p:sp>
      <p:pic>
        <p:nvPicPr>
          <p:cNvPr id="1291" name="Content Placeholder 3" descr=""/>
          <p:cNvPicPr/>
          <p:nvPr/>
        </p:nvPicPr>
        <p:blipFill>
          <a:blip r:embed="rId1"/>
          <a:stretch/>
        </p:blipFill>
        <p:spPr>
          <a:xfrm>
            <a:off x="1420920" y="1695600"/>
            <a:ext cx="7527960" cy="4572000"/>
          </a:xfrm>
          <a:prstGeom prst="rect">
            <a:avLst/>
          </a:prstGeom>
          <a:ln w="0">
            <a:noFill/>
          </a:ln>
        </p:spPr>
      </p:pic>
      <p:pic>
        <p:nvPicPr>
          <p:cNvPr id="1292" name="Picture 4" descr="C:\Users\Lenny\Pictures\magnif.glass.jpg"/>
          <p:cNvPicPr/>
          <p:nvPr/>
        </p:nvPicPr>
        <p:blipFill>
          <a:blip r:embed="rId2"/>
          <a:stretch/>
        </p:blipFill>
        <p:spPr>
          <a:xfrm>
            <a:off x="1214280" y="142920"/>
            <a:ext cx="571680" cy="847800"/>
          </a:xfrm>
          <a:prstGeom prst="rect">
            <a:avLst/>
          </a:prstGeom>
          <a:ln w="0">
            <a:noFill/>
          </a:ln>
        </p:spPr>
      </p:pic>
      <p:sp>
        <p:nvSpPr>
          <p:cNvPr id="129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1071360" y="214200"/>
            <a:ext cx="80722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Lucida Sans"/>
              </a:rPr>
              <a:t>Sample illustrations for presenting data collected</a:t>
            </a:r>
            <a:endParaRPr b="0" lang="en-US" sz="2400" spc="-1" strike="noStrike">
              <a:solidFill>
                <a:srgbClr val="572314"/>
              </a:solidFill>
              <a:latin typeface="Lucida Sans"/>
            </a:endParaRPr>
          </a:p>
        </p:txBody>
      </p:sp>
      <p:pic>
        <p:nvPicPr>
          <p:cNvPr id="1295" name="Content Placeholder 7" descr=""/>
          <p:cNvPicPr/>
          <p:nvPr/>
        </p:nvPicPr>
        <p:blipFill>
          <a:blip r:embed="rId1"/>
          <a:stretch/>
        </p:blipFill>
        <p:spPr>
          <a:xfrm>
            <a:off x="1434960" y="1447920"/>
            <a:ext cx="3780000" cy="2195280"/>
          </a:xfrm>
          <a:prstGeom prst="rect">
            <a:avLst/>
          </a:prstGeom>
          <a:ln w="0">
            <a:noFill/>
          </a:ln>
        </p:spPr>
      </p:pic>
      <p:pic>
        <p:nvPicPr>
          <p:cNvPr id="1296" name="Chart 8" descr=""/>
          <p:cNvPicPr/>
          <p:nvPr/>
        </p:nvPicPr>
        <p:blipFill>
          <a:blip r:embed="rId2"/>
          <a:stretch/>
        </p:blipFill>
        <p:spPr>
          <a:xfrm>
            <a:off x="4143240" y="3643200"/>
            <a:ext cx="4191120" cy="2246400"/>
          </a:xfrm>
          <a:prstGeom prst="rect">
            <a:avLst/>
          </a:prstGeom>
          <a:ln w="0">
            <a:noFill/>
          </a:ln>
        </p:spPr>
      </p:pic>
      <p:sp>
        <p:nvSpPr>
          <p:cNvPr id="12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298" name="Picture 4" descr="C:\Users\Lenny\Pictures\magnif.glass.jpg"/>
          <p:cNvPicPr/>
          <p:nvPr/>
        </p:nvPicPr>
        <p:blipFill>
          <a:blip r:embed="rId3"/>
          <a:stretch/>
        </p:blipFill>
        <p:spPr>
          <a:xfrm>
            <a:off x="21420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Content Placeholder 3" descr=""/>
          <p:cNvPicPr/>
          <p:nvPr/>
        </p:nvPicPr>
        <p:blipFill>
          <a:blip r:embed="rId1"/>
          <a:stretch/>
        </p:blipFill>
        <p:spPr>
          <a:xfrm>
            <a:off x="1434960" y="571680"/>
            <a:ext cx="3994200" cy="2786040"/>
          </a:xfrm>
          <a:prstGeom prst="rect">
            <a:avLst/>
          </a:prstGeom>
          <a:ln w="0">
            <a:noFill/>
          </a:ln>
        </p:spPr>
      </p:pic>
      <p:pic>
        <p:nvPicPr>
          <p:cNvPr id="1300" name="Chart 4" descr=""/>
          <p:cNvPicPr/>
          <p:nvPr/>
        </p:nvPicPr>
        <p:blipFill>
          <a:blip r:embed="rId2"/>
          <a:stretch/>
        </p:blipFill>
        <p:spPr>
          <a:xfrm>
            <a:off x="4429080" y="3214800"/>
            <a:ext cx="4334040" cy="2889000"/>
          </a:xfrm>
          <a:prstGeom prst="rect">
            <a:avLst/>
          </a:prstGeom>
          <a:ln w="0">
            <a:noFill/>
          </a:ln>
        </p:spPr>
      </p:pic>
      <p:sp>
        <p:nvSpPr>
          <p:cNvPr id="13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2" name="Picture 4" descr="C:\Users\Lenny\Pictures\magnif.glass.jpg"/>
          <p:cNvPicPr/>
          <p:nvPr/>
        </p:nvPicPr>
        <p:blipFill>
          <a:blip r:embed="rId3"/>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1434960" y="1213920"/>
            <a:ext cx="7499520" cy="453420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writing a report, ensure that th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alysis of findings are reported and</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rpreted accurately. Us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rrect language</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pecific vocabulary and register</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0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5" name="Picture 4" descr="C:\Users\Lenny\Pictures\magnif.glass.jpg"/>
          <p:cNvPicPr/>
          <p:nvPr/>
        </p:nvPicPr>
        <p:blipFill>
          <a:blip r:embed="rId1"/>
          <a:stretch/>
        </p:blipFill>
        <p:spPr>
          <a:xfrm>
            <a:off x="1214280" y="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pic>
        <p:nvPicPr>
          <p:cNvPr id="1307" name="Picture 5" descr=""/>
          <p:cNvPicPr/>
          <p:nvPr/>
        </p:nvPicPr>
        <p:blipFill>
          <a:blip r:embed="rId1"/>
          <a:stretch/>
        </p:blipFill>
        <p:spPr>
          <a:xfrm>
            <a:off x="1122480" y="974880"/>
            <a:ext cx="7899120" cy="5333760"/>
          </a:xfrm>
          <a:prstGeom prst="rect">
            <a:avLst/>
          </a:prstGeom>
          <a:ln w="0">
            <a:noFill/>
          </a:ln>
        </p:spPr>
      </p:pic>
      <p:sp>
        <p:nvSpPr>
          <p:cNvPr id="13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9" name="Picture 4" descr="C:\Users\Lenny\Pictures\magnif.glass.jpg"/>
          <p:cNvPicPr/>
          <p:nvPr/>
        </p:nvPicPr>
        <p:blipFill>
          <a:blip r:embed="rId2"/>
          <a:stretch/>
        </p:blipFill>
        <p:spPr>
          <a:xfrm>
            <a:off x="142920" y="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sp>
        <p:nvSpPr>
          <p:cNvPr id="13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2" name="Picture 4" descr="C:\Users\Lenny\Pictures\magnif.glass.jpg"/>
          <p:cNvPicPr/>
          <p:nvPr/>
        </p:nvPicPr>
        <p:blipFill>
          <a:blip r:embed="rId1"/>
          <a:stretch/>
        </p:blipFill>
        <p:spPr>
          <a:xfrm>
            <a:off x="142920" y="0"/>
            <a:ext cx="571320" cy="847800"/>
          </a:xfrm>
          <a:prstGeom prst="rect">
            <a:avLst/>
          </a:prstGeom>
          <a:ln w="0">
            <a:noFill/>
          </a:ln>
        </p:spPr>
      </p:pic>
      <p:sp>
        <p:nvSpPr>
          <p:cNvPr id="1313" name="Rectangle 6"/>
          <p:cNvSpPr/>
          <p:nvPr/>
        </p:nvSpPr>
        <p:spPr>
          <a:xfrm>
            <a:off x="1000080" y="1000080"/>
            <a:ext cx="7858080" cy="558036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Book Antiqua"/>
              </a:rPr>
              <a:t>The graph illustrates the size of urban population in six cities in the United Kingdom. </a:t>
            </a:r>
            <a:r>
              <a:rPr b="0" lang="en-US" sz="2400" spc="-1" strike="noStrike">
                <a:solidFill>
                  <a:srgbClr val="ff0000"/>
                </a:solidFill>
                <a:latin typeface="Book Antiqua"/>
              </a:rPr>
              <a:t>According to the graph, London has the highest population whereas Liverpool has the lowest population. London embodies 6.8 millions people while Birmingham and Manchester embodies about 2.1 millions people each. 1.7 millions people reside in Leeds, and in Newcastle and Liverpool, there are about 1.5 million people. </a:t>
            </a:r>
            <a:r>
              <a:rPr b="0" lang="en-US" sz="2400" spc="-1" strike="noStrike">
                <a:solidFill>
                  <a:srgbClr val="00b050"/>
                </a:solidFill>
                <a:latin typeface="Book Antiqua"/>
              </a:rPr>
              <a:t>The graph shows that in London alone the population is similar to the total population of the other five cities. It can be concluded that its strategic location in Europe, standard of living and job opportunities are among the factors that have driven many people around the world to reside in Lond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1285560" y="1500120"/>
            <a:ext cx="7499160" cy="4748400"/>
          </a:xfrm>
          <a:prstGeom prst="rect">
            <a:avLst/>
          </a:prstGeom>
          <a:noFill/>
          <a:ln w="0">
            <a:noFill/>
          </a:ln>
        </p:spPr>
        <p:txBody>
          <a:bodyPr anchor="t">
            <a:normAutofit fontScale="97000"/>
          </a:bodyPr>
          <a:p>
            <a:pPr marL="353880" indent="-273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Book Antiqua"/>
              </a:rPr>
              <a:t>In the analysis, the first sentence explains </a:t>
            </a:r>
            <a:r>
              <a:rPr b="0" i="1" lang="en-US" sz="3200" spc="-1" strike="noStrike">
                <a:solidFill>
                  <a:srgbClr val="00b0f0"/>
                </a:solidFill>
                <a:latin typeface="Book Antiqua"/>
              </a:rPr>
              <a:t>what the graph shows or illustrates. </a:t>
            </a:r>
            <a:r>
              <a:rPr b="0" lang="en-US" sz="3200" spc="-1" strike="noStrike">
                <a:solidFill>
                  <a:srgbClr val="ff0000"/>
                </a:solidFill>
                <a:latin typeface="Book Antiqua"/>
              </a:rPr>
              <a:t>This is followed by </a:t>
            </a:r>
            <a:r>
              <a:rPr b="0" i="1" lang="en-US" sz="3200" spc="-1" strike="noStrike">
                <a:solidFill>
                  <a:srgbClr val="ff0000"/>
                </a:solidFill>
                <a:latin typeface="Book Antiqua"/>
              </a:rPr>
              <a:t>a general statement of the trend</a:t>
            </a:r>
            <a:r>
              <a:rPr b="0" lang="en-US" sz="3200" spc="-1" strike="noStrike">
                <a:solidFill>
                  <a:srgbClr val="ff0000"/>
                </a:solidFill>
                <a:latin typeface="Book Antiqua"/>
              </a:rPr>
              <a:t> observed regarding the population. This point is supported by the next few sentences which </a:t>
            </a:r>
            <a:r>
              <a:rPr b="0" i="1" lang="en-US" sz="3200" spc="-1" strike="noStrike">
                <a:solidFill>
                  <a:srgbClr val="ff0000"/>
                </a:solidFill>
                <a:latin typeface="Book Antiqua"/>
              </a:rPr>
              <a:t>provide the statistical support. </a:t>
            </a:r>
            <a:r>
              <a:rPr b="0" lang="en-US" sz="3200" spc="-1" strike="noStrike">
                <a:solidFill>
                  <a:srgbClr val="00b050"/>
                </a:solidFill>
                <a:latin typeface="Book Antiqua"/>
              </a:rPr>
              <a:t>The last part draws </a:t>
            </a:r>
            <a:r>
              <a:rPr b="0" i="1" lang="en-US" sz="3200" spc="-1" strike="noStrike">
                <a:solidFill>
                  <a:srgbClr val="00b050"/>
                </a:solidFill>
                <a:latin typeface="Book Antiqua"/>
              </a:rPr>
              <a:t>a conclusion based on the analysis.</a:t>
            </a:r>
            <a:endParaRPr b="0" lang="en-US" sz="3200" spc="-1" strike="noStrike">
              <a:solidFill>
                <a:srgbClr val="000000"/>
              </a:solidFill>
              <a:latin typeface="Book Antiqua"/>
            </a:endParaRPr>
          </a:p>
        </p:txBody>
      </p:sp>
      <p:sp>
        <p:nvSpPr>
          <p:cNvPr id="13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6" name="Picture 4" descr="C:\Users\Lenny\Pictures\magnif.glass.jpg"/>
          <p:cNvPicPr/>
          <p:nvPr/>
        </p:nvPicPr>
        <p:blipFill>
          <a:blip r:embed="rId1"/>
          <a:stretch/>
        </p:blipFill>
        <p:spPr>
          <a:xfrm>
            <a:off x="214200" y="214200"/>
            <a:ext cx="571680" cy="847800"/>
          </a:xfrm>
          <a:prstGeom prst="rect">
            <a:avLst/>
          </a:prstGeom>
          <a:ln w="0">
            <a:noFill/>
          </a:ln>
        </p:spPr>
      </p:pic>
      <p:sp>
        <p:nvSpPr>
          <p:cNvPr id="1317"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The 3 elements you must have:</a:t>
            </a:r>
            <a:endParaRPr b="0" lang="en-US" sz="3200" spc="-1" strike="noStrike">
              <a:solidFill>
                <a:srgbClr val="57231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06:56:11Z</dcterms:created>
  <dc:creator>Lenny</dc:creator>
  <dc:description/>
  <dc:language>en-US</dc:language>
  <cp:lastModifiedBy>242ump</cp:lastModifiedBy>
  <dcterms:modified xsi:type="dcterms:W3CDTF">2010-03-24T03:53:23Z</dcterms:modified>
  <cp:revision>41</cp:revision>
  <dc:subject/>
  <dc:title>Unit 3 Findings and Discussion</dc:title>
</cp:coreProperties>
</file>